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4941-53B7-44AF-9F61-E92DB2B6859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E74-F2DD-4B8E-98A0-0A507070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FA4-A47A-429D-93C8-795F4C72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ECC-BAED-479E-984B-06AB4F53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B16-C2DE-479F-B8D8-4D444BA5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95F-6836-48DE-89EA-58823807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E3C-83C1-4196-825C-4E4AF3B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34A-514D-4DF5-8553-0108CF9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29C-A258-4A4F-B290-88976F74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AFD-119A-48A0-9386-FA63B61E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C03-D6D4-43BF-9308-D32AC57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AC3-BD17-4481-B143-F094AA3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9ED-B809-43FE-B025-ADE2361D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E298-C135-4AF8-9AAA-81EEEF1CC44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EL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chitecture- vers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a TELOS general presentation- 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b TELOS general presentation-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a Aggregation processes -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b Aggregation processes -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 Core extension and administration- 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extension and administration-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use and LKMS construction and preparation-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use and LKMS construction and preparation-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S use and LKMA construction and preparation-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S use and LKMA construction and preparation-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A use and LKSP construction and administration-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A use and LKSP construction and administration-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a Actor services- 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b Actor services-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a Kernel operations-ini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b Kernel operations-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304920" y="4038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200" y="228600"/>
            <a:ext cx="8458200" cy="18288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343400" y="838080"/>
            <a:ext cx="39625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514600" y="838080"/>
            <a:ext cx="1600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7432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9718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2004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4956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7242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1814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9528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276720" y="304920"/>
            <a:ext cx="42670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8600" y="35812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ig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0920" y="838080"/>
            <a:ext cx="1065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495680" y="8380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991720" y="11430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8600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3733920" y="761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876920" y="609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2" name=""/>
          <p:cNvCxnSpPr>
            <a:stCxn id="1419" idx="2"/>
            <a:endCxn id="1433" idx="1"/>
          </p:cNvCxnSpPr>
          <p:nvPr/>
        </p:nvCxnSpPr>
        <p:spPr>
          <a:xfrm flipH="1">
            <a:off x="1084320" y="1905120"/>
            <a:ext cx="2230920" cy="12866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stCxn id="1425" idx="2"/>
            <a:endCxn id="1433" idx="2"/>
          </p:cNvCxnSpPr>
          <p:nvPr/>
        </p:nvCxnSpPr>
        <p:spPr>
          <a:xfrm flipV="1">
            <a:off x="495360" y="3351960"/>
            <a:ext cx="343440" cy="686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35" name=""/>
          <p:cNvSpPr/>
          <p:nvPr/>
        </p:nvSpPr>
        <p:spPr>
          <a:xfrm>
            <a:off x="7467480" y="1143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657600" y="121932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743200" y="1676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100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495680" y="16765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ved thin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362320" y="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81880" y="914400"/>
            <a:ext cx="4572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6248520" y="4038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S use and LKMA construction and preparation-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4" name=""/>
          <p:cNvCxnSpPr>
            <a:stCxn id="1445" idx="2"/>
            <a:endCxn id="1433" idx="7"/>
          </p:cNvCxnSpPr>
          <p:nvPr/>
        </p:nvCxnSpPr>
        <p:spPr>
          <a:xfrm>
            <a:off x="1485720" y="1905120"/>
            <a:ext cx="783000" cy="1286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446" name=""/>
          <p:cNvCxnSpPr/>
          <p:nvPr/>
        </p:nvCxnSpPr>
        <p:spPr>
          <a:xfrm rot="5400000">
            <a:off x="2932200" y="1180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7" name=""/>
          <p:cNvCxnSpPr/>
          <p:nvPr/>
        </p:nvCxnSpPr>
        <p:spPr>
          <a:xfrm rot="5400000">
            <a:off x="3160800" y="1180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8" name=""/>
          <p:cNvCxnSpPr/>
          <p:nvPr/>
        </p:nvCxnSpPr>
        <p:spPr>
          <a:xfrm rot="5400000">
            <a:off x="3389400" y="1180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9" name=""/>
          <p:cNvSpPr/>
          <p:nvPr/>
        </p:nvSpPr>
        <p:spPr>
          <a:xfrm>
            <a:off x="8381880" y="2209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8458200" y="2666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1" name=""/>
          <p:cNvCxnSpPr>
            <a:stCxn id="1450" idx="0"/>
            <a:endCxn id="1452" idx="0"/>
          </p:cNvCxnSpPr>
          <p:nvPr/>
        </p:nvCxnSpPr>
        <p:spPr>
          <a:xfrm flipH="1">
            <a:off x="8000280" y="2666880"/>
            <a:ext cx="648360" cy="1448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53" name=""/>
          <p:cNvSpPr/>
          <p:nvPr/>
        </p:nvSpPr>
        <p:spPr>
          <a:xfrm>
            <a:off x="685800" y="304920"/>
            <a:ext cx="175248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762120"/>
            <a:ext cx="30456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066680" y="762120"/>
            <a:ext cx="30492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762120"/>
            <a:ext cx="30492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676520" y="762120"/>
            <a:ext cx="30456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62120" y="380880"/>
            <a:ext cx="14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TELOS core libr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13372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62120" y="1676520"/>
            <a:ext cx="14475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mana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981080" y="838080"/>
            <a:ext cx="228600" cy="838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33520" y="4038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0866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3152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7724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5438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8153280" y="685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001000" y="114300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86600" y="1676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fat inst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9" name=""/>
          <p:cNvCxnSpPr/>
          <p:nvPr/>
        </p:nvCxnSpPr>
        <p:spPr>
          <a:xfrm rot="5400000">
            <a:off x="7275600" y="11055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0" name=""/>
          <p:cNvCxnSpPr/>
          <p:nvPr/>
        </p:nvCxnSpPr>
        <p:spPr>
          <a:xfrm rot="5400000">
            <a:off x="7504200" y="11055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1" name=""/>
          <p:cNvCxnSpPr/>
          <p:nvPr/>
        </p:nvCxnSpPr>
        <p:spPr>
          <a:xfrm rot="5400000">
            <a:off x="7732800" y="11055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2" name=""/>
          <p:cNvCxnSpPr>
            <a:stCxn id="1452" idx="7"/>
            <a:endCxn id="1468" idx="2"/>
          </p:cNvCxnSpPr>
          <p:nvPr/>
        </p:nvCxnSpPr>
        <p:spPr>
          <a:xfrm flipH="1" flipV="1">
            <a:off x="7657920" y="1904760"/>
            <a:ext cx="667440" cy="22658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473" name=""/>
          <p:cNvSpPr/>
          <p:nvPr/>
        </p:nvSpPr>
        <p:spPr>
          <a:xfrm>
            <a:off x="2743200" y="5181480"/>
            <a:ext cx="44956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2428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18148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95288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24280" y="480060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410080" y="563868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495680" y="617220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94360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17220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62940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40080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858000" y="55627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943600" y="617220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fat inst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7" name=""/>
          <p:cNvCxnSpPr/>
          <p:nvPr/>
        </p:nvCxnSpPr>
        <p:spPr>
          <a:xfrm rot="5400000">
            <a:off x="613260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8" name=""/>
          <p:cNvCxnSpPr/>
          <p:nvPr/>
        </p:nvCxnSpPr>
        <p:spPr>
          <a:xfrm rot="5400000">
            <a:off x="636120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9" name=""/>
          <p:cNvCxnSpPr/>
          <p:nvPr/>
        </p:nvCxnSpPr>
        <p:spPr>
          <a:xfrm rot="5400000">
            <a:off x="658980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0" name=""/>
          <p:cNvSpPr/>
          <p:nvPr/>
        </p:nvSpPr>
        <p:spPr>
          <a:xfrm>
            <a:off x="2971800" y="541008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200400" y="541008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657600" y="541008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429000" y="541008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886200" y="548640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971800" y="609588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6" name=""/>
          <p:cNvCxnSpPr/>
          <p:nvPr/>
        </p:nvCxnSpPr>
        <p:spPr>
          <a:xfrm rot="5400000">
            <a:off x="316080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7" name=""/>
          <p:cNvCxnSpPr/>
          <p:nvPr/>
        </p:nvCxnSpPr>
        <p:spPr>
          <a:xfrm rot="5400000">
            <a:off x="338940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8" name=""/>
          <p:cNvCxnSpPr/>
          <p:nvPr/>
        </p:nvCxnSpPr>
        <p:spPr>
          <a:xfrm rot="5400000">
            <a:off x="361800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9" name=""/>
          <p:cNvCxnSpPr>
            <a:stCxn id="1500" idx="5"/>
            <a:endCxn id="1480" idx="1"/>
          </p:cNvCxnSpPr>
          <p:nvPr/>
        </p:nvCxnSpPr>
        <p:spPr>
          <a:xfrm>
            <a:off x="1946160" y="4298760"/>
            <a:ext cx="2550240" cy="1987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501" name=""/>
          <p:cNvSpPr/>
          <p:nvPr/>
        </p:nvSpPr>
        <p:spPr>
          <a:xfrm>
            <a:off x="3581280" y="3962520"/>
            <a:ext cx="28195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65760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88620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34340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11480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572000" y="419112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657600" y="472428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orted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0552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33412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79132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56272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01992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105520" y="472428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orted heavy 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09" idx="0"/>
            <a:endCxn id="1508" idx="0"/>
          </p:cNvCxnSpPr>
          <p:nvPr/>
        </p:nvCxnSpPr>
        <p:spPr>
          <a:xfrm rot="5400000">
            <a:off x="5332320" y="4152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5" name=""/>
          <p:cNvCxnSpPr>
            <a:stCxn id="1511" idx="0"/>
            <a:endCxn id="1509" idx="0"/>
          </p:cNvCxnSpPr>
          <p:nvPr/>
        </p:nvCxnSpPr>
        <p:spPr>
          <a:xfrm rot="5400000">
            <a:off x="5560920" y="4152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6" name=""/>
          <p:cNvCxnSpPr>
            <a:stCxn id="1510" idx="0"/>
            <a:endCxn id="1511" idx="0"/>
          </p:cNvCxnSpPr>
          <p:nvPr/>
        </p:nvCxnSpPr>
        <p:spPr>
          <a:xfrm rot="5400000">
            <a:off x="5789520" y="4152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7" name=""/>
          <p:cNvCxnSpPr>
            <a:stCxn id="1500" idx="5"/>
            <a:endCxn id="1507" idx="1"/>
          </p:cNvCxnSpPr>
          <p:nvPr/>
        </p:nvCxnSpPr>
        <p:spPr>
          <a:xfrm>
            <a:off x="1946160" y="4298760"/>
            <a:ext cx="1712160" cy="5403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500" name=""/>
          <p:cNvSpPr/>
          <p:nvPr/>
        </p:nvSpPr>
        <p:spPr>
          <a:xfrm>
            <a:off x="1295280" y="4038480"/>
            <a:ext cx="7621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452" idx="5"/>
            <a:endCxn id="1513" idx="3"/>
          </p:cNvCxnSpPr>
          <p:nvPr/>
        </p:nvCxnSpPr>
        <p:spPr>
          <a:xfrm flipH="1">
            <a:off x="6248160" y="4439880"/>
            <a:ext cx="2077200" cy="399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519" name=""/>
          <p:cNvCxnSpPr>
            <a:stCxn id="1452" idx="5"/>
            <a:endCxn id="1486" idx="0"/>
          </p:cNvCxnSpPr>
          <p:nvPr/>
        </p:nvCxnSpPr>
        <p:spPr>
          <a:xfrm flipH="1">
            <a:off x="6514560" y="4439880"/>
            <a:ext cx="1810440" cy="1732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520" name=""/>
          <p:cNvCxnSpPr>
            <a:stCxn id="1507" idx="3"/>
            <a:endCxn id="1452" idx="2"/>
          </p:cNvCxnSpPr>
          <p:nvPr/>
        </p:nvCxnSpPr>
        <p:spPr>
          <a:xfrm flipV="1">
            <a:off x="4800600" y="4304880"/>
            <a:ext cx="2743920" cy="534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521" name=""/>
          <p:cNvCxnSpPr>
            <a:stCxn id="1480" idx="3"/>
            <a:endCxn id="1452" idx="2"/>
          </p:cNvCxnSpPr>
          <p:nvPr/>
        </p:nvCxnSpPr>
        <p:spPr>
          <a:xfrm flipV="1">
            <a:off x="5638680" y="4304880"/>
            <a:ext cx="1905840" cy="1982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522" name=""/>
          <p:cNvSpPr/>
          <p:nvPr/>
        </p:nvSpPr>
        <p:spPr>
          <a:xfrm>
            <a:off x="4038480" y="5257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038480" y="525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0102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53316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88390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7" name=""/>
          <p:cNvCxnSpPr>
            <a:stCxn id="1425" idx="2"/>
            <a:endCxn id="1500" idx="1"/>
          </p:cNvCxnSpPr>
          <p:nvPr/>
        </p:nvCxnSpPr>
        <p:spPr>
          <a:xfrm>
            <a:off x="495000" y="4038480"/>
            <a:ext cx="911880" cy="45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33" name=""/>
          <p:cNvSpPr/>
          <p:nvPr/>
        </p:nvSpPr>
        <p:spPr>
          <a:xfrm>
            <a:off x="838080" y="3124080"/>
            <a:ext cx="167652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LKMS or Co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compose or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8" name=""/>
          <p:cNvCxnSpPr>
            <a:stCxn id="1495" idx="1"/>
            <a:endCxn id="1433" idx="7"/>
          </p:cNvCxnSpPr>
          <p:nvPr/>
        </p:nvCxnSpPr>
        <p:spPr>
          <a:xfrm flipH="1" flipV="1">
            <a:off x="2268000" y="3190320"/>
            <a:ext cx="704160" cy="30200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529" name=""/>
          <p:cNvSpPr/>
          <p:nvPr/>
        </p:nvSpPr>
        <p:spPr>
          <a:xfrm>
            <a:off x="57913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0199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2485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7057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791320" y="1676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clared fat 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905120" y="609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581280" y="9907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924680" y="9144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943600" y="4038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781680" y="53341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09880" y="52578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495680" y="41148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334120" y="5486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71800" y="2209680"/>
            <a:ext cx="4038480" cy="1524240"/>
          </a:xfrm>
          <a:prstGeom prst="rect">
            <a:avLst/>
          </a:prstGeom>
          <a:solidFill>
            <a:srgbClr val="ff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48120" y="3276720"/>
            <a:ext cx="3809880" cy="380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048120" y="297180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048120" y="274320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refer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09880" y="297180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09880" y="274320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0" y="297180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572000" y="274320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334120" y="297180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4120" y="274320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8120" y="2514600"/>
            <a:ext cx="761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809880" y="25146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572000" y="25146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334120" y="2514600"/>
            <a:ext cx="761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095880" y="297180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095880" y="25146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048120" y="22860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91120" y="3429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 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095880" y="2743200"/>
            <a:ext cx="762120" cy="2286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200400" y="220968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Constructed LKMA thin fat or heav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705720" y="2286000"/>
            <a:ext cx="304560" cy="22860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00400" y="327672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809880" y="32767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572000" y="32767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334120" y="3276720"/>
            <a:ext cx="761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095880" y="327672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181480" y="289548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43800" y="4114800"/>
            <a:ext cx="91440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 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"/>
          <p:cNvCxnSpPr>
            <a:stCxn id="1500" idx="7"/>
            <a:endCxn id="1439" idx="2"/>
          </p:cNvCxnSpPr>
          <p:nvPr/>
        </p:nvCxnSpPr>
        <p:spPr>
          <a:xfrm flipV="1">
            <a:off x="1946160" y="1904760"/>
            <a:ext cx="3121920" cy="21787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endCxn id="1500" idx="6"/>
          </p:cNvCxnSpPr>
          <p:nvPr/>
        </p:nvCxnSpPr>
        <p:spPr>
          <a:xfrm flipH="1">
            <a:off x="2057040" y="2971440"/>
            <a:ext cx="883440" cy="12200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572" name=""/>
          <p:cNvCxnSpPr>
            <a:stCxn id="1439" idx="3"/>
            <a:endCxn id="1452" idx="2"/>
          </p:cNvCxnSpPr>
          <p:nvPr/>
        </p:nvCxnSpPr>
        <p:spPr>
          <a:xfrm>
            <a:off x="5638680" y="1790280"/>
            <a:ext cx="1905840" cy="2515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34" idx="2"/>
            <a:endCxn id="1452" idx="1"/>
          </p:cNvCxnSpPr>
          <p:nvPr/>
        </p:nvCxnSpPr>
        <p:spPr>
          <a:xfrm>
            <a:off x="6362280" y="1905120"/>
            <a:ext cx="1315080" cy="22658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4" name=""/>
          <p:cNvCxnSpPr>
            <a:stCxn id="1439" idx="1"/>
            <a:endCxn id="1433" idx="7"/>
          </p:cNvCxnSpPr>
          <p:nvPr/>
        </p:nvCxnSpPr>
        <p:spPr>
          <a:xfrm flipH="1">
            <a:off x="2267640" y="1790640"/>
            <a:ext cx="2228040" cy="1400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5" name=""/>
          <p:cNvSpPr/>
          <p:nvPr/>
        </p:nvSpPr>
        <p:spPr>
          <a:xfrm>
            <a:off x="838080" y="2133720"/>
            <a:ext cx="533520" cy="380880"/>
          </a:xfrm>
          <a:prstGeom prst="hexagon">
            <a:avLst>
              <a:gd name="adj" fmla="val 35019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chnolog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5" idx="2"/>
            <a:endCxn id="1577" idx="0"/>
          </p:cNvCxnSpPr>
          <p:nvPr/>
        </p:nvCxnSpPr>
        <p:spPr>
          <a:xfrm flipH="1">
            <a:off x="913680" y="2514240"/>
            <a:ext cx="191160" cy="305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609480" y="2819520"/>
            <a:ext cx="60984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7" idx="4"/>
            <a:endCxn id="1433" idx="1"/>
          </p:cNvCxnSpPr>
          <p:nvPr/>
        </p:nvCxnSpPr>
        <p:spPr>
          <a:xfrm>
            <a:off x="914400" y="3047760"/>
            <a:ext cx="1706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380880" y="27432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57200" y="228600"/>
            <a:ext cx="8458200" cy="18288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343400" y="838080"/>
            <a:ext cx="39625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514600" y="838080"/>
            <a:ext cx="1600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7432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9718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4290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200400" y="11430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42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1814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9528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276720" y="304920"/>
            <a:ext cx="42670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80880" y="3124080"/>
            <a:ext cx="1752840" cy="609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Use LKMS or Co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compose or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n(t), fat(f), heavy(h)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04920" y="22860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ig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590920" y="838080"/>
            <a:ext cx="1065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495680" y="83808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991720" y="11430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6000" y="6858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3733920" y="761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876920" y="609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0" name=""/>
          <p:cNvCxnSpPr>
            <a:stCxn id="1593" idx="2"/>
            <a:endCxn id="1592" idx="0"/>
          </p:cNvCxnSpPr>
          <p:nvPr/>
        </p:nvCxnSpPr>
        <p:spPr>
          <a:xfrm>
            <a:off x="571320" y="2743200"/>
            <a:ext cx="686520" cy="3816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601" name=""/>
          <p:cNvSpPr/>
          <p:nvPr/>
        </p:nvSpPr>
        <p:spPr>
          <a:xfrm>
            <a:off x="7467480" y="1143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657600" y="121932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743200" y="1676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10080" y="10666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495680" y="16765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ved thin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362320" y="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8381880" y="914400"/>
            <a:ext cx="4572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7010280" y="3733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S use and LKMA construction and preparation-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0" name=""/>
          <p:cNvCxnSpPr>
            <a:stCxn id="1611" idx="2"/>
            <a:endCxn id="1592" idx="7"/>
          </p:cNvCxnSpPr>
          <p:nvPr/>
        </p:nvCxnSpPr>
        <p:spPr>
          <a:xfrm>
            <a:off x="1486080" y="1904760"/>
            <a:ext cx="390960" cy="1308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612" name=""/>
          <p:cNvCxnSpPr/>
          <p:nvPr/>
        </p:nvCxnSpPr>
        <p:spPr>
          <a:xfrm rot="5400000">
            <a:off x="2932200" y="1180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3" name=""/>
          <p:cNvCxnSpPr/>
          <p:nvPr/>
        </p:nvCxnSpPr>
        <p:spPr>
          <a:xfrm rot="5400000">
            <a:off x="3160800" y="1180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4" name=""/>
          <p:cNvCxnSpPr/>
          <p:nvPr/>
        </p:nvCxnSpPr>
        <p:spPr>
          <a:xfrm rot="5400000">
            <a:off x="3389400" y="1180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5" name=""/>
          <p:cNvSpPr/>
          <p:nvPr/>
        </p:nvSpPr>
        <p:spPr>
          <a:xfrm>
            <a:off x="8381880" y="2209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458200" y="2666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162920" y="2438280"/>
            <a:ext cx="91440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8" name=""/>
          <p:cNvCxnSpPr>
            <a:stCxn id="1616" idx="0"/>
            <a:endCxn id="1617" idx="6"/>
          </p:cNvCxnSpPr>
          <p:nvPr/>
        </p:nvCxnSpPr>
        <p:spPr>
          <a:xfrm flipH="1" flipV="1">
            <a:off x="8076600" y="2628360"/>
            <a:ext cx="572040" cy="38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619" name=""/>
          <p:cNvSpPr/>
          <p:nvPr/>
        </p:nvSpPr>
        <p:spPr>
          <a:xfrm>
            <a:off x="685800" y="304920"/>
            <a:ext cx="167652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62120" y="762120"/>
            <a:ext cx="30456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066680" y="762120"/>
            <a:ext cx="30492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371600" y="762120"/>
            <a:ext cx="30492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676520" y="762120"/>
            <a:ext cx="304560" cy="9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2120" y="380880"/>
            <a:ext cx="14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TELOS core libr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213372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62120" y="1676520"/>
            <a:ext cx="14475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mana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981080" y="838080"/>
            <a:ext cx="228600" cy="838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523880" y="4876920"/>
            <a:ext cx="1371600" cy="68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Index seman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 add K Refer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 add K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 K pa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"/>
          <p:cNvCxnSpPr>
            <a:stCxn id="1592" idx="4"/>
            <a:endCxn id="1627" idx="0"/>
          </p:cNvCxnSpPr>
          <p:nvPr/>
        </p:nvCxnSpPr>
        <p:spPr>
          <a:xfrm>
            <a:off x="1257120" y="3733560"/>
            <a:ext cx="952920" cy="11437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29" name=""/>
          <p:cNvCxnSpPr>
            <a:stCxn id="1592" idx="4"/>
            <a:endCxn id="1630" idx="0"/>
          </p:cNvCxnSpPr>
          <p:nvPr/>
        </p:nvCxnSpPr>
        <p:spPr>
          <a:xfrm flipH="1">
            <a:off x="761760" y="3733560"/>
            <a:ext cx="496080" cy="14482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631" name=""/>
          <p:cNvSpPr/>
          <p:nvPr/>
        </p:nvSpPr>
        <p:spPr>
          <a:xfrm>
            <a:off x="7162920" y="4343400"/>
            <a:ext cx="1066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 concret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162920" y="4038480"/>
            <a:ext cx="9144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parameter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3" name=""/>
          <p:cNvCxnSpPr>
            <a:stCxn id="1617" idx="5"/>
            <a:endCxn id="1632" idx="7"/>
          </p:cNvCxnSpPr>
          <p:nvPr/>
        </p:nvCxnSpPr>
        <p:spPr>
          <a:xfrm>
            <a:off x="7943400" y="2763720"/>
            <a:ext cx="1080" cy="13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4" name=""/>
          <p:cNvCxnSpPr>
            <a:stCxn id="1617" idx="5"/>
            <a:endCxn id="1631" idx="7"/>
          </p:cNvCxnSpPr>
          <p:nvPr/>
        </p:nvCxnSpPr>
        <p:spPr>
          <a:xfrm>
            <a:off x="7943760" y="2763360"/>
            <a:ext cx="131040" cy="16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5" name=""/>
          <p:cNvSpPr/>
          <p:nvPr/>
        </p:nvSpPr>
        <p:spPr>
          <a:xfrm flipV="1">
            <a:off x="533520" y="30481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0866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3152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7724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54380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8153280" y="685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001000" y="114300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086600" y="1676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fat inst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3" name=""/>
          <p:cNvCxnSpPr/>
          <p:nvPr/>
        </p:nvCxnSpPr>
        <p:spPr>
          <a:xfrm rot="5400000">
            <a:off x="7275600" y="11055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4" name=""/>
          <p:cNvCxnSpPr/>
          <p:nvPr/>
        </p:nvCxnSpPr>
        <p:spPr>
          <a:xfrm rot="5400000">
            <a:off x="7504200" y="11055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5" name=""/>
          <p:cNvCxnSpPr/>
          <p:nvPr/>
        </p:nvCxnSpPr>
        <p:spPr>
          <a:xfrm rot="5400000">
            <a:off x="7732800" y="11055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6" name=""/>
          <p:cNvSpPr/>
          <p:nvPr/>
        </p:nvSpPr>
        <p:spPr>
          <a:xfrm>
            <a:off x="152280" y="4495680"/>
            <a:ext cx="762120" cy="3398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recei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7" name=""/>
          <p:cNvCxnSpPr>
            <a:stCxn id="1592" idx="4"/>
            <a:endCxn id="1646" idx="0"/>
          </p:cNvCxnSpPr>
          <p:nvPr/>
        </p:nvCxnSpPr>
        <p:spPr>
          <a:xfrm flipH="1">
            <a:off x="532800" y="3733920"/>
            <a:ext cx="724680" cy="7624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648" name=""/>
          <p:cNvSpPr/>
          <p:nvPr/>
        </p:nvSpPr>
        <p:spPr>
          <a:xfrm>
            <a:off x="152280" y="3809880"/>
            <a:ext cx="91440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make 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produc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"/>
          <p:cNvCxnSpPr>
            <a:stCxn id="1592" idx="4"/>
            <a:endCxn id="1648" idx="0"/>
          </p:cNvCxnSpPr>
          <p:nvPr/>
        </p:nvCxnSpPr>
        <p:spPr>
          <a:xfrm flipH="1">
            <a:off x="609480" y="3733560"/>
            <a:ext cx="648360" cy="7668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650" name=""/>
          <p:cNvSpPr/>
          <p:nvPr/>
        </p:nvSpPr>
        <p:spPr>
          <a:xfrm>
            <a:off x="2971800" y="2209680"/>
            <a:ext cx="4038480" cy="1524240"/>
          </a:xfrm>
          <a:prstGeom prst="rect">
            <a:avLst/>
          </a:prstGeom>
          <a:solidFill>
            <a:srgbClr val="ffcc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048120" y="3276720"/>
            <a:ext cx="3809880" cy="380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048120" y="297180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048120" y="274320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refer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809880" y="297180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809880" y="274320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572000" y="297180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572000" y="274320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334120" y="297180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334120" y="274320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048120" y="2514600"/>
            <a:ext cx="761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09880" y="25146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72000" y="25146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2514600"/>
            <a:ext cx="7617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95880" y="297180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95880" y="251460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048120" y="22860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191120" y="3429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 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095880" y="2743200"/>
            <a:ext cx="762120" cy="2286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220968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Constructed LKMA thin fat or heav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705720" y="2286000"/>
            <a:ext cx="304560" cy="22860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696080" y="4800600"/>
            <a:ext cx="106704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act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71" idx="7"/>
            <a:endCxn id="1642" idx="2"/>
          </p:cNvCxnSpPr>
          <p:nvPr/>
        </p:nvCxnSpPr>
        <p:spPr>
          <a:xfrm flipH="1" flipV="1">
            <a:off x="7657560" y="1904760"/>
            <a:ext cx="950040" cy="2929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673" name=""/>
          <p:cNvCxnSpPr>
            <a:stCxn id="1617" idx="5"/>
            <a:endCxn id="1671" idx="0"/>
          </p:cNvCxnSpPr>
          <p:nvPr/>
        </p:nvCxnSpPr>
        <p:spPr>
          <a:xfrm>
            <a:off x="7943760" y="2763720"/>
            <a:ext cx="286560" cy="203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4" name=""/>
          <p:cNvCxnSpPr>
            <a:stCxn id="1627" idx="7"/>
            <a:endCxn id="1653" idx="2"/>
          </p:cNvCxnSpPr>
          <p:nvPr/>
        </p:nvCxnSpPr>
        <p:spPr>
          <a:xfrm flipV="1">
            <a:off x="2693880" y="2990520"/>
            <a:ext cx="735840" cy="1986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675" name=""/>
          <p:cNvCxnSpPr>
            <a:stCxn id="1627" idx="7"/>
            <a:endCxn id="1666" idx="2"/>
          </p:cNvCxnSpPr>
          <p:nvPr/>
        </p:nvCxnSpPr>
        <p:spPr>
          <a:xfrm flipV="1">
            <a:off x="2693880" y="2513880"/>
            <a:ext cx="812160" cy="24627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76" name=""/>
          <p:cNvSpPr/>
          <p:nvPr/>
        </p:nvSpPr>
        <p:spPr>
          <a:xfrm>
            <a:off x="4343400" y="5257800"/>
            <a:ext cx="44956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0958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3244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7816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5530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486400" y="480060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10280" y="571500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095880" y="62485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5438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7724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82296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0010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84582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543800" y="6248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thin insta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0" name=""/>
          <p:cNvCxnSpPr/>
          <p:nvPr/>
        </p:nvCxnSpPr>
        <p:spPr>
          <a:xfrm rot="5400000">
            <a:off x="7732800" y="55242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1" name=""/>
          <p:cNvCxnSpPr/>
          <p:nvPr/>
        </p:nvCxnSpPr>
        <p:spPr>
          <a:xfrm rot="5400000">
            <a:off x="7961400" y="55242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2" name=""/>
          <p:cNvCxnSpPr/>
          <p:nvPr/>
        </p:nvCxnSpPr>
        <p:spPr>
          <a:xfrm rot="5400000">
            <a:off x="8190000" y="55242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3" name=""/>
          <p:cNvSpPr/>
          <p:nvPr/>
        </p:nvSpPr>
        <p:spPr>
          <a:xfrm>
            <a:off x="4572000" y="54864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800600" y="54864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257800" y="54864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029200" y="54864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486400" y="556272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572000" y="617220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9" name=""/>
          <p:cNvCxnSpPr/>
          <p:nvPr/>
        </p:nvCxnSpPr>
        <p:spPr>
          <a:xfrm rot="5400000">
            <a:off x="4761000" y="55242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0" name=""/>
          <p:cNvCxnSpPr/>
          <p:nvPr/>
        </p:nvCxnSpPr>
        <p:spPr>
          <a:xfrm rot="5400000">
            <a:off x="4989600" y="55242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1" name=""/>
          <p:cNvCxnSpPr/>
          <p:nvPr/>
        </p:nvCxnSpPr>
        <p:spPr>
          <a:xfrm rot="5400000">
            <a:off x="5218200" y="55242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2" name=""/>
          <p:cNvCxnSpPr>
            <a:stCxn id="1592" idx="4"/>
            <a:endCxn id="1703" idx="2"/>
          </p:cNvCxnSpPr>
          <p:nvPr/>
        </p:nvCxnSpPr>
        <p:spPr>
          <a:xfrm>
            <a:off x="1257480" y="3733560"/>
            <a:ext cx="8769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04" name=""/>
          <p:cNvCxnSpPr>
            <a:stCxn id="1703" idx="6"/>
            <a:endCxn id="1683" idx="1"/>
          </p:cNvCxnSpPr>
          <p:nvPr/>
        </p:nvCxnSpPr>
        <p:spPr>
          <a:xfrm>
            <a:off x="2742840" y="3733920"/>
            <a:ext cx="3353400" cy="2629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05" name=""/>
          <p:cNvSpPr/>
          <p:nvPr/>
        </p:nvSpPr>
        <p:spPr>
          <a:xfrm>
            <a:off x="4343400" y="3962520"/>
            <a:ext cx="28195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832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10552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876920" y="4114800"/>
            <a:ext cx="2286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334120" y="419112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72428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orted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86728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09588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55308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32448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781680" y="4267080"/>
            <a:ext cx="228600" cy="60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867280" y="472428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orted heavy 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8" name=""/>
          <p:cNvCxnSpPr>
            <a:stCxn id="1713" idx="0"/>
            <a:endCxn id="1712" idx="0"/>
          </p:cNvCxnSpPr>
          <p:nvPr/>
        </p:nvCxnSpPr>
        <p:spPr>
          <a:xfrm rot="5400000">
            <a:off x="6094440" y="4152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9" name=""/>
          <p:cNvCxnSpPr>
            <a:stCxn id="1715" idx="0"/>
            <a:endCxn id="1713" idx="0"/>
          </p:cNvCxnSpPr>
          <p:nvPr/>
        </p:nvCxnSpPr>
        <p:spPr>
          <a:xfrm rot="5400000">
            <a:off x="6323040" y="4152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0" name=""/>
          <p:cNvCxnSpPr>
            <a:stCxn id="1714" idx="0"/>
            <a:endCxn id="1715" idx="0"/>
          </p:cNvCxnSpPr>
          <p:nvPr/>
        </p:nvCxnSpPr>
        <p:spPr>
          <a:xfrm rot="5400000">
            <a:off x="6551640" y="4152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1" name=""/>
          <p:cNvCxnSpPr>
            <a:stCxn id="1703" idx="6"/>
            <a:endCxn id="1605" idx="2"/>
          </p:cNvCxnSpPr>
          <p:nvPr/>
        </p:nvCxnSpPr>
        <p:spPr>
          <a:xfrm flipV="1">
            <a:off x="2743200" y="1904760"/>
            <a:ext cx="2324880" cy="18295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03" name=""/>
          <p:cNvSpPr/>
          <p:nvPr/>
        </p:nvSpPr>
        <p:spPr>
          <a:xfrm>
            <a:off x="2133720" y="3505320"/>
            <a:ext cx="60948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s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sp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2" name=""/>
          <p:cNvCxnSpPr>
            <a:stCxn id="1671" idx="2"/>
            <a:endCxn id="1717" idx="3"/>
          </p:cNvCxnSpPr>
          <p:nvPr/>
        </p:nvCxnSpPr>
        <p:spPr>
          <a:xfrm flipH="1" flipV="1">
            <a:off x="7009560" y="4838760"/>
            <a:ext cx="686520" cy="76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23" name=""/>
          <p:cNvCxnSpPr>
            <a:stCxn id="1671" idx="5"/>
            <a:endCxn id="1689" idx="0"/>
          </p:cNvCxnSpPr>
          <p:nvPr/>
        </p:nvCxnSpPr>
        <p:spPr>
          <a:xfrm flipH="1">
            <a:off x="8114760" y="4995720"/>
            <a:ext cx="492840" cy="1253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24" name=""/>
          <p:cNvSpPr/>
          <p:nvPr/>
        </p:nvSpPr>
        <p:spPr>
          <a:xfrm>
            <a:off x="7086600" y="3733920"/>
            <a:ext cx="83808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instantia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5" name=""/>
          <p:cNvCxnSpPr>
            <a:stCxn id="1617" idx="5"/>
            <a:endCxn id="1724" idx="7"/>
          </p:cNvCxnSpPr>
          <p:nvPr/>
        </p:nvCxnSpPr>
        <p:spPr>
          <a:xfrm flipH="1">
            <a:off x="7802280" y="2763360"/>
            <a:ext cx="1418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6" name=""/>
          <p:cNvSpPr/>
          <p:nvPr/>
        </p:nvSpPr>
        <p:spPr>
          <a:xfrm>
            <a:off x="7162920" y="3276720"/>
            <a:ext cx="6858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 op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7" name=""/>
          <p:cNvCxnSpPr>
            <a:stCxn id="1617" idx="5"/>
            <a:endCxn id="1726" idx="7"/>
          </p:cNvCxnSpPr>
          <p:nvPr/>
        </p:nvCxnSpPr>
        <p:spPr>
          <a:xfrm flipH="1">
            <a:off x="7748280" y="2763360"/>
            <a:ext cx="19584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8" name=""/>
          <p:cNvCxnSpPr>
            <a:stCxn id="1605" idx="3"/>
            <a:endCxn id="1726" idx="1"/>
          </p:cNvCxnSpPr>
          <p:nvPr/>
        </p:nvCxnSpPr>
        <p:spPr>
          <a:xfrm>
            <a:off x="5638320" y="1790640"/>
            <a:ext cx="1624680" cy="1519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29" name=""/>
          <p:cNvCxnSpPr>
            <a:stCxn id="1711" idx="3"/>
            <a:endCxn id="1726" idx="3"/>
          </p:cNvCxnSpPr>
          <p:nvPr/>
        </p:nvCxnSpPr>
        <p:spPr>
          <a:xfrm flipV="1">
            <a:off x="5562720" y="3471120"/>
            <a:ext cx="1700640" cy="13676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30" name=""/>
          <p:cNvCxnSpPr>
            <a:stCxn id="1683" idx="3"/>
            <a:endCxn id="1726" idx="3"/>
          </p:cNvCxnSpPr>
          <p:nvPr/>
        </p:nvCxnSpPr>
        <p:spPr>
          <a:xfrm flipV="1">
            <a:off x="7238880" y="3471480"/>
            <a:ext cx="24480" cy="2891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31" name=""/>
          <p:cNvSpPr/>
          <p:nvPr/>
        </p:nvSpPr>
        <p:spPr>
          <a:xfrm>
            <a:off x="5638680" y="5334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63868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86104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53316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8390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6" name=""/>
          <p:cNvCxnSpPr>
            <a:stCxn id="1605" idx="2"/>
            <a:endCxn id="1737" idx="6"/>
          </p:cNvCxnSpPr>
          <p:nvPr/>
        </p:nvCxnSpPr>
        <p:spPr>
          <a:xfrm flipH="1">
            <a:off x="2742840" y="1905120"/>
            <a:ext cx="2324880" cy="12578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38" name=""/>
          <p:cNvCxnSpPr>
            <a:stCxn id="1711" idx="1"/>
            <a:endCxn id="1737" idx="6"/>
          </p:cNvCxnSpPr>
          <p:nvPr/>
        </p:nvCxnSpPr>
        <p:spPr>
          <a:xfrm flipH="1" flipV="1">
            <a:off x="2742480" y="3161520"/>
            <a:ext cx="1677240" cy="16772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39" name=""/>
          <p:cNvCxnSpPr>
            <a:stCxn id="1593" idx="2"/>
            <a:endCxn id="1740" idx="3"/>
          </p:cNvCxnSpPr>
          <p:nvPr/>
        </p:nvCxnSpPr>
        <p:spPr>
          <a:xfrm flipV="1">
            <a:off x="571320" y="2633400"/>
            <a:ext cx="454680" cy="110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41" name=""/>
          <p:cNvCxnSpPr>
            <a:stCxn id="1740" idx="5"/>
            <a:endCxn id="1737" idx="0"/>
          </p:cNvCxnSpPr>
          <p:nvPr/>
        </p:nvCxnSpPr>
        <p:spPr>
          <a:xfrm>
            <a:off x="1565280" y="2633400"/>
            <a:ext cx="8359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2" name=""/>
          <p:cNvCxnSpPr>
            <a:stCxn id="1740" idx="5"/>
            <a:endCxn id="1592" idx="0"/>
          </p:cNvCxnSpPr>
          <p:nvPr/>
        </p:nvCxnSpPr>
        <p:spPr>
          <a:xfrm flipH="1">
            <a:off x="1256760" y="2633760"/>
            <a:ext cx="30852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3" name=""/>
          <p:cNvSpPr/>
          <p:nvPr/>
        </p:nvSpPr>
        <p:spPr>
          <a:xfrm>
            <a:off x="57913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199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4771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2485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705720" y="1066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791320" y="167652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spended 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229600" y="3352680"/>
            <a:ext cx="6858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 s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0" name=""/>
          <p:cNvCxnSpPr>
            <a:stCxn id="1749" idx="2"/>
            <a:endCxn id="1748" idx="2"/>
          </p:cNvCxnSpPr>
          <p:nvPr/>
        </p:nvCxnSpPr>
        <p:spPr>
          <a:xfrm flipH="1" flipV="1">
            <a:off x="6362280" y="1904400"/>
            <a:ext cx="1867680" cy="1562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51" name=""/>
          <p:cNvCxnSpPr>
            <a:stCxn id="1617" idx="5"/>
            <a:endCxn id="1749" idx="1"/>
          </p:cNvCxnSpPr>
          <p:nvPr/>
        </p:nvCxnSpPr>
        <p:spPr>
          <a:xfrm>
            <a:off x="7943760" y="2763360"/>
            <a:ext cx="386640" cy="62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2" name=""/>
          <p:cNvSpPr/>
          <p:nvPr/>
        </p:nvSpPr>
        <p:spPr>
          <a:xfrm>
            <a:off x="8229600" y="3809880"/>
            <a:ext cx="6858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3" name=""/>
          <p:cNvCxnSpPr>
            <a:stCxn id="1748" idx="2"/>
            <a:endCxn id="1752" idx="2"/>
          </p:cNvCxnSpPr>
          <p:nvPr/>
        </p:nvCxnSpPr>
        <p:spPr>
          <a:xfrm>
            <a:off x="6362640" y="1904760"/>
            <a:ext cx="1867680" cy="20199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54" name=""/>
          <p:cNvSpPr/>
          <p:nvPr/>
        </p:nvSpPr>
        <p:spPr>
          <a:xfrm>
            <a:off x="6705720" y="403848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934320" y="5486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257800" y="4038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410080" y="53341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8381880" y="54100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924680" y="9144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581280" y="9907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905120" y="609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600200" y="5715000"/>
            <a:ext cx="114300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Declare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 add 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 add R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 R pa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3" name=""/>
          <p:cNvCxnSpPr>
            <a:stCxn id="1592" idx="4"/>
            <a:endCxn id="1762" idx="0"/>
          </p:cNvCxnSpPr>
          <p:nvPr/>
        </p:nvCxnSpPr>
        <p:spPr>
          <a:xfrm>
            <a:off x="1257480" y="3733560"/>
            <a:ext cx="915120" cy="1981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64" name=""/>
          <p:cNvSpPr/>
          <p:nvPr/>
        </p:nvSpPr>
        <p:spPr>
          <a:xfrm>
            <a:off x="2971800" y="5105520"/>
            <a:ext cx="1295280" cy="761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decla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 add S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 add S 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 S pa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5" name=""/>
          <p:cNvCxnSpPr>
            <a:stCxn id="1592" idx="4"/>
            <a:endCxn id="1764" idx="1"/>
          </p:cNvCxnSpPr>
          <p:nvPr/>
        </p:nvCxnSpPr>
        <p:spPr>
          <a:xfrm>
            <a:off x="1257120" y="3733920"/>
            <a:ext cx="1904040" cy="14832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66" name=""/>
          <p:cNvSpPr/>
          <p:nvPr/>
        </p:nvSpPr>
        <p:spPr>
          <a:xfrm>
            <a:off x="2971800" y="5943600"/>
            <a:ext cx="121932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Declar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 add C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 add C 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 C pa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7" name=""/>
          <p:cNvCxnSpPr>
            <a:stCxn id="1592" idx="4"/>
            <a:endCxn id="1766" idx="1"/>
          </p:cNvCxnSpPr>
          <p:nvPr/>
        </p:nvCxnSpPr>
        <p:spPr>
          <a:xfrm>
            <a:off x="1257480" y="3733560"/>
            <a:ext cx="1892880" cy="2321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68" name=""/>
          <p:cNvCxnSpPr>
            <a:stCxn id="1693" idx="1"/>
            <a:endCxn id="1592" idx="7"/>
          </p:cNvCxnSpPr>
          <p:nvPr/>
        </p:nvCxnSpPr>
        <p:spPr>
          <a:xfrm flipH="1" flipV="1">
            <a:off x="1875960" y="3212280"/>
            <a:ext cx="2696400" cy="26550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69" name=""/>
          <p:cNvCxnSpPr>
            <a:stCxn id="1586" idx="2"/>
            <a:endCxn id="1592" idx="7"/>
          </p:cNvCxnSpPr>
          <p:nvPr/>
        </p:nvCxnSpPr>
        <p:spPr>
          <a:xfrm flipH="1">
            <a:off x="1875960" y="1904760"/>
            <a:ext cx="1439280" cy="1308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37" name=""/>
          <p:cNvSpPr/>
          <p:nvPr/>
        </p:nvSpPr>
        <p:spPr>
          <a:xfrm>
            <a:off x="2057400" y="2971800"/>
            <a:ext cx="68580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14400" y="2438280"/>
            <a:ext cx="76212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 mod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81080" y="4114800"/>
            <a:ext cx="68580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p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1" name=""/>
          <p:cNvCxnSpPr>
            <a:stCxn id="1592" idx="4"/>
            <a:endCxn id="1770" idx="2"/>
          </p:cNvCxnSpPr>
          <p:nvPr/>
        </p:nvCxnSpPr>
        <p:spPr>
          <a:xfrm>
            <a:off x="1257480" y="3733920"/>
            <a:ext cx="724320" cy="49608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72" name=""/>
          <p:cNvSpPr/>
          <p:nvPr/>
        </p:nvSpPr>
        <p:spPr>
          <a:xfrm>
            <a:off x="3200400" y="3276720"/>
            <a:ext cx="6094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09880" y="3276720"/>
            <a:ext cx="76212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572000" y="3276720"/>
            <a:ext cx="76212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334120" y="3276720"/>
            <a:ext cx="7617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095880" y="3276720"/>
            <a:ext cx="60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181480" y="289548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8" name=""/>
          <p:cNvCxnSpPr>
            <a:stCxn id="1762" idx="7"/>
            <a:endCxn id="1654" idx="0"/>
          </p:cNvCxnSpPr>
          <p:nvPr/>
        </p:nvCxnSpPr>
        <p:spPr>
          <a:xfrm flipV="1">
            <a:off x="2576160" y="2952360"/>
            <a:ext cx="1615320" cy="28742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79" name=""/>
          <p:cNvCxnSpPr>
            <a:stCxn id="1630" idx="7"/>
            <a:endCxn id="1656" idx="0"/>
          </p:cNvCxnSpPr>
          <p:nvPr/>
        </p:nvCxnSpPr>
        <p:spPr>
          <a:xfrm flipV="1">
            <a:off x="1085760" y="2952360"/>
            <a:ext cx="3867840" cy="23630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0" name=""/>
          <p:cNvCxnSpPr>
            <a:stCxn id="1762" idx="7"/>
            <a:endCxn id="1661" idx="2"/>
          </p:cNvCxnSpPr>
          <p:nvPr/>
        </p:nvCxnSpPr>
        <p:spPr>
          <a:xfrm flipV="1">
            <a:off x="2576160" y="2742840"/>
            <a:ext cx="1615320" cy="30837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1" name=""/>
          <p:cNvCxnSpPr>
            <a:stCxn id="1630" idx="7"/>
            <a:endCxn id="1662" idx="0"/>
          </p:cNvCxnSpPr>
          <p:nvPr/>
        </p:nvCxnSpPr>
        <p:spPr>
          <a:xfrm flipV="1">
            <a:off x="1085760" y="2514240"/>
            <a:ext cx="3867840" cy="2800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2" name=""/>
          <p:cNvCxnSpPr>
            <a:stCxn id="1762" idx="7"/>
            <a:endCxn id="1661" idx="0"/>
          </p:cNvCxnSpPr>
          <p:nvPr/>
        </p:nvCxnSpPr>
        <p:spPr>
          <a:xfrm flipV="1">
            <a:off x="2576160" y="2513880"/>
            <a:ext cx="1615320" cy="3312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3" name=""/>
          <p:cNvCxnSpPr>
            <a:stCxn id="1627" idx="7"/>
            <a:endCxn id="1660" idx="2"/>
          </p:cNvCxnSpPr>
          <p:nvPr/>
        </p:nvCxnSpPr>
        <p:spPr>
          <a:xfrm flipV="1">
            <a:off x="2693880" y="2742840"/>
            <a:ext cx="735840" cy="223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4" name=""/>
          <p:cNvCxnSpPr>
            <a:stCxn id="1703" idx="6"/>
            <a:endCxn id="1711" idx="1"/>
          </p:cNvCxnSpPr>
          <p:nvPr/>
        </p:nvCxnSpPr>
        <p:spPr>
          <a:xfrm>
            <a:off x="2742840" y="3733560"/>
            <a:ext cx="1677240" cy="11055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5" name=""/>
          <p:cNvCxnSpPr>
            <a:stCxn id="1764" idx="7"/>
            <a:endCxn id="1663" idx="2"/>
          </p:cNvCxnSpPr>
          <p:nvPr/>
        </p:nvCxnSpPr>
        <p:spPr>
          <a:xfrm flipV="1">
            <a:off x="4078440" y="2742840"/>
            <a:ext cx="1637280" cy="2473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6" name=""/>
          <p:cNvCxnSpPr>
            <a:stCxn id="1766" idx="7"/>
            <a:endCxn id="1665" idx="2"/>
          </p:cNvCxnSpPr>
          <p:nvPr/>
        </p:nvCxnSpPr>
        <p:spPr>
          <a:xfrm flipV="1">
            <a:off x="4013280" y="2742480"/>
            <a:ext cx="2464560" cy="3312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7" name=""/>
          <p:cNvCxnSpPr>
            <a:stCxn id="1764" idx="7"/>
            <a:endCxn id="1659" idx="2"/>
          </p:cNvCxnSpPr>
          <p:nvPr/>
        </p:nvCxnSpPr>
        <p:spPr>
          <a:xfrm flipV="1">
            <a:off x="4078440" y="2990520"/>
            <a:ext cx="1637280" cy="22262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8" name=""/>
          <p:cNvCxnSpPr>
            <a:stCxn id="1766" idx="7"/>
            <a:endCxn id="1668" idx="2"/>
          </p:cNvCxnSpPr>
          <p:nvPr/>
        </p:nvCxnSpPr>
        <p:spPr>
          <a:xfrm flipV="1">
            <a:off x="4013280" y="2980800"/>
            <a:ext cx="2464560" cy="3074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89" name=""/>
          <p:cNvCxnSpPr>
            <a:stCxn id="1766" idx="7"/>
            <a:endCxn id="1665" idx="0"/>
          </p:cNvCxnSpPr>
          <p:nvPr/>
        </p:nvCxnSpPr>
        <p:spPr>
          <a:xfrm flipV="1">
            <a:off x="4013280" y="2514240"/>
            <a:ext cx="2464560" cy="3540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630" name=""/>
          <p:cNvSpPr/>
          <p:nvPr/>
        </p:nvSpPr>
        <p:spPr>
          <a:xfrm>
            <a:off x="304920" y="5181480"/>
            <a:ext cx="9144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 defin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 Add sub-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 Add A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 A pa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0" name=""/>
          <p:cNvCxnSpPr>
            <a:stCxn id="1683" idx="1"/>
            <a:endCxn id="1737" idx="6"/>
          </p:cNvCxnSpPr>
          <p:nvPr/>
        </p:nvCxnSpPr>
        <p:spPr>
          <a:xfrm flipH="1" flipV="1">
            <a:off x="2742480" y="3161880"/>
            <a:ext cx="3353400" cy="3201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91" name=""/>
          <p:cNvCxnSpPr>
            <a:stCxn id="1764" idx="7"/>
            <a:endCxn id="1663" idx="0"/>
          </p:cNvCxnSpPr>
          <p:nvPr/>
        </p:nvCxnSpPr>
        <p:spPr>
          <a:xfrm flipV="1">
            <a:off x="4078440" y="2514240"/>
            <a:ext cx="1637280" cy="2702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92" name=""/>
          <p:cNvCxnSpPr>
            <a:stCxn id="1630" idx="7"/>
            <a:endCxn id="1662" idx="2"/>
          </p:cNvCxnSpPr>
          <p:nvPr/>
        </p:nvCxnSpPr>
        <p:spPr>
          <a:xfrm flipV="1">
            <a:off x="1085760" y="2742840"/>
            <a:ext cx="3867840" cy="25725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793" name=""/>
          <p:cNvCxnSpPr>
            <a:stCxn id="1684" idx="1"/>
            <a:endCxn id="1697" idx="3"/>
          </p:cNvCxnSpPr>
          <p:nvPr/>
        </p:nvCxnSpPr>
        <p:spPr>
          <a:xfrm flipH="1" flipV="1">
            <a:off x="5714640" y="5905080"/>
            <a:ext cx="18295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4" name=""/>
          <p:cNvCxnSpPr>
            <a:stCxn id="1636" idx="1"/>
            <a:endCxn id="1603" idx="3"/>
          </p:cNvCxnSpPr>
          <p:nvPr/>
        </p:nvCxnSpPr>
        <p:spPr>
          <a:xfrm flipH="1">
            <a:off x="3885840" y="1447920"/>
            <a:ext cx="32011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5" name=""/>
          <p:cNvSpPr/>
          <p:nvPr/>
        </p:nvSpPr>
        <p:spPr>
          <a:xfrm>
            <a:off x="1828800" y="2133720"/>
            <a:ext cx="533520" cy="380880"/>
          </a:xfrm>
          <a:prstGeom prst="hexagon">
            <a:avLst>
              <a:gd name="adj" fmla="val 35019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chnolog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6" name=""/>
          <p:cNvCxnSpPr>
            <a:stCxn id="1795" idx="2"/>
            <a:endCxn id="1797" idx="0"/>
          </p:cNvCxnSpPr>
          <p:nvPr/>
        </p:nvCxnSpPr>
        <p:spPr>
          <a:xfrm flipH="1">
            <a:off x="1980720" y="2514240"/>
            <a:ext cx="115200" cy="1530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97" name=""/>
          <p:cNvSpPr/>
          <p:nvPr/>
        </p:nvSpPr>
        <p:spPr>
          <a:xfrm>
            <a:off x="1676520" y="2666880"/>
            <a:ext cx="609480" cy="228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 ass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8" name=""/>
          <p:cNvCxnSpPr>
            <a:stCxn id="1797" idx="3"/>
            <a:endCxn id="1592" idx="0"/>
          </p:cNvCxnSpPr>
          <p:nvPr/>
        </p:nvCxnSpPr>
        <p:spPr>
          <a:xfrm flipH="1">
            <a:off x="1256760" y="2862000"/>
            <a:ext cx="508680" cy="262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/>
          <p:nvPr/>
        </p:nvSpPr>
        <p:spPr>
          <a:xfrm>
            <a:off x="2057400" y="5562720"/>
            <a:ext cx="678168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724280" y="5943600"/>
            <a:ext cx="396252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products= LKSP com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04920" y="304920"/>
            <a:ext cx="8534160" cy="25905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867280" y="1295280"/>
            <a:ext cx="289584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91120" y="12952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438280" y="1295280"/>
            <a:ext cx="152424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5909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8195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2767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0481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3434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5720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292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8006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99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2485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7057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771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200400" y="457200"/>
            <a:ext cx="3429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19920" y="312408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209680" y="31240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ar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592720" y="1371600"/>
            <a:ext cx="6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345560" y="1295280"/>
            <a:ext cx="66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52320" y="1295280"/>
            <a:ext cx="63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708660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54100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3581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72428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7" name=""/>
          <p:cNvCxnSpPr>
            <a:stCxn id="1808" idx="2"/>
            <a:endCxn id="1828" idx="1"/>
          </p:cNvCxnSpPr>
          <p:nvPr/>
        </p:nvCxnSpPr>
        <p:spPr>
          <a:xfrm>
            <a:off x="3162240" y="2590560"/>
            <a:ext cx="967680" cy="665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29" name=""/>
          <p:cNvCxnSpPr>
            <a:stCxn id="1812" idx="2"/>
            <a:endCxn id="1828" idx="0"/>
          </p:cNvCxnSpPr>
          <p:nvPr/>
        </p:nvCxnSpPr>
        <p:spPr>
          <a:xfrm flipH="1">
            <a:off x="4533120" y="2590560"/>
            <a:ext cx="381960" cy="610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30" name=""/>
          <p:cNvCxnSpPr>
            <a:stCxn id="1828" idx="7"/>
            <a:endCxn id="1816" idx="2"/>
          </p:cNvCxnSpPr>
          <p:nvPr/>
        </p:nvCxnSpPr>
        <p:spPr>
          <a:xfrm flipV="1">
            <a:off x="4938840" y="2590200"/>
            <a:ext cx="1653120" cy="6656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31" name=""/>
          <p:cNvCxnSpPr>
            <a:stCxn id="1819" idx="2"/>
            <a:endCxn id="1828" idx="2"/>
          </p:cNvCxnSpPr>
          <p:nvPr/>
        </p:nvCxnSpPr>
        <p:spPr>
          <a:xfrm flipV="1">
            <a:off x="2476440" y="3390120"/>
            <a:ext cx="1486800" cy="191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832" name=""/>
          <p:cNvCxnSpPr>
            <a:stCxn id="1818" idx="2"/>
            <a:endCxn id="1828" idx="6"/>
          </p:cNvCxnSpPr>
          <p:nvPr/>
        </p:nvCxnSpPr>
        <p:spPr>
          <a:xfrm flipH="1" flipV="1">
            <a:off x="5104800" y="3390120"/>
            <a:ext cx="1181880" cy="191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833" name=""/>
          <p:cNvSpPr/>
          <p:nvPr/>
        </p:nvSpPr>
        <p:spPr>
          <a:xfrm>
            <a:off x="6629400" y="685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4" name=""/>
          <p:cNvCxnSpPr>
            <a:stCxn id="1835" idx="0"/>
            <a:endCxn id="1828" idx="3"/>
          </p:cNvCxnSpPr>
          <p:nvPr/>
        </p:nvCxnSpPr>
        <p:spPr>
          <a:xfrm flipV="1">
            <a:off x="2819520" y="3525480"/>
            <a:ext cx="1310400" cy="2418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36" name=""/>
          <p:cNvCxnSpPr>
            <a:stCxn id="1837" idx="0"/>
            <a:endCxn id="1828" idx="4"/>
          </p:cNvCxnSpPr>
          <p:nvPr/>
        </p:nvCxnSpPr>
        <p:spPr>
          <a:xfrm flipV="1">
            <a:off x="4076640" y="3580920"/>
            <a:ext cx="457920" cy="23630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35" name=""/>
          <p:cNvSpPr/>
          <p:nvPr/>
        </p:nvSpPr>
        <p:spPr>
          <a:xfrm>
            <a:off x="2286000" y="5943600"/>
            <a:ext cx="1066680" cy="635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505320" y="5943600"/>
            <a:ext cx="114300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505320" y="19051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590920" y="2362320"/>
            <a:ext cx="121896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257800" y="190512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934320" y="190512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343400" y="2362320"/>
            <a:ext cx="1066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019920" y="2362320"/>
            <a:ext cx="11430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cluded thin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905120" y="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A use and LKSP construction and administration-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6" name=""/>
          <p:cNvCxnSpPr/>
          <p:nvPr/>
        </p:nvCxnSpPr>
        <p:spPr>
          <a:xfrm rot="5400000">
            <a:off x="277956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7" name=""/>
          <p:cNvCxnSpPr/>
          <p:nvPr/>
        </p:nvCxnSpPr>
        <p:spPr>
          <a:xfrm rot="5400000">
            <a:off x="300816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8" name=""/>
          <p:cNvCxnSpPr/>
          <p:nvPr/>
        </p:nvCxnSpPr>
        <p:spPr>
          <a:xfrm rot="5400000">
            <a:off x="323676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9" name=""/>
          <p:cNvCxnSpPr/>
          <p:nvPr/>
        </p:nvCxnSpPr>
        <p:spPr>
          <a:xfrm rot="5400000">
            <a:off x="453240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0" name=""/>
          <p:cNvCxnSpPr/>
          <p:nvPr/>
        </p:nvCxnSpPr>
        <p:spPr>
          <a:xfrm rot="5400000">
            <a:off x="476100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1" name=""/>
          <p:cNvCxnSpPr/>
          <p:nvPr/>
        </p:nvCxnSpPr>
        <p:spPr>
          <a:xfrm rot="5400000">
            <a:off x="498960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2" name=""/>
          <p:cNvSpPr/>
          <p:nvPr/>
        </p:nvSpPr>
        <p:spPr>
          <a:xfrm>
            <a:off x="8153280" y="31240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010280" y="4038480"/>
            <a:ext cx="1143000" cy="304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ni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4" name=""/>
          <p:cNvCxnSpPr>
            <a:stCxn id="1852" idx="2"/>
            <a:endCxn id="1853" idx="6"/>
          </p:cNvCxnSpPr>
          <p:nvPr/>
        </p:nvCxnSpPr>
        <p:spPr>
          <a:xfrm flipH="1">
            <a:off x="8152920" y="3581280"/>
            <a:ext cx="267120" cy="6105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855" name=""/>
          <p:cNvCxnSpPr>
            <a:stCxn id="1853" idx="0"/>
            <a:endCxn id="1843" idx="2"/>
          </p:cNvCxnSpPr>
          <p:nvPr/>
        </p:nvCxnSpPr>
        <p:spPr>
          <a:xfrm flipH="1" flipV="1">
            <a:off x="6590880" y="2615400"/>
            <a:ext cx="991440" cy="1423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6" name=""/>
          <p:cNvSpPr/>
          <p:nvPr/>
        </p:nvSpPr>
        <p:spPr>
          <a:xfrm>
            <a:off x="533520" y="457200"/>
            <a:ext cx="18288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85800" y="76212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990720" y="762120"/>
            <a:ext cx="30456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295280" y="76212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600200" y="76212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85800" y="533520"/>
            <a:ext cx="148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TELOS core libr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205740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2362320"/>
            <a:ext cx="14479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system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905120" y="1143000"/>
            <a:ext cx="22860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09680" y="990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962520" y="3200400"/>
            <a:ext cx="1143000" cy="38088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Compose LK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6" name=""/>
          <p:cNvCxnSpPr>
            <a:stCxn id="1863" idx="2"/>
            <a:endCxn id="1828" idx="2"/>
          </p:cNvCxnSpPr>
          <p:nvPr/>
        </p:nvCxnSpPr>
        <p:spPr>
          <a:xfrm>
            <a:off x="1409400" y="2590920"/>
            <a:ext cx="2553120" cy="800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67" name=""/>
          <p:cNvSpPr/>
          <p:nvPr/>
        </p:nvSpPr>
        <p:spPr>
          <a:xfrm>
            <a:off x="685800" y="3962520"/>
            <a:ext cx="1066680" cy="30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e, lea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8" name=""/>
          <p:cNvCxnSpPr>
            <a:stCxn id="1818" idx="2"/>
            <a:endCxn id="1869" idx="0"/>
          </p:cNvCxnSpPr>
          <p:nvPr/>
        </p:nvCxnSpPr>
        <p:spPr>
          <a:xfrm flipH="1">
            <a:off x="5866560" y="3580920"/>
            <a:ext cx="420120" cy="3819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870" name=""/>
          <p:cNvSpPr/>
          <p:nvPr/>
        </p:nvSpPr>
        <p:spPr>
          <a:xfrm>
            <a:off x="4800600" y="594360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thin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905120" y="480060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581280" y="48006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3" name=""/>
          <p:cNvCxnSpPr>
            <a:stCxn id="1870" idx="0"/>
            <a:endCxn id="1872" idx="2"/>
          </p:cNvCxnSpPr>
          <p:nvPr/>
        </p:nvCxnSpPr>
        <p:spPr>
          <a:xfrm flipH="1" flipV="1">
            <a:off x="3962160" y="5105160"/>
            <a:ext cx="1372320" cy="838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cxnSp>
        <p:nvCxnSpPr>
          <p:cNvPr id="1874" name=""/>
          <p:cNvCxnSpPr>
            <a:stCxn id="1870" idx="0"/>
            <a:endCxn id="1871" idx="2"/>
          </p:cNvCxnSpPr>
          <p:nvPr/>
        </p:nvCxnSpPr>
        <p:spPr>
          <a:xfrm flipH="1" flipV="1">
            <a:off x="2285280" y="5105160"/>
            <a:ext cx="3048840" cy="838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cxnSp>
        <p:nvCxnSpPr>
          <p:cNvPr id="1875" name=""/>
          <p:cNvCxnSpPr>
            <a:stCxn id="1870" idx="0"/>
            <a:endCxn id="1876" idx="2"/>
          </p:cNvCxnSpPr>
          <p:nvPr/>
        </p:nvCxnSpPr>
        <p:spPr>
          <a:xfrm flipH="1" flipV="1">
            <a:off x="1447200" y="5105160"/>
            <a:ext cx="3886920" cy="838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cxnSp>
        <p:nvCxnSpPr>
          <p:cNvPr id="1877" name=""/>
          <p:cNvCxnSpPr>
            <a:stCxn id="1869" idx="4"/>
            <a:endCxn id="1872" idx="0"/>
          </p:cNvCxnSpPr>
          <p:nvPr/>
        </p:nvCxnSpPr>
        <p:spPr>
          <a:xfrm flipH="1">
            <a:off x="3961800" y="4267080"/>
            <a:ext cx="1905480" cy="534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78" name=""/>
          <p:cNvSpPr/>
          <p:nvPr/>
        </p:nvSpPr>
        <p:spPr>
          <a:xfrm>
            <a:off x="6019920" y="5943600"/>
            <a:ext cx="13716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fat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7467480" y="5943600"/>
            <a:ext cx="1143000" cy="246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heavy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73152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5438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0010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7724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8229600" y="190512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315200" y="2362320"/>
            <a:ext cx="11430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cluded fat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/>
          <p:nvPr/>
        </p:nvCxnSpPr>
        <p:spPr>
          <a:xfrm rot="5400000">
            <a:off x="7504200" y="17913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7" name=""/>
          <p:cNvCxnSpPr/>
          <p:nvPr/>
        </p:nvCxnSpPr>
        <p:spPr>
          <a:xfrm rot="5400000">
            <a:off x="7732800" y="17913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8" name=""/>
          <p:cNvCxnSpPr/>
          <p:nvPr/>
        </p:nvCxnSpPr>
        <p:spPr>
          <a:xfrm rot="5400000">
            <a:off x="7961400" y="17913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9" name=""/>
          <p:cNvCxnSpPr>
            <a:stCxn id="1828" idx="7"/>
            <a:endCxn id="1885" idx="2"/>
          </p:cNvCxnSpPr>
          <p:nvPr/>
        </p:nvCxnSpPr>
        <p:spPr>
          <a:xfrm flipV="1">
            <a:off x="4938480" y="2615400"/>
            <a:ext cx="2948760" cy="640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90" name=""/>
          <p:cNvCxnSpPr>
            <a:stCxn id="1867" idx="4"/>
            <a:endCxn id="1871" idx="0"/>
          </p:cNvCxnSpPr>
          <p:nvPr/>
        </p:nvCxnSpPr>
        <p:spPr>
          <a:xfrm>
            <a:off x="1218960" y="4267080"/>
            <a:ext cx="1067400" cy="534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91" name=""/>
          <p:cNvCxnSpPr>
            <a:stCxn id="1867" idx="4"/>
            <a:endCxn id="1876" idx="1"/>
          </p:cNvCxnSpPr>
          <p:nvPr/>
        </p:nvCxnSpPr>
        <p:spPr>
          <a:xfrm flipH="1">
            <a:off x="1066320" y="4266720"/>
            <a:ext cx="153360" cy="686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76" name=""/>
          <p:cNvSpPr/>
          <p:nvPr/>
        </p:nvSpPr>
        <p:spPr>
          <a:xfrm>
            <a:off x="1066680" y="48006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181480" y="3962520"/>
            <a:ext cx="1371600" cy="30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and n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2" name=""/>
          <p:cNvCxnSpPr>
            <a:stCxn id="1893" idx="4"/>
            <a:endCxn id="1878" idx="0"/>
          </p:cNvCxnSpPr>
          <p:nvPr/>
        </p:nvCxnSpPr>
        <p:spPr>
          <a:xfrm>
            <a:off x="3733560" y="4266720"/>
            <a:ext cx="2972520" cy="1677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894" name=""/>
          <p:cNvCxnSpPr>
            <a:stCxn id="1893" idx="4"/>
            <a:endCxn id="1879" idx="0"/>
          </p:cNvCxnSpPr>
          <p:nvPr/>
        </p:nvCxnSpPr>
        <p:spPr>
          <a:xfrm>
            <a:off x="3733560" y="4266720"/>
            <a:ext cx="4305960" cy="1677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95" name=""/>
          <p:cNvSpPr/>
          <p:nvPr/>
        </p:nvSpPr>
        <p:spPr>
          <a:xfrm>
            <a:off x="7848720" y="4800600"/>
            <a:ext cx="7617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pos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6" name=""/>
          <p:cNvCxnSpPr>
            <a:stCxn id="1853" idx="4"/>
            <a:endCxn id="1895" idx="0"/>
          </p:cNvCxnSpPr>
          <p:nvPr/>
        </p:nvCxnSpPr>
        <p:spPr>
          <a:xfrm>
            <a:off x="7581600" y="4343400"/>
            <a:ext cx="648360" cy="457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97" name=""/>
          <p:cNvSpPr/>
          <p:nvPr/>
        </p:nvSpPr>
        <p:spPr>
          <a:xfrm>
            <a:off x="1828800" y="8380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429000" y="1752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6858000" y="16765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153280" y="16765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181480" y="17524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2" name=""/>
          <p:cNvCxnSpPr>
            <a:stCxn id="1819" idx="2"/>
            <a:endCxn id="1867" idx="1"/>
          </p:cNvCxnSpPr>
          <p:nvPr/>
        </p:nvCxnSpPr>
        <p:spPr>
          <a:xfrm flipH="1">
            <a:off x="840960" y="3581280"/>
            <a:ext cx="1635840" cy="4262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893" name=""/>
          <p:cNvSpPr/>
          <p:nvPr/>
        </p:nvSpPr>
        <p:spPr>
          <a:xfrm>
            <a:off x="3200400" y="3962520"/>
            <a:ext cx="1066680" cy="30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3" name=""/>
          <p:cNvCxnSpPr>
            <a:stCxn id="1819" idx="2"/>
            <a:endCxn id="1893" idx="1"/>
          </p:cNvCxnSpPr>
          <p:nvPr/>
        </p:nvCxnSpPr>
        <p:spPr>
          <a:xfrm>
            <a:off x="2476080" y="3581280"/>
            <a:ext cx="880200" cy="42624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904" name=""/>
          <p:cNvSpPr/>
          <p:nvPr/>
        </p:nvSpPr>
        <p:spPr>
          <a:xfrm>
            <a:off x="304200" y="5638680"/>
            <a:ext cx="149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mote TELOS impla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5" name=""/>
          <p:cNvCxnSpPr>
            <a:stCxn id="1853" idx="4"/>
            <a:endCxn id="1870" idx="0"/>
          </p:cNvCxnSpPr>
          <p:nvPr/>
        </p:nvCxnSpPr>
        <p:spPr>
          <a:xfrm flipH="1">
            <a:off x="5333760" y="4343040"/>
            <a:ext cx="2248560" cy="1600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6" name=""/>
          <p:cNvCxnSpPr>
            <a:stCxn id="1853" idx="4"/>
            <a:endCxn id="1878" idx="0"/>
          </p:cNvCxnSpPr>
          <p:nvPr/>
        </p:nvCxnSpPr>
        <p:spPr>
          <a:xfrm flipH="1">
            <a:off x="6705360" y="4343040"/>
            <a:ext cx="876960" cy="1600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907" name=""/>
          <p:cNvCxnSpPr>
            <a:stCxn id="1870" idx="1"/>
            <a:endCxn id="1837" idx="3"/>
          </p:cNvCxnSpPr>
          <p:nvPr/>
        </p:nvCxnSpPr>
        <p:spPr>
          <a:xfrm flipH="1">
            <a:off x="4647600" y="6057720"/>
            <a:ext cx="1530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8" name=""/>
          <p:cNvCxnSpPr>
            <a:stCxn id="1878" idx="1"/>
            <a:endCxn id="1835" idx="3"/>
          </p:cNvCxnSpPr>
          <p:nvPr/>
        </p:nvCxnSpPr>
        <p:spPr>
          <a:xfrm flipH="1">
            <a:off x="3351960" y="6070320"/>
            <a:ext cx="2667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9" name=""/>
          <p:cNvCxnSpPr>
            <a:stCxn id="1843" idx="1"/>
            <a:endCxn id="1842" idx="3"/>
          </p:cNvCxnSpPr>
          <p:nvPr/>
        </p:nvCxnSpPr>
        <p:spPr>
          <a:xfrm flipH="1" flipV="1">
            <a:off x="5409720" y="2475720"/>
            <a:ext cx="61056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0" name=""/>
          <p:cNvCxnSpPr>
            <a:stCxn id="1885" idx="1"/>
            <a:endCxn id="1838" idx="3"/>
          </p:cNvCxnSpPr>
          <p:nvPr/>
        </p:nvCxnSpPr>
        <p:spPr>
          <a:xfrm flipH="1" flipV="1">
            <a:off x="3733560" y="2247480"/>
            <a:ext cx="358200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1" name=""/>
          <p:cNvSpPr/>
          <p:nvPr/>
        </p:nvSpPr>
        <p:spPr>
          <a:xfrm>
            <a:off x="2743200" y="4800600"/>
            <a:ext cx="7621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2" name=""/>
          <p:cNvCxnSpPr>
            <a:stCxn id="1867" idx="4"/>
            <a:endCxn id="1911" idx="0"/>
          </p:cNvCxnSpPr>
          <p:nvPr/>
        </p:nvCxnSpPr>
        <p:spPr>
          <a:xfrm>
            <a:off x="1218960" y="4267080"/>
            <a:ext cx="1905480" cy="534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913" name=""/>
          <p:cNvCxnSpPr>
            <a:stCxn id="1911" idx="2"/>
            <a:endCxn id="1870" idx="0"/>
          </p:cNvCxnSpPr>
          <p:nvPr/>
        </p:nvCxnSpPr>
        <p:spPr>
          <a:xfrm>
            <a:off x="3123720" y="5105520"/>
            <a:ext cx="2210760" cy="838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"/>
          <p:cNvSpPr/>
          <p:nvPr/>
        </p:nvSpPr>
        <p:spPr>
          <a:xfrm>
            <a:off x="228600" y="5181480"/>
            <a:ext cx="853452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705720" y="35053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04920" y="304920"/>
            <a:ext cx="8534160" cy="25905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867280" y="1295280"/>
            <a:ext cx="289584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191120" y="12952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438280" y="1295280"/>
            <a:ext cx="152424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5909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8195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2767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04812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3434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5720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292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8006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0199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2485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7057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77120" y="182880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08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094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0666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83808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13372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36232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81952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59092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200400" y="457200"/>
            <a:ext cx="3429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629400" y="30481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676520" y="32004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ar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592720" y="1371600"/>
            <a:ext cx="6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345560" y="1295280"/>
            <a:ext cx="66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052320" y="1295280"/>
            <a:ext cx="63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915400" y="68580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V="1">
            <a:off x="708660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54100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58128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72428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1" name=""/>
          <p:cNvCxnSpPr>
            <a:stCxn id="1927" idx="2"/>
            <a:endCxn id="1952" idx="0"/>
          </p:cNvCxnSpPr>
          <p:nvPr/>
        </p:nvCxnSpPr>
        <p:spPr>
          <a:xfrm flipH="1">
            <a:off x="4494960" y="2590920"/>
            <a:ext cx="420120" cy="7624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953" name=""/>
          <p:cNvCxnSpPr>
            <a:stCxn id="1952" idx="7"/>
            <a:endCxn id="1931" idx="2"/>
          </p:cNvCxnSpPr>
          <p:nvPr/>
        </p:nvCxnSpPr>
        <p:spPr>
          <a:xfrm flipV="1">
            <a:off x="5033880" y="2590200"/>
            <a:ext cx="1558080" cy="8514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4" name=""/>
          <p:cNvCxnSpPr>
            <a:stCxn id="1942" idx="2"/>
            <a:endCxn id="1952" idx="2"/>
          </p:cNvCxnSpPr>
          <p:nvPr/>
        </p:nvCxnSpPr>
        <p:spPr>
          <a:xfrm>
            <a:off x="1943280" y="3657240"/>
            <a:ext cx="1791360" cy="10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55" name=""/>
          <p:cNvCxnSpPr>
            <a:stCxn id="1941" idx="2"/>
            <a:endCxn id="1952" idx="6"/>
          </p:cNvCxnSpPr>
          <p:nvPr/>
        </p:nvCxnSpPr>
        <p:spPr>
          <a:xfrm flipH="1">
            <a:off x="5257080" y="3504960"/>
            <a:ext cx="1639080" cy="1530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956" name=""/>
          <p:cNvSpPr/>
          <p:nvPr/>
        </p:nvSpPr>
        <p:spPr>
          <a:xfrm>
            <a:off x="6629400" y="685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295280" y="563868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048120" y="5638680"/>
            <a:ext cx="228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80880" y="5410080"/>
            <a:ext cx="1143000" cy="254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133720" y="541008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505320" y="19051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590920" y="2362320"/>
            <a:ext cx="121896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257800" y="190512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934320" y="190512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343400" y="2362320"/>
            <a:ext cx="106668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019920" y="2362320"/>
            <a:ext cx="11430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cluded thin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1905120" y="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1371240" y="67057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b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MA use and LKSP construction and administration-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0" name=""/>
          <p:cNvCxnSpPr>
            <a:stCxn id="1952" idx="5"/>
            <a:endCxn id="1971" idx="0"/>
          </p:cNvCxnSpPr>
          <p:nvPr/>
        </p:nvCxnSpPr>
        <p:spPr>
          <a:xfrm>
            <a:off x="5033880" y="3873240"/>
            <a:ext cx="339120" cy="1918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72" name=""/>
          <p:cNvSpPr/>
          <p:nvPr/>
        </p:nvSpPr>
        <p:spPr>
          <a:xfrm>
            <a:off x="1752480" y="36576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6933960" y="3886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934320" y="3809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981080" y="3962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6" name=""/>
          <p:cNvCxnSpPr/>
          <p:nvPr/>
        </p:nvCxnSpPr>
        <p:spPr>
          <a:xfrm rot="5400000">
            <a:off x="277956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7" name=""/>
          <p:cNvCxnSpPr/>
          <p:nvPr/>
        </p:nvCxnSpPr>
        <p:spPr>
          <a:xfrm rot="5400000">
            <a:off x="300816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8" name=""/>
          <p:cNvCxnSpPr/>
          <p:nvPr/>
        </p:nvCxnSpPr>
        <p:spPr>
          <a:xfrm rot="5400000">
            <a:off x="323676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9" name=""/>
          <p:cNvCxnSpPr/>
          <p:nvPr/>
        </p:nvCxnSpPr>
        <p:spPr>
          <a:xfrm rot="5400000">
            <a:off x="453240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0" name=""/>
          <p:cNvCxnSpPr/>
          <p:nvPr/>
        </p:nvCxnSpPr>
        <p:spPr>
          <a:xfrm rot="5400000">
            <a:off x="476100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1" name=""/>
          <p:cNvCxnSpPr/>
          <p:nvPr/>
        </p:nvCxnSpPr>
        <p:spPr>
          <a:xfrm rot="5400000">
            <a:off x="4989600" y="18666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2" name=""/>
          <p:cNvCxnSpPr/>
          <p:nvPr/>
        </p:nvCxnSpPr>
        <p:spPr>
          <a:xfrm rot="5400000">
            <a:off x="56988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3" name=""/>
          <p:cNvCxnSpPr/>
          <p:nvPr/>
        </p:nvCxnSpPr>
        <p:spPr>
          <a:xfrm rot="5400000">
            <a:off x="79848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4" name=""/>
          <p:cNvCxnSpPr/>
          <p:nvPr/>
        </p:nvCxnSpPr>
        <p:spPr>
          <a:xfrm rot="5400000">
            <a:off x="102708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5" name=""/>
          <p:cNvCxnSpPr/>
          <p:nvPr/>
        </p:nvCxnSpPr>
        <p:spPr>
          <a:xfrm rot="5400000">
            <a:off x="232236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6" name=""/>
          <p:cNvCxnSpPr/>
          <p:nvPr/>
        </p:nvCxnSpPr>
        <p:spPr>
          <a:xfrm rot="5400000">
            <a:off x="255096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7" name=""/>
          <p:cNvCxnSpPr/>
          <p:nvPr/>
        </p:nvCxnSpPr>
        <p:spPr>
          <a:xfrm rot="5400000">
            <a:off x="277956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8" name=""/>
          <p:cNvSpPr/>
          <p:nvPr/>
        </p:nvSpPr>
        <p:spPr>
          <a:xfrm>
            <a:off x="8229600" y="30481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8305920" y="35053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238880" y="3124080"/>
            <a:ext cx="914400" cy="3812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 Admini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1" name=""/>
          <p:cNvCxnSpPr>
            <a:stCxn id="1989" idx="0"/>
            <a:endCxn id="1990" idx="6"/>
          </p:cNvCxnSpPr>
          <p:nvPr/>
        </p:nvCxnSpPr>
        <p:spPr>
          <a:xfrm flipH="1" flipV="1">
            <a:off x="8152560" y="3314160"/>
            <a:ext cx="343800" cy="191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92" name=""/>
          <p:cNvCxnSpPr>
            <a:stCxn id="1993" idx="1"/>
            <a:endCxn id="1966" idx="2"/>
          </p:cNvCxnSpPr>
          <p:nvPr/>
        </p:nvCxnSpPr>
        <p:spPr>
          <a:xfrm flipH="1" flipV="1">
            <a:off x="6590880" y="2615400"/>
            <a:ext cx="813600" cy="1064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4" name=""/>
          <p:cNvSpPr/>
          <p:nvPr/>
        </p:nvSpPr>
        <p:spPr>
          <a:xfrm>
            <a:off x="8686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3520" y="457200"/>
            <a:ext cx="18288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85800" y="76212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990720" y="762120"/>
            <a:ext cx="30456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95280" y="76212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00200" y="76212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85800" y="533520"/>
            <a:ext cx="148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TELOS core libr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205740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85800" y="2362320"/>
            <a:ext cx="14479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system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905120" y="1143000"/>
            <a:ext cx="22860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209680" y="990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5" name=""/>
          <p:cNvCxnSpPr>
            <a:stCxn id="2006" idx="2"/>
            <a:endCxn id="2007" idx="6"/>
          </p:cNvCxnSpPr>
          <p:nvPr/>
        </p:nvCxnSpPr>
        <p:spPr>
          <a:xfrm flipH="1" flipV="1">
            <a:off x="6247800" y="3962160"/>
            <a:ext cx="1143720" cy="4197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08" name=""/>
          <p:cNvSpPr/>
          <p:nvPr/>
        </p:nvSpPr>
        <p:spPr>
          <a:xfrm>
            <a:off x="3124080" y="6477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371600" y="6477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733920" y="3352680"/>
            <a:ext cx="1523880" cy="60984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Compose LK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0" name=""/>
          <p:cNvCxnSpPr>
            <a:stCxn id="2011" idx="4"/>
            <a:endCxn id="2012" idx="4"/>
          </p:cNvCxnSpPr>
          <p:nvPr/>
        </p:nvCxnSpPr>
        <p:spPr>
          <a:xfrm flipH="1" flipV="1">
            <a:off x="1180440" y="3809520"/>
            <a:ext cx="191160" cy="5342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12" name=""/>
          <p:cNvSpPr/>
          <p:nvPr/>
        </p:nvSpPr>
        <p:spPr>
          <a:xfrm>
            <a:off x="762120" y="3505320"/>
            <a:ext cx="838080" cy="30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Lea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838080" y="4038480"/>
            <a:ext cx="1067040" cy="30492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ope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438280" y="3886200"/>
            <a:ext cx="838440" cy="38088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mark 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828800" y="4724280"/>
            <a:ext cx="838080" cy="38124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0" y="4343400"/>
            <a:ext cx="914400" cy="30492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ope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2280" y="4724280"/>
            <a:ext cx="762120" cy="38124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7" name=""/>
          <p:cNvCxnSpPr>
            <a:stCxn id="2011" idx="4"/>
            <a:endCxn id="2013" idx="2"/>
          </p:cNvCxnSpPr>
          <p:nvPr/>
        </p:nvCxnSpPr>
        <p:spPr>
          <a:xfrm flipV="1">
            <a:off x="1371240" y="4076280"/>
            <a:ext cx="1067400" cy="2671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18" name=""/>
          <p:cNvCxnSpPr>
            <a:stCxn id="2011" idx="4"/>
            <a:endCxn id="2014" idx="0"/>
          </p:cNvCxnSpPr>
          <p:nvPr/>
        </p:nvCxnSpPr>
        <p:spPr>
          <a:xfrm>
            <a:off x="1371600" y="4343400"/>
            <a:ext cx="876960" cy="38160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19" name=""/>
          <p:cNvCxnSpPr>
            <a:stCxn id="2011" idx="4"/>
            <a:endCxn id="2015" idx="0"/>
          </p:cNvCxnSpPr>
          <p:nvPr/>
        </p:nvCxnSpPr>
        <p:spPr>
          <a:xfrm flipH="1">
            <a:off x="456840" y="4343040"/>
            <a:ext cx="915120" cy="1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20" name=""/>
          <p:cNvCxnSpPr>
            <a:stCxn id="2011" idx="4"/>
            <a:endCxn id="2016" idx="1"/>
          </p:cNvCxnSpPr>
          <p:nvPr/>
        </p:nvCxnSpPr>
        <p:spPr>
          <a:xfrm flipH="1">
            <a:off x="263160" y="4343040"/>
            <a:ext cx="1108800" cy="43740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21" name=""/>
          <p:cNvCxnSpPr>
            <a:stCxn id="2011" idx="4"/>
            <a:endCxn id="2022" idx="1"/>
          </p:cNvCxnSpPr>
          <p:nvPr/>
        </p:nvCxnSpPr>
        <p:spPr>
          <a:xfrm>
            <a:off x="1371240" y="4343400"/>
            <a:ext cx="3345480" cy="5133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23" name=""/>
          <p:cNvSpPr/>
          <p:nvPr/>
        </p:nvSpPr>
        <p:spPr>
          <a:xfrm>
            <a:off x="5943600" y="4191120"/>
            <a:ext cx="838080" cy="30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4" name=""/>
          <p:cNvCxnSpPr>
            <a:stCxn id="2006" idx="3"/>
            <a:endCxn id="2023" idx="0"/>
          </p:cNvCxnSpPr>
          <p:nvPr/>
        </p:nvCxnSpPr>
        <p:spPr>
          <a:xfrm flipH="1" flipV="1">
            <a:off x="6361920" y="4190760"/>
            <a:ext cx="1151640" cy="2721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25" name=""/>
          <p:cNvSpPr/>
          <p:nvPr/>
        </p:nvSpPr>
        <p:spPr>
          <a:xfrm>
            <a:off x="6324480" y="4572000"/>
            <a:ext cx="838440" cy="30492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 exec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858000" y="4876920"/>
            <a:ext cx="838080" cy="30456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n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7" name=""/>
          <p:cNvCxnSpPr>
            <a:stCxn id="2006" idx="4"/>
            <a:endCxn id="2025" idx="0"/>
          </p:cNvCxnSpPr>
          <p:nvPr/>
        </p:nvCxnSpPr>
        <p:spPr>
          <a:xfrm flipH="1">
            <a:off x="6743160" y="4495680"/>
            <a:ext cx="1067400" cy="76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28" name=""/>
          <p:cNvCxnSpPr>
            <a:stCxn id="1941" idx="2"/>
            <a:endCxn id="2006" idx="0"/>
          </p:cNvCxnSpPr>
          <p:nvPr/>
        </p:nvCxnSpPr>
        <p:spPr>
          <a:xfrm>
            <a:off x="6896160" y="3505320"/>
            <a:ext cx="915120" cy="7624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29" name=""/>
          <p:cNvSpPr/>
          <p:nvPr/>
        </p:nvSpPr>
        <p:spPr>
          <a:xfrm>
            <a:off x="4800600" y="5791320"/>
            <a:ext cx="228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029200" y="5791320"/>
            <a:ext cx="228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486400" y="5791320"/>
            <a:ext cx="228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257800" y="5791320"/>
            <a:ext cx="228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715000" y="586728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800600" y="6324480"/>
            <a:ext cx="1143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thin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505320" y="4572000"/>
            <a:ext cx="76176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505320" y="480060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6" name=""/>
          <p:cNvCxnSpPr>
            <a:stCxn id="2030" idx="1"/>
            <a:endCxn id="2035" idx="3"/>
          </p:cNvCxnSpPr>
          <p:nvPr/>
        </p:nvCxnSpPr>
        <p:spPr>
          <a:xfrm flipH="1" flipV="1">
            <a:off x="4266360" y="4952160"/>
            <a:ext cx="7628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30" idx="1"/>
            <a:endCxn id="2034" idx="3"/>
          </p:cNvCxnSpPr>
          <p:nvPr/>
        </p:nvCxnSpPr>
        <p:spPr>
          <a:xfrm flipH="1" flipV="1">
            <a:off x="4266360" y="4685760"/>
            <a:ext cx="762840" cy="1486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30" idx="1"/>
            <a:endCxn id="2039" idx="3"/>
          </p:cNvCxnSpPr>
          <p:nvPr/>
        </p:nvCxnSpPr>
        <p:spPr>
          <a:xfrm flipH="1" flipV="1">
            <a:off x="4266360" y="4152240"/>
            <a:ext cx="76284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6" idx="2"/>
            <a:endCxn id="2035" idx="3"/>
          </p:cNvCxnSpPr>
          <p:nvPr/>
        </p:nvCxnSpPr>
        <p:spPr>
          <a:xfrm flipH="1" flipV="1">
            <a:off x="4266360" y="4952880"/>
            <a:ext cx="2591640" cy="76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41" name=""/>
          <p:cNvSpPr/>
          <p:nvPr/>
        </p:nvSpPr>
        <p:spPr>
          <a:xfrm>
            <a:off x="60958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63244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7816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5530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010280" y="586728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095880" y="6324480"/>
            <a:ext cx="11430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fat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7" name=""/>
          <p:cNvCxnSpPr/>
          <p:nvPr/>
        </p:nvCxnSpPr>
        <p:spPr>
          <a:xfrm rot="5400000">
            <a:off x="6284880" y="5752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8" name=""/>
          <p:cNvCxnSpPr/>
          <p:nvPr/>
        </p:nvCxnSpPr>
        <p:spPr>
          <a:xfrm rot="5400000">
            <a:off x="6513480" y="5752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9" name=""/>
          <p:cNvCxnSpPr/>
          <p:nvPr/>
        </p:nvCxnSpPr>
        <p:spPr>
          <a:xfrm rot="5400000">
            <a:off x="6742080" y="5752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0" name=""/>
          <p:cNvSpPr/>
          <p:nvPr/>
        </p:nvSpPr>
        <p:spPr>
          <a:xfrm>
            <a:off x="7467480" y="57913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696080" y="57913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8153280" y="57913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7924680" y="57913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381880" y="586728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467480" y="6324480"/>
            <a:ext cx="11430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 heavy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6" name=""/>
          <p:cNvCxnSpPr/>
          <p:nvPr/>
        </p:nvCxnSpPr>
        <p:spPr>
          <a:xfrm rot="5400000">
            <a:off x="7656480" y="5752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7" name=""/>
          <p:cNvCxnSpPr/>
          <p:nvPr/>
        </p:nvCxnSpPr>
        <p:spPr>
          <a:xfrm rot="5400000">
            <a:off x="7885080" y="5752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8" name=""/>
          <p:cNvCxnSpPr/>
          <p:nvPr/>
        </p:nvCxnSpPr>
        <p:spPr>
          <a:xfrm rot="5400000">
            <a:off x="8113680" y="57528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9" name=""/>
          <p:cNvSpPr/>
          <p:nvPr/>
        </p:nvSpPr>
        <p:spPr>
          <a:xfrm>
            <a:off x="5105520" y="4343400"/>
            <a:ext cx="914400" cy="38088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 Ad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0" name=""/>
          <p:cNvCxnSpPr>
            <a:stCxn id="2011" idx="4"/>
            <a:endCxn id="2059" idx="2"/>
          </p:cNvCxnSpPr>
          <p:nvPr/>
        </p:nvCxnSpPr>
        <p:spPr>
          <a:xfrm>
            <a:off x="1371600" y="4343040"/>
            <a:ext cx="3734640" cy="1911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61" name=""/>
          <p:cNvSpPr/>
          <p:nvPr/>
        </p:nvSpPr>
        <p:spPr>
          <a:xfrm>
            <a:off x="73152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5438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0010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7772400" y="18288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229600" y="190512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315200" y="2362320"/>
            <a:ext cx="1143000" cy="246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cluded fat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7" name=""/>
          <p:cNvCxnSpPr/>
          <p:nvPr/>
        </p:nvCxnSpPr>
        <p:spPr>
          <a:xfrm rot="5400000">
            <a:off x="7504200" y="17913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8" name=""/>
          <p:cNvCxnSpPr/>
          <p:nvPr/>
        </p:nvCxnSpPr>
        <p:spPr>
          <a:xfrm rot="5400000">
            <a:off x="7732800" y="17913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9" name=""/>
          <p:cNvCxnSpPr/>
          <p:nvPr/>
        </p:nvCxnSpPr>
        <p:spPr>
          <a:xfrm rot="5400000">
            <a:off x="7961400" y="17913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0" name=""/>
          <p:cNvCxnSpPr>
            <a:stCxn id="2059" idx="5"/>
            <a:endCxn id="2055" idx="0"/>
          </p:cNvCxnSpPr>
          <p:nvPr/>
        </p:nvCxnSpPr>
        <p:spPr>
          <a:xfrm>
            <a:off x="5886360" y="4668480"/>
            <a:ext cx="2153520" cy="16563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1" name=""/>
          <p:cNvCxnSpPr>
            <a:stCxn id="1952" idx="7"/>
            <a:endCxn id="2066" idx="2"/>
          </p:cNvCxnSpPr>
          <p:nvPr/>
        </p:nvCxnSpPr>
        <p:spPr>
          <a:xfrm flipV="1">
            <a:off x="5033520" y="2615400"/>
            <a:ext cx="2853720" cy="826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72" name=""/>
          <p:cNvCxnSpPr>
            <a:stCxn id="2014" idx="5"/>
            <a:endCxn id="2073" idx="1"/>
          </p:cNvCxnSpPr>
          <p:nvPr/>
        </p:nvCxnSpPr>
        <p:spPr>
          <a:xfrm flipV="1">
            <a:off x="2544840" y="4419360"/>
            <a:ext cx="961200" cy="6307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22" name=""/>
          <p:cNvSpPr/>
          <p:nvPr/>
        </p:nvSpPr>
        <p:spPr>
          <a:xfrm>
            <a:off x="4572000" y="4800600"/>
            <a:ext cx="990720" cy="38088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Ad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4" name=""/>
          <p:cNvCxnSpPr>
            <a:stCxn id="2022" idx="5"/>
            <a:endCxn id="2046" idx="0"/>
          </p:cNvCxnSpPr>
          <p:nvPr/>
        </p:nvCxnSpPr>
        <p:spPr>
          <a:xfrm>
            <a:off x="5417640" y="5125680"/>
            <a:ext cx="1250280" cy="1199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5" name=""/>
          <p:cNvCxnSpPr>
            <a:stCxn id="1952" idx="5"/>
            <a:endCxn id="2044" idx="0"/>
          </p:cNvCxnSpPr>
          <p:nvPr/>
        </p:nvCxnSpPr>
        <p:spPr>
          <a:xfrm>
            <a:off x="5033880" y="3873240"/>
            <a:ext cx="1634400" cy="1918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6" name=""/>
          <p:cNvCxnSpPr>
            <a:stCxn id="1952" idx="5"/>
            <a:endCxn id="2053" idx="0"/>
          </p:cNvCxnSpPr>
          <p:nvPr/>
        </p:nvCxnSpPr>
        <p:spPr>
          <a:xfrm>
            <a:off x="5033880" y="3873240"/>
            <a:ext cx="3006000" cy="1918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7" name=""/>
          <p:cNvCxnSpPr>
            <a:stCxn id="2013" idx="6"/>
            <a:endCxn id="2039" idx="1"/>
          </p:cNvCxnSpPr>
          <p:nvPr/>
        </p:nvCxnSpPr>
        <p:spPr>
          <a:xfrm>
            <a:off x="3276360" y="4076640"/>
            <a:ext cx="229320" cy="76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39" name=""/>
          <p:cNvSpPr/>
          <p:nvPr/>
        </p:nvSpPr>
        <p:spPr>
          <a:xfrm>
            <a:off x="3505320" y="4038480"/>
            <a:ext cx="76176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391520" y="4267080"/>
            <a:ext cx="83808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8" name=""/>
          <p:cNvCxnSpPr>
            <a:stCxn id="2006" idx="4"/>
            <a:endCxn id="2026" idx="0"/>
          </p:cNvCxnSpPr>
          <p:nvPr/>
        </p:nvCxnSpPr>
        <p:spPr>
          <a:xfrm flipH="1">
            <a:off x="7276680" y="4495320"/>
            <a:ext cx="5342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9" name=""/>
          <p:cNvCxnSpPr>
            <a:stCxn id="2011" idx="4"/>
            <a:endCxn id="2080" idx="4"/>
          </p:cNvCxnSpPr>
          <p:nvPr/>
        </p:nvCxnSpPr>
        <p:spPr>
          <a:xfrm flipH="1" flipV="1">
            <a:off x="342720" y="3809520"/>
            <a:ext cx="1028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1" name=""/>
          <p:cNvSpPr/>
          <p:nvPr/>
        </p:nvSpPr>
        <p:spPr>
          <a:xfrm>
            <a:off x="0" y="4038480"/>
            <a:ext cx="83808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expl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2" name=""/>
          <p:cNvCxnSpPr>
            <a:stCxn id="2011" idx="4"/>
            <a:endCxn id="2081" idx="7"/>
          </p:cNvCxnSpPr>
          <p:nvPr/>
        </p:nvCxnSpPr>
        <p:spPr>
          <a:xfrm flipH="1" flipV="1">
            <a:off x="715320" y="4071600"/>
            <a:ext cx="65628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3" name=""/>
          <p:cNvSpPr/>
          <p:nvPr/>
        </p:nvSpPr>
        <p:spPr>
          <a:xfrm>
            <a:off x="914400" y="4800600"/>
            <a:ext cx="838080" cy="30492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cret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4" name=""/>
          <p:cNvCxnSpPr>
            <a:stCxn id="2011" idx="4"/>
            <a:endCxn id="2083" idx="0"/>
          </p:cNvCxnSpPr>
          <p:nvPr/>
        </p:nvCxnSpPr>
        <p:spPr>
          <a:xfrm flipH="1">
            <a:off x="1333080" y="4343400"/>
            <a:ext cx="38880" cy="45792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85" name=""/>
          <p:cNvSpPr/>
          <p:nvPr/>
        </p:nvSpPr>
        <p:spPr>
          <a:xfrm>
            <a:off x="2438280" y="4343400"/>
            <a:ext cx="762120" cy="38088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produ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6" name=""/>
          <p:cNvCxnSpPr>
            <a:stCxn id="2011" idx="4"/>
            <a:endCxn id="2085" idx="0"/>
          </p:cNvCxnSpPr>
          <p:nvPr/>
        </p:nvCxnSpPr>
        <p:spPr>
          <a:xfrm>
            <a:off x="1371600" y="4343040"/>
            <a:ext cx="1448640" cy="10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87" name=""/>
          <p:cNvCxnSpPr>
            <a:stCxn id="2085" idx="7"/>
            <a:endCxn id="2039" idx="1"/>
          </p:cNvCxnSpPr>
          <p:nvPr/>
        </p:nvCxnSpPr>
        <p:spPr>
          <a:xfrm flipV="1">
            <a:off x="3089160" y="4152240"/>
            <a:ext cx="416880" cy="246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8" name=""/>
          <p:cNvSpPr/>
          <p:nvPr/>
        </p:nvSpPr>
        <p:spPr>
          <a:xfrm>
            <a:off x="7620120" y="3962520"/>
            <a:ext cx="76176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 analy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305920" y="4343400"/>
            <a:ext cx="5331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 re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0" name=""/>
          <p:cNvCxnSpPr>
            <a:stCxn id="1990" idx="4"/>
            <a:endCxn id="2089" idx="7"/>
          </p:cNvCxnSpPr>
          <p:nvPr/>
        </p:nvCxnSpPr>
        <p:spPr>
          <a:xfrm>
            <a:off x="7695720" y="3504960"/>
            <a:ext cx="1065960" cy="8722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91" name=""/>
          <p:cNvCxnSpPr>
            <a:stCxn id="1990" idx="4"/>
            <a:endCxn id="2088" idx="0"/>
          </p:cNvCxnSpPr>
          <p:nvPr/>
        </p:nvCxnSpPr>
        <p:spPr>
          <a:xfrm>
            <a:off x="7695720" y="3505320"/>
            <a:ext cx="305640" cy="457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993" name=""/>
          <p:cNvSpPr/>
          <p:nvPr/>
        </p:nvSpPr>
        <p:spPr>
          <a:xfrm>
            <a:off x="7315200" y="3657600"/>
            <a:ext cx="6094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2" name=""/>
          <p:cNvCxnSpPr>
            <a:stCxn id="1990" idx="4"/>
            <a:endCxn id="1993" idx="0"/>
          </p:cNvCxnSpPr>
          <p:nvPr/>
        </p:nvCxnSpPr>
        <p:spPr>
          <a:xfrm flipH="1">
            <a:off x="7619400" y="3504960"/>
            <a:ext cx="76680" cy="15300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93" name=""/>
          <p:cNvSpPr/>
          <p:nvPr/>
        </p:nvSpPr>
        <p:spPr>
          <a:xfrm>
            <a:off x="7924680" y="4648320"/>
            <a:ext cx="76212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pos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4" name=""/>
          <p:cNvCxnSpPr>
            <a:stCxn id="2089" idx="4"/>
            <a:endCxn id="2093" idx="0"/>
          </p:cNvCxnSpPr>
          <p:nvPr/>
        </p:nvCxnSpPr>
        <p:spPr>
          <a:xfrm flipH="1">
            <a:off x="8305560" y="45720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5" name=""/>
          <p:cNvSpPr/>
          <p:nvPr/>
        </p:nvSpPr>
        <p:spPr>
          <a:xfrm>
            <a:off x="1828800" y="8380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429000" y="1752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219320" y="62485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8305920" y="56386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638680" y="57150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58000" y="16765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153280" y="16765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934320" y="57150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181480" y="17524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971800" y="61722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5" name=""/>
          <p:cNvCxnSpPr>
            <a:stCxn id="2003" idx="2"/>
            <a:endCxn id="2014" idx="0"/>
          </p:cNvCxnSpPr>
          <p:nvPr/>
        </p:nvCxnSpPr>
        <p:spPr>
          <a:xfrm>
            <a:off x="2018880" y="2361960"/>
            <a:ext cx="22932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6" name=""/>
          <p:cNvCxnSpPr>
            <a:stCxn id="1959" idx="3"/>
            <a:endCxn id="2014" idx="3"/>
          </p:cNvCxnSpPr>
          <p:nvPr/>
        </p:nvCxnSpPr>
        <p:spPr>
          <a:xfrm flipV="1">
            <a:off x="1523520" y="5049360"/>
            <a:ext cx="42804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7" name=""/>
          <p:cNvSpPr/>
          <p:nvPr/>
        </p:nvSpPr>
        <p:spPr>
          <a:xfrm>
            <a:off x="1371600" y="297180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o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133720" y="297180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 cl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895480" y="297180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 susp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657600" y="297180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 res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419720" y="297180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jo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257800" y="297180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 le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3" name=""/>
          <p:cNvCxnSpPr>
            <a:stCxn id="2107" idx="5"/>
            <a:endCxn id="1952" idx="0"/>
          </p:cNvCxnSpPr>
          <p:nvPr/>
        </p:nvCxnSpPr>
        <p:spPr>
          <a:xfrm>
            <a:off x="1956960" y="3166920"/>
            <a:ext cx="2539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4" name=""/>
          <p:cNvCxnSpPr>
            <a:stCxn id="2108" idx="5"/>
            <a:endCxn id="1952" idx="0"/>
          </p:cNvCxnSpPr>
          <p:nvPr/>
        </p:nvCxnSpPr>
        <p:spPr>
          <a:xfrm>
            <a:off x="2719440" y="3166920"/>
            <a:ext cx="17769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5" name=""/>
          <p:cNvCxnSpPr>
            <a:stCxn id="2109" idx="5"/>
            <a:endCxn id="1952" idx="0"/>
          </p:cNvCxnSpPr>
          <p:nvPr/>
        </p:nvCxnSpPr>
        <p:spPr>
          <a:xfrm>
            <a:off x="3481200" y="3166920"/>
            <a:ext cx="101484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6" name=""/>
          <p:cNvCxnSpPr>
            <a:stCxn id="2110" idx="5"/>
            <a:endCxn id="1952" idx="0"/>
          </p:cNvCxnSpPr>
          <p:nvPr/>
        </p:nvCxnSpPr>
        <p:spPr>
          <a:xfrm>
            <a:off x="4242960" y="3166920"/>
            <a:ext cx="2530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7" name=""/>
          <p:cNvCxnSpPr>
            <a:stCxn id="2111" idx="4"/>
            <a:endCxn id="1952" idx="0"/>
          </p:cNvCxnSpPr>
          <p:nvPr/>
        </p:nvCxnSpPr>
        <p:spPr>
          <a:xfrm flipH="1">
            <a:off x="4495320" y="3200040"/>
            <a:ext cx="2671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8" name=""/>
          <p:cNvCxnSpPr>
            <a:stCxn id="2112" idx="3"/>
            <a:endCxn id="1952" idx="0"/>
          </p:cNvCxnSpPr>
          <p:nvPr/>
        </p:nvCxnSpPr>
        <p:spPr>
          <a:xfrm flipH="1">
            <a:off x="4494960" y="3166920"/>
            <a:ext cx="862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9" name=""/>
          <p:cNvCxnSpPr>
            <a:stCxn id="1966" idx="1"/>
            <a:endCxn id="1965" idx="3"/>
          </p:cNvCxnSpPr>
          <p:nvPr/>
        </p:nvCxnSpPr>
        <p:spPr>
          <a:xfrm flipH="1" flipV="1">
            <a:off x="5409720" y="2475720"/>
            <a:ext cx="61056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0" name=""/>
          <p:cNvCxnSpPr>
            <a:stCxn id="1960" idx="1"/>
            <a:endCxn id="1959" idx="3"/>
          </p:cNvCxnSpPr>
          <p:nvPr/>
        </p:nvCxnSpPr>
        <p:spPr>
          <a:xfrm flipH="1">
            <a:off x="1523520" y="5524200"/>
            <a:ext cx="61056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1" name=""/>
          <p:cNvCxnSpPr>
            <a:stCxn id="2046" idx="1"/>
            <a:endCxn id="1959" idx="3"/>
          </p:cNvCxnSpPr>
          <p:nvPr/>
        </p:nvCxnSpPr>
        <p:spPr>
          <a:xfrm flipH="1" flipV="1">
            <a:off x="1523520" y="5536800"/>
            <a:ext cx="4572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2" name=""/>
          <p:cNvCxnSpPr>
            <a:stCxn id="2066" idx="1"/>
            <a:endCxn id="1961" idx="3"/>
          </p:cNvCxnSpPr>
          <p:nvPr/>
        </p:nvCxnSpPr>
        <p:spPr>
          <a:xfrm flipH="1" flipV="1">
            <a:off x="3733560" y="2247480"/>
            <a:ext cx="358200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3" name=""/>
          <p:cNvSpPr/>
          <p:nvPr/>
        </p:nvSpPr>
        <p:spPr>
          <a:xfrm>
            <a:off x="3505320" y="4267080"/>
            <a:ext cx="7617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3" name=""/>
          <p:cNvCxnSpPr>
            <a:stCxn id="2073" idx="3"/>
            <a:endCxn id="2030" idx="1"/>
          </p:cNvCxnSpPr>
          <p:nvPr/>
        </p:nvCxnSpPr>
        <p:spPr>
          <a:xfrm>
            <a:off x="4266720" y="4419720"/>
            <a:ext cx="762840" cy="1753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0" name=""/>
          <p:cNvSpPr/>
          <p:nvPr/>
        </p:nvSpPr>
        <p:spPr>
          <a:xfrm>
            <a:off x="0" y="3581280"/>
            <a:ext cx="685800" cy="22860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ac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033" idx="1"/>
            <a:endCxn id="1960" idx="3"/>
          </p:cNvCxnSpPr>
          <p:nvPr/>
        </p:nvCxnSpPr>
        <p:spPr>
          <a:xfrm flipH="1" flipV="1">
            <a:off x="3276000" y="5524200"/>
            <a:ext cx="15246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5" name=""/>
          <p:cNvCxnSpPr>
            <a:stCxn id="2014" idx="5"/>
            <a:endCxn id="2034" idx="1"/>
          </p:cNvCxnSpPr>
          <p:nvPr/>
        </p:nvCxnSpPr>
        <p:spPr>
          <a:xfrm flipV="1">
            <a:off x="2544840" y="4685760"/>
            <a:ext cx="961200" cy="3639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26" name=""/>
          <p:cNvCxnSpPr>
            <a:stCxn id="1960" idx="0"/>
            <a:endCxn id="1952" idx="4"/>
          </p:cNvCxnSpPr>
          <p:nvPr/>
        </p:nvCxnSpPr>
        <p:spPr>
          <a:xfrm flipV="1">
            <a:off x="2705040" y="3961800"/>
            <a:ext cx="1791360" cy="14482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07" name=""/>
          <p:cNvSpPr/>
          <p:nvPr/>
        </p:nvSpPr>
        <p:spPr>
          <a:xfrm>
            <a:off x="5410080" y="3809880"/>
            <a:ext cx="838440" cy="304920"/>
          </a:xfrm>
          <a:prstGeom prst="ellips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ob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7" name=""/>
          <p:cNvCxnSpPr>
            <a:stCxn id="1923" idx="2"/>
            <a:endCxn id="1952" idx="1"/>
          </p:cNvCxnSpPr>
          <p:nvPr/>
        </p:nvCxnSpPr>
        <p:spPr>
          <a:xfrm>
            <a:off x="3161880" y="2590560"/>
            <a:ext cx="795960" cy="851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28" name=""/>
          <p:cNvCxnSpPr>
            <a:stCxn id="1959" idx="0"/>
            <a:endCxn id="1952" idx="3"/>
          </p:cNvCxnSpPr>
          <p:nvPr/>
        </p:nvCxnSpPr>
        <p:spPr>
          <a:xfrm flipV="1">
            <a:off x="952200" y="3873240"/>
            <a:ext cx="3005640" cy="1537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29" name=""/>
          <p:cNvCxnSpPr>
            <a:stCxn id="2002" idx="2"/>
            <a:endCxn id="1952" idx="2"/>
          </p:cNvCxnSpPr>
          <p:nvPr/>
        </p:nvCxnSpPr>
        <p:spPr>
          <a:xfrm>
            <a:off x="1409760" y="2590560"/>
            <a:ext cx="2324880" cy="1067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25146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7432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2004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9718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876920" y="45720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352680" y="3049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8991720" y="3049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3580920" y="670572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8" name=""/>
          <p:cNvCxnSpPr>
            <a:stCxn id="2139" idx="0"/>
            <a:endCxn id="2140" idx="6"/>
          </p:cNvCxnSpPr>
          <p:nvPr/>
        </p:nvCxnSpPr>
        <p:spPr>
          <a:xfrm flipH="1" flipV="1">
            <a:off x="4571640" y="4876200"/>
            <a:ext cx="572400" cy="143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41" name=""/>
          <p:cNvSpPr/>
          <p:nvPr/>
        </p:nvSpPr>
        <p:spPr>
          <a:xfrm>
            <a:off x="3429000" y="5638680"/>
            <a:ext cx="228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514600" y="541008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ivered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438280" y="914400"/>
            <a:ext cx="8384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Exter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676520" y="380880"/>
            <a:ext cx="114300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828800" y="9907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3352680" y="304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7" name=""/>
          <p:cNvCxnSpPr>
            <a:stCxn id="2148" idx="0"/>
            <a:endCxn id="2144" idx="4"/>
          </p:cNvCxnSpPr>
          <p:nvPr/>
        </p:nvCxnSpPr>
        <p:spPr>
          <a:xfrm flipV="1">
            <a:off x="2095200" y="761760"/>
            <a:ext cx="153000" cy="67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9" name=""/>
          <p:cNvCxnSpPr>
            <a:stCxn id="2144" idx="5"/>
            <a:endCxn id="2143" idx="0"/>
          </p:cNvCxnSpPr>
          <p:nvPr/>
        </p:nvCxnSpPr>
        <p:spPr>
          <a:xfrm>
            <a:off x="2652480" y="706320"/>
            <a:ext cx="205560" cy="20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a Actor services-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952880" y="50292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H="1">
            <a:off x="5334120" y="5181480"/>
            <a:ext cx="36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581280" y="64008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905120" y="14479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8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2057400" y="19051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057400" y="1752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048120" y="4648320"/>
            <a:ext cx="152388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ope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5" name=""/>
          <p:cNvCxnSpPr/>
          <p:nvPr/>
        </p:nvCxnSpPr>
        <p:spPr>
          <a:xfrm rot="5400000">
            <a:off x="27036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6" name=""/>
          <p:cNvCxnSpPr/>
          <p:nvPr/>
        </p:nvCxnSpPr>
        <p:spPr>
          <a:xfrm rot="5400000">
            <a:off x="29322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7" name=""/>
          <p:cNvCxnSpPr/>
          <p:nvPr/>
        </p:nvCxnSpPr>
        <p:spPr>
          <a:xfrm rot="5400000">
            <a:off x="31608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8" name=""/>
          <p:cNvSpPr/>
          <p:nvPr/>
        </p:nvSpPr>
        <p:spPr>
          <a:xfrm>
            <a:off x="152280" y="2057400"/>
            <a:ext cx="7010640" cy="2362320"/>
          </a:xfrm>
          <a:prstGeom prst="rect">
            <a:avLst/>
          </a:prstGeom>
          <a:solidFill>
            <a:srgbClr val="00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286000" y="2895480"/>
            <a:ext cx="45720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04920" y="2133720"/>
            <a:ext cx="1828800" cy="21333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5720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62120" y="2438280"/>
            <a:ext cx="30456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06668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37160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4382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26668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1240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8954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286000" y="2133720"/>
            <a:ext cx="4724280" cy="304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:   Agent  coordination+ User connection + Object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341080" y="2895480"/>
            <a:ext cx="110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600200" y="2133720"/>
            <a:ext cx="533520" cy="533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981080" y="2819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3429000" y="28191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45720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35268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438280" y="3962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7" name=""/>
          <p:cNvCxnSpPr>
            <a:stCxn id="2166" idx="0"/>
            <a:endCxn id="2165" idx="0"/>
          </p:cNvCxnSpPr>
          <p:nvPr/>
        </p:nvCxnSpPr>
        <p:spPr>
          <a:xfrm rot="5400000">
            <a:off x="266544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8" name=""/>
          <p:cNvCxnSpPr>
            <a:stCxn id="2168" idx="0"/>
            <a:endCxn id="2166" idx="0"/>
          </p:cNvCxnSpPr>
          <p:nvPr/>
        </p:nvCxnSpPr>
        <p:spPr>
          <a:xfrm rot="5400000">
            <a:off x="289404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9" name=""/>
          <p:cNvCxnSpPr>
            <a:stCxn id="2167" idx="0"/>
            <a:endCxn id="2168" idx="0"/>
          </p:cNvCxnSpPr>
          <p:nvPr/>
        </p:nvCxnSpPr>
        <p:spPr>
          <a:xfrm rot="5400000">
            <a:off x="312264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0" name=""/>
          <p:cNvCxnSpPr>
            <a:stCxn id="2162" idx="0"/>
            <a:endCxn id="2161" idx="0"/>
          </p:cNvCxnSpPr>
          <p:nvPr/>
        </p:nvCxnSpPr>
        <p:spPr>
          <a:xfrm rot="5400000">
            <a:off x="760320" y="2285640"/>
            <a:ext cx="2520" cy="305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1" name=""/>
          <p:cNvCxnSpPr>
            <a:stCxn id="2163" idx="0"/>
            <a:endCxn id="2162" idx="0"/>
          </p:cNvCxnSpPr>
          <p:nvPr/>
        </p:nvCxnSpPr>
        <p:spPr>
          <a:xfrm rot="5400000">
            <a:off x="1065240" y="2285640"/>
            <a:ext cx="2520" cy="305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2" name=""/>
          <p:cNvCxnSpPr>
            <a:stCxn id="2164" idx="0"/>
            <a:endCxn id="2163" idx="0"/>
          </p:cNvCxnSpPr>
          <p:nvPr/>
        </p:nvCxnSpPr>
        <p:spPr>
          <a:xfrm rot="5400000">
            <a:off x="1370160" y="2286000"/>
            <a:ext cx="2520" cy="30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3" name=""/>
          <p:cNvSpPr/>
          <p:nvPr/>
        </p:nvSpPr>
        <p:spPr>
          <a:xfrm>
            <a:off x="5029200" y="2514600"/>
            <a:ext cx="19810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76520" y="2971800"/>
            <a:ext cx="30456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3962520"/>
            <a:ext cx="15238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e systems 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228600" y="4648320"/>
            <a:ext cx="1295280" cy="609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7" name=""/>
          <p:cNvCxnSpPr>
            <a:stCxn id="2185" idx="2"/>
            <a:endCxn id="2186" idx="0"/>
          </p:cNvCxnSpPr>
          <p:nvPr/>
        </p:nvCxnSpPr>
        <p:spPr>
          <a:xfrm flipH="1">
            <a:off x="875520" y="4191120"/>
            <a:ext cx="34380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88" name=""/>
          <p:cNvSpPr/>
          <p:nvPr/>
        </p:nvSpPr>
        <p:spPr>
          <a:xfrm>
            <a:off x="7848720" y="1143000"/>
            <a:ext cx="685800" cy="533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391520" y="457200"/>
            <a:ext cx="99036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315200" y="106668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7391520" y="1523880"/>
            <a:ext cx="30456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2" name=""/>
          <p:cNvCxnSpPr>
            <a:stCxn id="2190" idx="2"/>
            <a:endCxn id="2189" idx="4"/>
          </p:cNvCxnSpPr>
          <p:nvPr/>
        </p:nvCxnSpPr>
        <p:spPr>
          <a:xfrm flipV="1">
            <a:off x="7543440" y="913680"/>
            <a:ext cx="34380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3" name=""/>
          <p:cNvCxnSpPr>
            <a:stCxn id="2189" idx="4"/>
            <a:endCxn id="2188" idx="0"/>
          </p:cNvCxnSpPr>
          <p:nvPr/>
        </p:nvCxnSpPr>
        <p:spPr>
          <a:xfrm>
            <a:off x="7886880" y="914400"/>
            <a:ext cx="305280" cy="21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94" name=""/>
          <p:cNvSpPr/>
          <p:nvPr/>
        </p:nvSpPr>
        <p:spPr>
          <a:xfrm flipV="1">
            <a:off x="8458200" y="30456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7696080" y="17524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6" name=""/>
          <p:cNvCxnSpPr>
            <a:stCxn id="2140" idx="0"/>
            <a:endCxn id="2176" idx="3"/>
          </p:cNvCxnSpPr>
          <p:nvPr/>
        </p:nvCxnSpPr>
        <p:spPr>
          <a:xfrm flipH="1" flipV="1">
            <a:off x="3580560" y="4076280"/>
            <a:ext cx="229320" cy="57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97" name=""/>
          <p:cNvSpPr/>
          <p:nvPr/>
        </p:nvSpPr>
        <p:spPr>
          <a:xfrm>
            <a:off x="7010280" y="2286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352680" y="62485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600200" y="2666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276720" y="32767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305920" y="914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124080" y="6858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3" name=""/>
          <p:cNvCxnSpPr>
            <a:stCxn id="2140" idx="4"/>
            <a:endCxn id="2142" idx="3"/>
          </p:cNvCxnSpPr>
          <p:nvPr/>
        </p:nvCxnSpPr>
        <p:spPr>
          <a:xfrm flipH="1">
            <a:off x="3656880" y="5105160"/>
            <a:ext cx="153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"/>
          <p:cNvSpPr/>
          <p:nvPr/>
        </p:nvSpPr>
        <p:spPr>
          <a:xfrm>
            <a:off x="685800" y="990720"/>
            <a:ext cx="8380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a Reques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4343400" y="914400"/>
            <a:ext cx="838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b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6002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18288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2860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0574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057400" y="4876920"/>
            <a:ext cx="1143000" cy="380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Uses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 request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52280" y="457200"/>
            <a:ext cx="114300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C Ask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505320" y="457200"/>
            <a:ext cx="114300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D provide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876920" y="45720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ig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276720" y="52578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a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1066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581280" y="1066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523880" y="3049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8991720" y="30492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219320" y="6705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523880" y="304560"/>
            <a:ext cx="0" cy="533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5181480" y="304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2" name=""/>
          <p:cNvCxnSpPr>
            <a:stCxn id="2223" idx="0"/>
            <a:endCxn id="2224" idx="6"/>
          </p:cNvCxnSpPr>
          <p:nvPr/>
        </p:nvCxnSpPr>
        <p:spPr>
          <a:xfrm flipH="1" flipV="1">
            <a:off x="4647960" y="4952520"/>
            <a:ext cx="496080" cy="676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225" name=""/>
          <p:cNvCxnSpPr>
            <a:stCxn id="2215" idx="2"/>
            <a:endCxn id="2211" idx="4"/>
          </p:cNvCxnSpPr>
          <p:nvPr/>
        </p:nvCxnSpPr>
        <p:spPr>
          <a:xfrm flipV="1">
            <a:off x="266760" y="837360"/>
            <a:ext cx="457920" cy="6865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26" name=""/>
          <p:cNvCxnSpPr>
            <a:stCxn id="2211" idx="5"/>
            <a:endCxn id="2204" idx="0"/>
          </p:cNvCxnSpPr>
          <p:nvPr/>
        </p:nvCxnSpPr>
        <p:spPr>
          <a:xfrm flipH="1">
            <a:off x="1104480" y="782640"/>
            <a:ext cx="24480" cy="208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227" name=""/>
          <p:cNvCxnSpPr>
            <a:stCxn id="2216" idx="2"/>
            <a:endCxn id="2212" idx="4"/>
          </p:cNvCxnSpPr>
          <p:nvPr/>
        </p:nvCxnSpPr>
        <p:spPr>
          <a:xfrm flipV="1">
            <a:off x="3847680" y="837360"/>
            <a:ext cx="22932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8" name=""/>
          <p:cNvCxnSpPr>
            <a:stCxn id="2212" idx="4"/>
          </p:cNvCxnSpPr>
          <p:nvPr/>
        </p:nvCxnSpPr>
        <p:spPr>
          <a:xfrm>
            <a:off x="4076280" y="838080"/>
            <a:ext cx="83916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29" name=""/>
          <p:cNvCxnSpPr>
            <a:stCxn id="2230" idx="0"/>
            <a:endCxn id="2210" idx="3"/>
          </p:cNvCxnSpPr>
          <p:nvPr/>
        </p:nvCxnSpPr>
        <p:spPr>
          <a:xfrm flipV="1">
            <a:off x="2171520" y="5201640"/>
            <a:ext cx="52920" cy="20844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2231" name=""/>
          <p:cNvSpPr/>
          <p:nvPr/>
        </p:nvSpPr>
        <p:spPr>
          <a:xfrm>
            <a:off x="2514600" y="5638680"/>
            <a:ext cx="2286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600200" y="541008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438280" y="914400"/>
            <a:ext cx="8384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a Reques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676520" y="380880"/>
            <a:ext cx="114300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D Ask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828800" y="9907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V="1">
            <a:off x="3352680" y="304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6" name=""/>
          <p:cNvCxnSpPr>
            <a:stCxn id="2237" idx="0"/>
            <a:endCxn id="2233" idx="4"/>
          </p:cNvCxnSpPr>
          <p:nvPr/>
        </p:nvCxnSpPr>
        <p:spPr>
          <a:xfrm flipV="1">
            <a:off x="2095200" y="761760"/>
            <a:ext cx="153000" cy="67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8" name=""/>
          <p:cNvCxnSpPr>
            <a:stCxn id="2233" idx="5"/>
            <a:endCxn id="2232" idx="0"/>
          </p:cNvCxnSpPr>
          <p:nvPr/>
        </p:nvCxnSpPr>
        <p:spPr>
          <a:xfrm>
            <a:off x="2652480" y="706320"/>
            <a:ext cx="205560" cy="20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9" name=""/>
          <p:cNvSpPr/>
          <p:nvPr/>
        </p:nvSpPr>
        <p:spPr>
          <a:xfrm>
            <a:off x="6172200" y="914400"/>
            <a:ext cx="8380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b Provi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410080" y="380880"/>
            <a:ext cx="1143000" cy="3812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 B provide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486400" y="1066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V="1">
            <a:off x="7010280" y="304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286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572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9144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85800" y="56386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143000" y="563868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28600" y="5410080"/>
            <a:ext cx="1143000" cy="254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Deliver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9" name=""/>
          <p:cNvCxnSpPr>
            <a:stCxn id="2239" idx="0"/>
            <a:endCxn id="2240" idx="5"/>
          </p:cNvCxnSpPr>
          <p:nvPr/>
        </p:nvCxnSpPr>
        <p:spPr>
          <a:xfrm flipH="1" flipV="1">
            <a:off x="6385680" y="705960"/>
            <a:ext cx="205560" cy="20880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250" name=""/>
          <p:cNvCxnSpPr>
            <a:stCxn id="2241" idx="2"/>
            <a:endCxn id="2240" idx="4"/>
          </p:cNvCxnSpPr>
          <p:nvPr/>
        </p:nvCxnSpPr>
        <p:spPr>
          <a:xfrm flipV="1">
            <a:off x="5752800" y="761760"/>
            <a:ext cx="229320" cy="76248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b Actor services-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952880" y="50292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352680" y="57150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5334120" y="5181480"/>
            <a:ext cx="3657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666880" y="64008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5562720" y="1523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8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657600" y="1523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8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905120" y="14479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8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76320" y="1523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8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219320" y="6553080"/>
            <a:ext cx="0" cy="15264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04920" y="1905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5791320" y="1828800"/>
            <a:ext cx="0" cy="763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809880" y="18288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057400" y="17524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04920" y="1828800"/>
            <a:ext cx="0" cy="763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4" name=""/>
          <p:cNvCxnSpPr>
            <a:stCxn id="2252" idx="0"/>
            <a:endCxn id="2210" idx="6"/>
          </p:cNvCxnSpPr>
          <p:nvPr/>
        </p:nvCxnSpPr>
        <p:spPr>
          <a:xfrm flipH="1" flipV="1">
            <a:off x="3199680" y="5066640"/>
            <a:ext cx="343800" cy="63900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2224" name=""/>
          <p:cNvSpPr/>
          <p:nvPr/>
        </p:nvSpPr>
        <p:spPr>
          <a:xfrm>
            <a:off x="3429000" y="4724280"/>
            <a:ext cx="121932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designs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 request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5" name=""/>
          <p:cNvCxnSpPr/>
          <p:nvPr/>
        </p:nvCxnSpPr>
        <p:spPr>
          <a:xfrm rot="5400000">
            <a:off x="4176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6" name=""/>
          <p:cNvCxnSpPr/>
          <p:nvPr/>
        </p:nvCxnSpPr>
        <p:spPr>
          <a:xfrm rot="5400000">
            <a:off x="6462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7" name=""/>
          <p:cNvCxnSpPr/>
          <p:nvPr/>
        </p:nvCxnSpPr>
        <p:spPr>
          <a:xfrm rot="5400000">
            <a:off x="8748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8" name=""/>
          <p:cNvCxnSpPr/>
          <p:nvPr/>
        </p:nvCxnSpPr>
        <p:spPr>
          <a:xfrm rot="5400000">
            <a:off x="17892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9" name=""/>
          <p:cNvCxnSpPr/>
          <p:nvPr/>
        </p:nvCxnSpPr>
        <p:spPr>
          <a:xfrm rot="5400000">
            <a:off x="20178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0" name=""/>
          <p:cNvCxnSpPr/>
          <p:nvPr/>
        </p:nvCxnSpPr>
        <p:spPr>
          <a:xfrm rot="5400000">
            <a:off x="2246400" y="62107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1" name=""/>
          <p:cNvSpPr/>
          <p:nvPr/>
        </p:nvSpPr>
        <p:spPr>
          <a:xfrm>
            <a:off x="7848720" y="4343400"/>
            <a:ext cx="685800" cy="533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7391520" y="3809880"/>
            <a:ext cx="990360" cy="30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A requ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315200" y="426708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391520" y="4724280"/>
            <a:ext cx="304560" cy="304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5" name=""/>
          <p:cNvCxnSpPr>
            <a:stCxn id="2273" idx="2"/>
            <a:endCxn id="2272" idx="4"/>
          </p:cNvCxnSpPr>
          <p:nvPr/>
        </p:nvCxnSpPr>
        <p:spPr>
          <a:xfrm flipV="1">
            <a:off x="7543440" y="4114080"/>
            <a:ext cx="343800" cy="6102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76" name=""/>
          <p:cNvCxnSpPr/>
          <p:nvPr/>
        </p:nvCxnSpPr>
        <p:spPr>
          <a:xfrm>
            <a:off x="4266720" y="6400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77" name=""/>
          <p:cNvSpPr/>
          <p:nvPr/>
        </p:nvSpPr>
        <p:spPr>
          <a:xfrm>
            <a:off x="152280" y="2057400"/>
            <a:ext cx="7010640" cy="2362320"/>
          </a:xfrm>
          <a:prstGeom prst="rect">
            <a:avLst/>
          </a:prstGeom>
          <a:solidFill>
            <a:srgbClr val="00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562720" y="28954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886200" y="28954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286000" y="28954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04920" y="2133720"/>
            <a:ext cx="1828800" cy="21333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57200" y="2438280"/>
            <a:ext cx="304920" cy="1524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62120" y="2438280"/>
            <a:ext cx="3045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106668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37160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4382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6668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1240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8954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0384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2670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7242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4956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7150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9436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4008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1722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286000" y="2133720"/>
            <a:ext cx="4724280" cy="304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:   Agent  coordination+ User connection + Object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410560" y="289548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4011120" y="2895480"/>
            <a:ext cx="98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605200" y="2895480"/>
            <a:ext cx="9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600200" y="2133720"/>
            <a:ext cx="533520" cy="5331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981080" y="28195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V="1">
            <a:off x="67816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V="1">
            <a:off x="510552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 flipV="1">
            <a:off x="3429000" y="281916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5720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35268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438280" y="3962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95288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62940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038480" y="3962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715000" y="396252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avy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4" name=""/>
          <p:cNvCxnSpPr>
            <a:stCxn id="2287" idx="0"/>
            <a:endCxn id="2286" idx="0"/>
          </p:cNvCxnSpPr>
          <p:nvPr/>
        </p:nvCxnSpPr>
        <p:spPr>
          <a:xfrm rot="5400000">
            <a:off x="266544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5" name=""/>
          <p:cNvCxnSpPr>
            <a:stCxn id="2289" idx="0"/>
            <a:endCxn id="2287" idx="0"/>
          </p:cNvCxnSpPr>
          <p:nvPr/>
        </p:nvCxnSpPr>
        <p:spPr>
          <a:xfrm rot="5400000">
            <a:off x="289404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6" name=""/>
          <p:cNvCxnSpPr>
            <a:stCxn id="2288" idx="0"/>
            <a:endCxn id="2289" idx="0"/>
          </p:cNvCxnSpPr>
          <p:nvPr/>
        </p:nvCxnSpPr>
        <p:spPr>
          <a:xfrm rot="5400000">
            <a:off x="312264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7" name=""/>
          <p:cNvCxnSpPr/>
          <p:nvPr/>
        </p:nvCxnSpPr>
        <p:spPr>
          <a:xfrm rot="5400000">
            <a:off x="422748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8" name=""/>
          <p:cNvCxnSpPr/>
          <p:nvPr/>
        </p:nvCxnSpPr>
        <p:spPr>
          <a:xfrm rot="5400000">
            <a:off x="445608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9" name=""/>
          <p:cNvCxnSpPr/>
          <p:nvPr/>
        </p:nvCxnSpPr>
        <p:spPr>
          <a:xfrm rot="5400000">
            <a:off x="468468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0" name=""/>
          <p:cNvCxnSpPr/>
          <p:nvPr/>
        </p:nvCxnSpPr>
        <p:spPr>
          <a:xfrm rot="5400000">
            <a:off x="590400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1" name=""/>
          <p:cNvCxnSpPr/>
          <p:nvPr/>
        </p:nvCxnSpPr>
        <p:spPr>
          <a:xfrm rot="5400000">
            <a:off x="613260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2" name=""/>
          <p:cNvCxnSpPr/>
          <p:nvPr/>
        </p:nvCxnSpPr>
        <p:spPr>
          <a:xfrm rot="5400000">
            <a:off x="636120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3" name=""/>
          <p:cNvCxnSpPr>
            <a:stCxn id="2283" idx="0"/>
            <a:endCxn id="2282" idx="0"/>
          </p:cNvCxnSpPr>
          <p:nvPr/>
        </p:nvCxnSpPr>
        <p:spPr>
          <a:xfrm rot="5400000">
            <a:off x="760320" y="2285640"/>
            <a:ext cx="2520" cy="305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4" name=""/>
          <p:cNvCxnSpPr>
            <a:stCxn id="2284" idx="0"/>
            <a:endCxn id="2283" idx="0"/>
          </p:cNvCxnSpPr>
          <p:nvPr/>
        </p:nvCxnSpPr>
        <p:spPr>
          <a:xfrm rot="5400000">
            <a:off x="1065240" y="2285640"/>
            <a:ext cx="2520" cy="305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5" name=""/>
          <p:cNvCxnSpPr>
            <a:stCxn id="2285" idx="0"/>
            <a:endCxn id="2284" idx="0"/>
          </p:cNvCxnSpPr>
          <p:nvPr/>
        </p:nvCxnSpPr>
        <p:spPr>
          <a:xfrm rot="5400000">
            <a:off x="1370160" y="2286000"/>
            <a:ext cx="2520" cy="30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6" name=""/>
          <p:cNvSpPr/>
          <p:nvPr/>
        </p:nvSpPr>
        <p:spPr>
          <a:xfrm>
            <a:off x="5029200" y="2514600"/>
            <a:ext cx="19810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1676520" y="2971800"/>
            <a:ext cx="30456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57200" y="3962520"/>
            <a:ext cx="15238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28600" y="4648320"/>
            <a:ext cx="762120" cy="3045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0" name=""/>
          <p:cNvCxnSpPr>
            <a:stCxn id="2328" idx="2"/>
            <a:endCxn id="2329" idx="0"/>
          </p:cNvCxnSpPr>
          <p:nvPr/>
        </p:nvCxnSpPr>
        <p:spPr>
          <a:xfrm flipH="1">
            <a:off x="609120" y="4191120"/>
            <a:ext cx="610560" cy="45792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331" name=""/>
          <p:cNvCxnSpPr>
            <a:stCxn id="2272" idx="4"/>
            <a:endCxn id="2271" idx="0"/>
          </p:cNvCxnSpPr>
          <p:nvPr/>
        </p:nvCxnSpPr>
        <p:spPr>
          <a:xfrm>
            <a:off x="7886880" y="4114800"/>
            <a:ext cx="305280" cy="2102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32" name=""/>
          <p:cNvSpPr/>
          <p:nvPr/>
        </p:nvSpPr>
        <p:spPr>
          <a:xfrm>
            <a:off x="8686800" y="4267080"/>
            <a:ext cx="30492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848720" y="2971800"/>
            <a:ext cx="685800" cy="533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391520" y="2438280"/>
            <a:ext cx="99036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B requ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315200" y="289548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391520" y="3352680"/>
            <a:ext cx="304560" cy="3049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7" name=""/>
          <p:cNvCxnSpPr>
            <a:stCxn id="2335" idx="2"/>
            <a:endCxn id="2334" idx="4"/>
          </p:cNvCxnSpPr>
          <p:nvPr/>
        </p:nvCxnSpPr>
        <p:spPr>
          <a:xfrm flipV="1">
            <a:off x="7543440" y="2742480"/>
            <a:ext cx="343800" cy="61020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38" name=""/>
          <p:cNvCxnSpPr>
            <a:stCxn id="2334" idx="4"/>
            <a:endCxn id="2333" idx="0"/>
          </p:cNvCxnSpPr>
          <p:nvPr/>
        </p:nvCxnSpPr>
        <p:spPr>
          <a:xfrm>
            <a:off x="7886880" y="2743200"/>
            <a:ext cx="305280" cy="210240"/>
          </a:xfrm>
          <a:prstGeom prst="straightConnector1">
            <a:avLst/>
          </a:prstGeom>
          <a:ln w="1260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39" name=""/>
          <p:cNvSpPr/>
          <p:nvPr/>
        </p:nvSpPr>
        <p:spPr>
          <a:xfrm>
            <a:off x="8686800" y="2895480"/>
            <a:ext cx="304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848720" y="1143000"/>
            <a:ext cx="685800" cy="533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391520" y="609480"/>
            <a:ext cx="9903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C 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315200" y="106668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391520" y="1523880"/>
            <a:ext cx="304560" cy="3049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4" name=""/>
          <p:cNvCxnSpPr>
            <a:stCxn id="2342" idx="2"/>
            <a:endCxn id="2341" idx="4"/>
          </p:cNvCxnSpPr>
          <p:nvPr/>
        </p:nvCxnSpPr>
        <p:spPr>
          <a:xfrm flipV="1">
            <a:off x="7543440" y="913680"/>
            <a:ext cx="343800" cy="6102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345" name=""/>
          <p:cNvCxnSpPr>
            <a:stCxn id="2341" idx="4"/>
            <a:endCxn id="2340" idx="0"/>
          </p:cNvCxnSpPr>
          <p:nvPr/>
        </p:nvCxnSpPr>
        <p:spPr>
          <a:xfrm>
            <a:off x="7886880" y="914400"/>
            <a:ext cx="305280" cy="21024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46" name=""/>
          <p:cNvSpPr/>
          <p:nvPr/>
        </p:nvSpPr>
        <p:spPr>
          <a:xfrm>
            <a:off x="8686800" y="106668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848720" y="5943600"/>
            <a:ext cx="685800" cy="533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391520" y="5410080"/>
            <a:ext cx="990360" cy="3049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A 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315200" y="5867280"/>
            <a:ext cx="4572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391520" y="6324480"/>
            <a:ext cx="304560" cy="304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1" name=""/>
          <p:cNvCxnSpPr>
            <a:stCxn id="2349" idx="2"/>
            <a:endCxn id="2348" idx="4"/>
          </p:cNvCxnSpPr>
          <p:nvPr/>
        </p:nvCxnSpPr>
        <p:spPr>
          <a:xfrm flipV="1">
            <a:off x="7543440" y="5714280"/>
            <a:ext cx="343800" cy="6102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352" name=""/>
          <p:cNvCxnSpPr>
            <a:stCxn id="2348" idx="4"/>
            <a:endCxn id="2347" idx="0"/>
          </p:cNvCxnSpPr>
          <p:nvPr/>
        </p:nvCxnSpPr>
        <p:spPr>
          <a:xfrm>
            <a:off x="7886880" y="5715000"/>
            <a:ext cx="305280" cy="2102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53" name=""/>
          <p:cNvSpPr/>
          <p:nvPr/>
        </p:nvSpPr>
        <p:spPr>
          <a:xfrm>
            <a:off x="8686800" y="5867280"/>
            <a:ext cx="30492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7696080" y="3581280"/>
            <a:ext cx="1295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696080" y="4952880"/>
            <a:ext cx="129564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696080" y="6553080"/>
            <a:ext cx="129564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696080" y="1752480"/>
            <a:ext cx="12956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8" name=""/>
          <p:cNvCxnSpPr>
            <a:stCxn id="2224" idx="0"/>
            <a:endCxn id="2309" idx="2"/>
          </p:cNvCxnSpPr>
          <p:nvPr/>
        </p:nvCxnSpPr>
        <p:spPr>
          <a:xfrm flipH="1" flipV="1">
            <a:off x="3009600" y="4190400"/>
            <a:ext cx="1028880" cy="53388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59" name=""/>
          <p:cNvSpPr/>
          <p:nvPr/>
        </p:nvSpPr>
        <p:spPr>
          <a:xfrm>
            <a:off x="7010280" y="2286000"/>
            <a:ext cx="19814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010280" y="2209680"/>
            <a:ext cx="19814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010280" y="2133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010280" y="2362320"/>
            <a:ext cx="198144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438280" y="62485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600200" y="2666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066680" y="63244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8305920" y="57150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8305920" y="4114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276720" y="32767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305920" y="27432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858000" y="685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8305920" y="914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295280" y="7621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952880" y="7621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7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124080" y="6858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7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876920" y="32767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553080" y="32767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7" name=""/>
          <p:cNvCxnSpPr>
            <a:stCxn id="2230" idx="1"/>
            <a:endCxn id="2248" idx="3"/>
          </p:cNvCxnSpPr>
          <p:nvPr/>
        </p:nvCxnSpPr>
        <p:spPr>
          <a:xfrm flipH="1">
            <a:off x="1370880" y="5536800"/>
            <a:ext cx="229320" cy="1080"/>
          </a:xfrm>
          <a:prstGeom prst="straightConnector1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2378" name=""/>
          <p:cNvSpPr/>
          <p:nvPr/>
        </p:nvSpPr>
        <p:spPr>
          <a:xfrm>
            <a:off x="1066680" y="4724280"/>
            <a:ext cx="7621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9" name=""/>
          <p:cNvCxnSpPr>
            <a:stCxn id="2328" idx="2"/>
            <a:endCxn id="2378" idx="0"/>
          </p:cNvCxnSpPr>
          <p:nvPr/>
        </p:nvCxnSpPr>
        <p:spPr>
          <a:xfrm>
            <a:off x="1218960" y="4190760"/>
            <a:ext cx="229320" cy="5338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380" name=""/>
          <p:cNvSpPr/>
          <p:nvPr/>
        </p:nvSpPr>
        <p:spPr>
          <a:xfrm>
            <a:off x="5562720" y="5867280"/>
            <a:ext cx="7617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724280" y="640080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562720" y="6400800"/>
            <a:ext cx="7617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400800" y="640080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4" name=""/>
          <p:cNvCxnSpPr>
            <a:stCxn id="2380" idx="4"/>
            <a:endCxn id="2381" idx="0"/>
          </p:cNvCxnSpPr>
          <p:nvPr/>
        </p:nvCxnSpPr>
        <p:spPr>
          <a:xfrm flipH="1">
            <a:off x="5105160" y="609552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5" name=""/>
          <p:cNvCxnSpPr>
            <a:stCxn id="2380" idx="4"/>
            <a:endCxn id="2382" idx="0"/>
          </p:cNvCxnSpPr>
          <p:nvPr/>
        </p:nvCxnSpPr>
        <p:spPr>
          <a:xfrm>
            <a:off x="5943240" y="60955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6" name=""/>
          <p:cNvCxnSpPr>
            <a:stCxn id="2380" idx="4"/>
            <a:endCxn id="2383" idx="0"/>
          </p:cNvCxnSpPr>
          <p:nvPr/>
        </p:nvCxnSpPr>
        <p:spPr>
          <a:xfrm>
            <a:off x="5943600" y="6095520"/>
            <a:ext cx="8388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87" name=""/>
          <p:cNvSpPr/>
          <p:nvPr/>
        </p:nvSpPr>
        <p:spPr>
          <a:xfrm>
            <a:off x="4267080" y="586728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495680" y="5486400"/>
            <a:ext cx="14479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971800" y="640080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886200" y="640080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1" name=""/>
          <p:cNvCxnSpPr>
            <a:stCxn id="2388" idx="4"/>
            <a:endCxn id="2387" idx="0"/>
          </p:cNvCxnSpPr>
          <p:nvPr/>
        </p:nvCxnSpPr>
        <p:spPr>
          <a:xfrm flipH="1">
            <a:off x="4647600" y="5714640"/>
            <a:ext cx="5720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stCxn id="2388" idx="4"/>
            <a:endCxn id="2380" idx="0"/>
          </p:cNvCxnSpPr>
          <p:nvPr/>
        </p:nvCxnSpPr>
        <p:spPr>
          <a:xfrm>
            <a:off x="5219280" y="5714640"/>
            <a:ext cx="7246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stCxn id="2387" idx="4"/>
            <a:endCxn id="2389" idx="0"/>
          </p:cNvCxnSpPr>
          <p:nvPr/>
        </p:nvCxnSpPr>
        <p:spPr>
          <a:xfrm flipH="1">
            <a:off x="3351960" y="6095520"/>
            <a:ext cx="1296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4" name=""/>
          <p:cNvCxnSpPr>
            <a:stCxn id="2390" idx="0"/>
            <a:endCxn id="2390" idx="0"/>
          </p:cNvCxnSpPr>
          <p:nvPr/>
        </p:nvCxnSpPr>
        <p:spPr>
          <a:xfrm>
            <a:off x="4266720" y="6400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87" idx="4"/>
            <a:endCxn id="2390" idx="0"/>
          </p:cNvCxnSpPr>
          <p:nvPr/>
        </p:nvCxnSpPr>
        <p:spPr>
          <a:xfrm flipH="1">
            <a:off x="4266360" y="609552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"/>
          <p:cNvSpPr/>
          <p:nvPr/>
        </p:nvSpPr>
        <p:spPr>
          <a:xfrm>
            <a:off x="3657600" y="457200"/>
            <a:ext cx="1371600" cy="495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0880" y="685800"/>
            <a:ext cx="533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04920" y="4648320"/>
            <a:ext cx="609480" cy="6094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9" name=""/>
          <p:cNvCxnSpPr>
            <a:stCxn id="2398" idx="3"/>
            <a:endCxn id="2400" idx="2"/>
          </p:cNvCxnSpPr>
          <p:nvPr/>
        </p:nvCxnSpPr>
        <p:spPr>
          <a:xfrm>
            <a:off x="914400" y="4952880"/>
            <a:ext cx="534240" cy="388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401" name=""/>
          <p:cNvSpPr/>
          <p:nvPr/>
        </p:nvSpPr>
        <p:spPr>
          <a:xfrm>
            <a:off x="228600" y="2590920"/>
            <a:ext cx="83808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2" name=""/>
          <p:cNvCxnSpPr>
            <a:stCxn id="2398" idx="0"/>
            <a:endCxn id="2401" idx="4"/>
          </p:cNvCxnSpPr>
          <p:nvPr/>
        </p:nvCxnSpPr>
        <p:spPr>
          <a:xfrm flipV="1">
            <a:off x="609480" y="3047400"/>
            <a:ext cx="38880" cy="16009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03" name=""/>
          <p:cNvCxnSpPr>
            <a:stCxn id="2401" idx="0"/>
            <a:endCxn id="2397" idx="2"/>
          </p:cNvCxnSpPr>
          <p:nvPr/>
        </p:nvCxnSpPr>
        <p:spPr>
          <a:xfrm flipV="1">
            <a:off x="647280" y="1218960"/>
            <a:ext cx="1080" cy="1372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04" name=""/>
          <p:cNvCxnSpPr>
            <a:stCxn id="2397" idx="3"/>
            <a:endCxn id="2405" idx="2"/>
          </p:cNvCxnSpPr>
          <p:nvPr/>
        </p:nvCxnSpPr>
        <p:spPr>
          <a:xfrm flipV="1">
            <a:off x="914400" y="932760"/>
            <a:ext cx="534240" cy="19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05" name=""/>
          <p:cNvSpPr/>
          <p:nvPr/>
        </p:nvSpPr>
        <p:spPr>
          <a:xfrm>
            <a:off x="1447920" y="762120"/>
            <a:ext cx="1066680" cy="342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6" name=""/>
          <p:cNvCxnSpPr>
            <a:stCxn id="2405" idx="4"/>
            <a:endCxn id="2407" idx="0"/>
          </p:cNvCxnSpPr>
          <p:nvPr/>
        </p:nvCxnSpPr>
        <p:spPr>
          <a:xfrm flipH="1">
            <a:off x="1942560" y="1104480"/>
            <a:ext cx="38520" cy="191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08" name=""/>
          <p:cNvSpPr/>
          <p:nvPr/>
        </p:nvSpPr>
        <p:spPr>
          <a:xfrm>
            <a:off x="3962520" y="25909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8153280" y="647640"/>
            <a:ext cx="533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8077320" y="457200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924680" y="2666880"/>
            <a:ext cx="99072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2" name=""/>
          <p:cNvCxnSpPr>
            <a:stCxn id="2410" idx="0"/>
            <a:endCxn id="2411" idx="4"/>
          </p:cNvCxnSpPr>
          <p:nvPr/>
        </p:nvCxnSpPr>
        <p:spPr>
          <a:xfrm flipV="1">
            <a:off x="8381880" y="3123720"/>
            <a:ext cx="38880" cy="14486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13" name=""/>
          <p:cNvCxnSpPr>
            <a:stCxn id="2411" idx="0"/>
            <a:endCxn id="2409" idx="2"/>
          </p:cNvCxnSpPr>
          <p:nvPr/>
        </p:nvCxnSpPr>
        <p:spPr>
          <a:xfrm flipV="1">
            <a:off x="8419680" y="1180440"/>
            <a:ext cx="1080" cy="1486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14" name=""/>
          <p:cNvSpPr/>
          <p:nvPr/>
        </p:nvSpPr>
        <p:spPr>
          <a:xfrm>
            <a:off x="6629400" y="4648320"/>
            <a:ext cx="9144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5" name=""/>
          <p:cNvCxnSpPr>
            <a:stCxn id="2410" idx="1"/>
            <a:endCxn id="2414" idx="6"/>
          </p:cNvCxnSpPr>
          <p:nvPr/>
        </p:nvCxnSpPr>
        <p:spPr>
          <a:xfrm flipH="1">
            <a:off x="7543440" y="4838400"/>
            <a:ext cx="53424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16" name=""/>
          <p:cNvCxnSpPr>
            <a:stCxn id="2414" idx="0"/>
            <a:endCxn id="2417" idx="2"/>
          </p:cNvCxnSpPr>
          <p:nvPr/>
        </p:nvCxnSpPr>
        <p:spPr>
          <a:xfrm flipH="1" flipV="1">
            <a:off x="7048080" y="4190760"/>
            <a:ext cx="38880" cy="457920"/>
          </a:xfrm>
          <a:prstGeom prst="straightConnector1">
            <a:avLst/>
          </a:prstGeom>
          <a:ln w="19080">
            <a:solidFill>
              <a:srgbClr val="008080"/>
            </a:solidFill>
            <a:miter/>
            <a:tailEnd len="med" type="triangle" w="med"/>
          </a:ln>
        </p:spPr>
      </p:cxnSp>
      <p:cxnSp>
        <p:nvCxnSpPr>
          <p:cNvPr id="2418" name=""/>
          <p:cNvCxnSpPr>
            <a:stCxn id="2419" idx="4"/>
            <a:endCxn id="2420" idx="0"/>
          </p:cNvCxnSpPr>
          <p:nvPr/>
        </p:nvCxnSpPr>
        <p:spPr>
          <a:xfrm>
            <a:off x="6972120" y="1142640"/>
            <a:ext cx="76680" cy="3056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19" name=""/>
          <p:cNvSpPr/>
          <p:nvPr/>
        </p:nvSpPr>
        <p:spPr>
          <a:xfrm>
            <a:off x="6477120" y="762120"/>
            <a:ext cx="99036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1" name=""/>
          <p:cNvCxnSpPr>
            <a:stCxn id="2409" idx="1"/>
            <a:endCxn id="2419" idx="6"/>
          </p:cNvCxnSpPr>
          <p:nvPr/>
        </p:nvCxnSpPr>
        <p:spPr>
          <a:xfrm flipH="1">
            <a:off x="7466760" y="914400"/>
            <a:ext cx="686520" cy="38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17" name=""/>
          <p:cNvSpPr/>
          <p:nvPr/>
        </p:nvSpPr>
        <p:spPr>
          <a:xfrm>
            <a:off x="67816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86200" y="64764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ject (system)</a:t>
            </a: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962520" y="472428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4" name=""/>
          <p:cNvCxnSpPr>
            <a:stCxn id="2422" idx="3"/>
            <a:endCxn id="2419" idx="2"/>
          </p:cNvCxnSpPr>
          <p:nvPr/>
        </p:nvCxnSpPr>
        <p:spPr>
          <a:xfrm>
            <a:off x="4800240" y="914400"/>
            <a:ext cx="1677240" cy="388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25" name=""/>
          <p:cNvCxnSpPr>
            <a:stCxn id="2423" idx="3"/>
            <a:endCxn id="2414" idx="3"/>
          </p:cNvCxnSpPr>
          <p:nvPr/>
        </p:nvCxnSpPr>
        <p:spPr>
          <a:xfrm flipV="1">
            <a:off x="4876920" y="4973400"/>
            <a:ext cx="1886400" cy="180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26" name=""/>
          <p:cNvCxnSpPr>
            <a:stCxn id="2423" idx="1"/>
            <a:endCxn id="2400" idx="6"/>
          </p:cNvCxnSpPr>
          <p:nvPr/>
        </p:nvCxnSpPr>
        <p:spPr>
          <a:xfrm flipH="1">
            <a:off x="2361600" y="4990680"/>
            <a:ext cx="1600920" cy="1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27" name=""/>
          <p:cNvCxnSpPr>
            <a:stCxn id="2422" idx="1"/>
            <a:endCxn id="2405" idx="6"/>
          </p:cNvCxnSpPr>
          <p:nvPr/>
        </p:nvCxnSpPr>
        <p:spPr>
          <a:xfrm flipH="1">
            <a:off x="2514240" y="914040"/>
            <a:ext cx="1372320" cy="198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28" name=""/>
          <p:cNvSpPr/>
          <p:nvPr/>
        </p:nvSpPr>
        <p:spPr>
          <a:xfrm>
            <a:off x="1295280" y="0"/>
            <a:ext cx="609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a Kernel operations-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410080" y="2590920"/>
            <a:ext cx="11430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clares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s a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1" name=""/>
          <p:cNvCxnSpPr>
            <a:stCxn id="2432" idx="6"/>
            <a:endCxn id="2408" idx="1"/>
          </p:cNvCxnSpPr>
          <p:nvPr/>
        </p:nvCxnSpPr>
        <p:spPr>
          <a:xfrm flipV="1">
            <a:off x="3276360" y="285696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33" name=""/>
          <p:cNvCxnSpPr>
            <a:stCxn id="2408" idx="3"/>
            <a:endCxn id="2430" idx="2"/>
          </p:cNvCxnSpPr>
          <p:nvPr/>
        </p:nvCxnSpPr>
        <p:spPr>
          <a:xfrm>
            <a:off x="4876560" y="28573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34" name=""/>
          <p:cNvSpPr/>
          <p:nvPr/>
        </p:nvSpPr>
        <p:spPr>
          <a:xfrm>
            <a:off x="6781680" y="1981080"/>
            <a:ext cx="533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705720" y="31240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447920" y="4800600"/>
            <a:ext cx="9144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6" name=""/>
          <p:cNvCxnSpPr>
            <a:stCxn id="2400" idx="0"/>
            <a:endCxn id="2437" idx="2"/>
          </p:cNvCxnSpPr>
          <p:nvPr/>
        </p:nvCxnSpPr>
        <p:spPr>
          <a:xfrm flipH="1" flipV="1">
            <a:off x="1866600" y="4343040"/>
            <a:ext cx="38880" cy="457920"/>
          </a:xfrm>
          <a:prstGeom prst="straightConnector1">
            <a:avLst/>
          </a:prstGeom>
          <a:ln w="19080">
            <a:solidFill>
              <a:srgbClr val="008080"/>
            </a:solidFill>
            <a:miter/>
            <a:tailEnd len="med" type="triangle" w="med"/>
          </a:ln>
        </p:spPr>
      </p:cxnSp>
      <p:sp>
        <p:nvSpPr>
          <p:cNvPr id="2437" name=""/>
          <p:cNvSpPr/>
          <p:nvPr/>
        </p:nvSpPr>
        <p:spPr>
          <a:xfrm>
            <a:off x="1600200" y="3809880"/>
            <a:ext cx="533520" cy="533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(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523880" y="3276720"/>
            <a:ext cx="609840" cy="533160"/>
          </a:xfrm>
          <a:prstGeom prst="hexagon">
            <a:avLst>
              <a:gd name="adj" fmla="val 2859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781680" y="1447920"/>
            <a:ext cx="533520" cy="5331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(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676520" y="1828800"/>
            <a:ext cx="5331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676520" y="1295280"/>
            <a:ext cx="533160" cy="5335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(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0" name=""/>
          <p:cNvCxnSpPr>
            <a:stCxn id="2437" idx="0"/>
            <a:endCxn id="2432" idx="3"/>
          </p:cNvCxnSpPr>
          <p:nvPr/>
        </p:nvCxnSpPr>
        <p:spPr>
          <a:xfrm flipV="1">
            <a:off x="1866960" y="3057120"/>
            <a:ext cx="303840" cy="75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41" name=""/>
          <p:cNvCxnSpPr>
            <a:stCxn id="2407" idx="2"/>
            <a:endCxn id="2432" idx="1"/>
          </p:cNvCxnSpPr>
          <p:nvPr/>
        </p:nvCxnSpPr>
        <p:spPr>
          <a:xfrm>
            <a:off x="1943280" y="1828800"/>
            <a:ext cx="227520" cy="90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42" name=""/>
          <p:cNvCxnSpPr>
            <a:stCxn id="2420" idx="2"/>
            <a:endCxn id="2430" idx="7"/>
          </p:cNvCxnSpPr>
          <p:nvPr/>
        </p:nvCxnSpPr>
        <p:spPr>
          <a:xfrm flipH="1">
            <a:off x="6385680" y="1981080"/>
            <a:ext cx="66276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3" name=""/>
          <p:cNvCxnSpPr>
            <a:stCxn id="2435" idx="2"/>
            <a:endCxn id="2430" idx="5"/>
          </p:cNvCxnSpPr>
          <p:nvPr/>
        </p:nvCxnSpPr>
        <p:spPr>
          <a:xfrm flipH="1" flipV="1">
            <a:off x="6385680" y="3045960"/>
            <a:ext cx="6246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2" name=""/>
          <p:cNvSpPr/>
          <p:nvPr/>
        </p:nvSpPr>
        <p:spPr>
          <a:xfrm>
            <a:off x="1981080" y="2666880"/>
            <a:ext cx="129564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 and 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"/>
          <p:cNvSpPr/>
          <p:nvPr/>
        </p:nvSpPr>
        <p:spPr>
          <a:xfrm>
            <a:off x="6553080" y="2895480"/>
            <a:ext cx="533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553080" y="25909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(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600200" y="35812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(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600200" y="25909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(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523880" y="2895480"/>
            <a:ext cx="6098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523880" y="388620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477120" y="403848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809880" y="1523880"/>
            <a:ext cx="121932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152280" y="1828800"/>
            <a:ext cx="7621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286000" y="464832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2 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362320" y="365760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5 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2280" y="4267080"/>
            <a:ext cx="609840" cy="609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286000" y="403848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4 Decl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49" idx="0"/>
            <a:endCxn id="2456" idx="2"/>
          </p:cNvCxnSpPr>
          <p:nvPr/>
        </p:nvCxnSpPr>
        <p:spPr>
          <a:xfrm>
            <a:off x="1790640" y="3885840"/>
            <a:ext cx="496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8" name=""/>
          <p:cNvCxnSpPr>
            <a:stCxn id="2449" idx="0"/>
            <a:endCxn id="2454" idx="2"/>
          </p:cNvCxnSpPr>
          <p:nvPr/>
        </p:nvCxnSpPr>
        <p:spPr>
          <a:xfrm flipV="1">
            <a:off x="1790640" y="3771360"/>
            <a:ext cx="57240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9" name=""/>
          <p:cNvSpPr/>
          <p:nvPr/>
        </p:nvSpPr>
        <p:spPr>
          <a:xfrm>
            <a:off x="1066680" y="4495680"/>
            <a:ext cx="8384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1 Obta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0" name=""/>
          <p:cNvCxnSpPr>
            <a:stCxn id="2455" idx="3"/>
            <a:endCxn id="2459" idx="2"/>
          </p:cNvCxnSpPr>
          <p:nvPr/>
        </p:nvCxnSpPr>
        <p:spPr>
          <a:xfrm>
            <a:off x="762120" y="4572000"/>
            <a:ext cx="305280" cy="1152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61" name=""/>
          <p:cNvCxnSpPr>
            <a:stCxn id="2459" idx="0"/>
            <a:endCxn id="2449" idx="0"/>
          </p:cNvCxnSpPr>
          <p:nvPr/>
        </p:nvCxnSpPr>
        <p:spPr>
          <a:xfrm flipV="1">
            <a:off x="1486080" y="3885480"/>
            <a:ext cx="305280" cy="6102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62" name=""/>
          <p:cNvCxnSpPr>
            <a:stCxn id="2449" idx="0"/>
            <a:endCxn id="2453" idx="2"/>
          </p:cNvCxnSpPr>
          <p:nvPr/>
        </p:nvCxnSpPr>
        <p:spPr>
          <a:xfrm>
            <a:off x="1790640" y="3886200"/>
            <a:ext cx="4960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3" name=""/>
          <p:cNvSpPr/>
          <p:nvPr/>
        </p:nvSpPr>
        <p:spPr>
          <a:xfrm>
            <a:off x="152280" y="3200400"/>
            <a:ext cx="99072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4" name=""/>
          <p:cNvCxnSpPr>
            <a:stCxn id="2455" idx="0"/>
            <a:endCxn id="2463" idx="4"/>
          </p:cNvCxnSpPr>
          <p:nvPr/>
        </p:nvCxnSpPr>
        <p:spPr>
          <a:xfrm flipV="1">
            <a:off x="456840" y="3656880"/>
            <a:ext cx="191160" cy="6102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65" name=""/>
          <p:cNvCxnSpPr>
            <a:stCxn id="2463" idx="0"/>
            <a:endCxn id="2452" idx="2"/>
          </p:cNvCxnSpPr>
          <p:nvPr/>
        </p:nvCxnSpPr>
        <p:spPr>
          <a:xfrm flipH="1" flipV="1">
            <a:off x="532800" y="2590200"/>
            <a:ext cx="114840" cy="610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66" name=""/>
          <p:cNvCxnSpPr>
            <a:stCxn id="2452" idx="3"/>
            <a:endCxn id="2467" idx="2"/>
          </p:cNvCxnSpPr>
          <p:nvPr/>
        </p:nvCxnSpPr>
        <p:spPr>
          <a:xfrm flipV="1">
            <a:off x="914040" y="2171160"/>
            <a:ext cx="229320" cy="38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68" name=""/>
          <p:cNvSpPr/>
          <p:nvPr/>
        </p:nvSpPr>
        <p:spPr>
          <a:xfrm>
            <a:off x="2286000" y="213372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10 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286000" y="281952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8 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86000" y="320040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7 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1" name=""/>
          <p:cNvCxnSpPr>
            <a:stCxn id="2448" idx="0"/>
            <a:endCxn id="2470" idx="1"/>
          </p:cNvCxnSpPr>
          <p:nvPr/>
        </p:nvCxnSpPr>
        <p:spPr>
          <a:xfrm>
            <a:off x="1828800" y="2895480"/>
            <a:ext cx="580320" cy="33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2" name=""/>
          <p:cNvCxnSpPr>
            <a:stCxn id="2448" idx="0"/>
            <a:endCxn id="2469" idx="2"/>
          </p:cNvCxnSpPr>
          <p:nvPr/>
        </p:nvCxnSpPr>
        <p:spPr>
          <a:xfrm>
            <a:off x="1828800" y="2895480"/>
            <a:ext cx="4579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73" name=""/>
          <p:cNvCxnSpPr>
            <a:stCxn id="2448" idx="0"/>
            <a:endCxn id="2468" idx="3"/>
          </p:cNvCxnSpPr>
          <p:nvPr/>
        </p:nvCxnSpPr>
        <p:spPr>
          <a:xfrm flipV="1">
            <a:off x="1828800" y="2328480"/>
            <a:ext cx="58032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7" name=""/>
          <p:cNvSpPr/>
          <p:nvPr/>
        </p:nvSpPr>
        <p:spPr>
          <a:xfrm>
            <a:off x="1143000" y="1981080"/>
            <a:ext cx="76212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6 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4" name=""/>
          <p:cNvCxnSpPr>
            <a:stCxn id="2467" idx="4"/>
            <a:endCxn id="2448" idx="0"/>
          </p:cNvCxnSpPr>
          <p:nvPr/>
        </p:nvCxnSpPr>
        <p:spPr>
          <a:xfrm>
            <a:off x="1523520" y="2361960"/>
            <a:ext cx="305640" cy="533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75" name=""/>
          <p:cNvSpPr/>
          <p:nvPr/>
        </p:nvSpPr>
        <p:spPr>
          <a:xfrm>
            <a:off x="3962520" y="32004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6" name=""/>
          <p:cNvCxnSpPr>
            <a:stCxn id="2470" idx="6"/>
            <a:endCxn id="2475" idx="1"/>
          </p:cNvCxnSpPr>
          <p:nvPr/>
        </p:nvCxnSpPr>
        <p:spPr>
          <a:xfrm>
            <a:off x="3123720" y="3314520"/>
            <a:ext cx="839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7" name=""/>
          <p:cNvCxnSpPr>
            <a:stCxn id="2469" idx="6"/>
            <a:endCxn id="2475" idx="1"/>
          </p:cNvCxnSpPr>
          <p:nvPr/>
        </p:nvCxnSpPr>
        <p:spPr>
          <a:xfrm>
            <a:off x="3200040" y="2933640"/>
            <a:ext cx="762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78" name=""/>
          <p:cNvCxnSpPr>
            <a:stCxn id="2468" idx="6"/>
            <a:endCxn id="2475" idx="0"/>
          </p:cNvCxnSpPr>
          <p:nvPr/>
        </p:nvCxnSpPr>
        <p:spPr>
          <a:xfrm>
            <a:off x="3123720" y="2247840"/>
            <a:ext cx="12963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9" name=""/>
          <p:cNvCxnSpPr>
            <a:stCxn id="2456" idx="6"/>
            <a:endCxn id="2475" idx="1"/>
          </p:cNvCxnSpPr>
          <p:nvPr/>
        </p:nvCxnSpPr>
        <p:spPr>
          <a:xfrm flipV="1">
            <a:off x="3200040" y="3466440"/>
            <a:ext cx="762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0" name=""/>
          <p:cNvCxnSpPr>
            <a:stCxn id="2454" idx="6"/>
            <a:endCxn id="2475" idx="1"/>
          </p:cNvCxnSpPr>
          <p:nvPr/>
        </p:nvCxnSpPr>
        <p:spPr>
          <a:xfrm flipV="1">
            <a:off x="3200040" y="3466440"/>
            <a:ext cx="7628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1" name=""/>
          <p:cNvCxnSpPr>
            <a:stCxn id="2453" idx="6"/>
            <a:endCxn id="2475" idx="2"/>
          </p:cNvCxnSpPr>
          <p:nvPr/>
        </p:nvCxnSpPr>
        <p:spPr>
          <a:xfrm flipV="1">
            <a:off x="3200040" y="3733560"/>
            <a:ext cx="122004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2" name=""/>
          <p:cNvSpPr/>
          <p:nvPr/>
        </p:nvSpPr>
        <p:spPr>
          <a:xfrm>
            <a:off x="8001000" y="1828800"/>
            <a:ext cx="7621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8077320" y="434340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7620120" y="3048120"/>
            <a:ext cx="99036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5" name=""/>
          <p:cNvCxnSpPr>
            <a:stCxn id="2483" idx="0"/>
            <a:endCxn id="2484" idx="4"/>
          </p:cNvCxnSpPr>
          <p:nvPr/>
        </p:nvCxnSpPr>
        <p:spPr>
          <a:xfrm flipH="1" flipV="1">
            <a:off x="8115120" y="3504960"/>
            <a:ext cx="267120" cy="8388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86" name=""/>
          <p:cNvCxnSpPr>
            <a:stCxn id="2484" idx="0"/>
            <a:endCxn id="2482" idx="2"/>
          </p:cNvCxnSpPr>
          <p:nvPr/>
        </p:nvCxnSpPr>
        <p:spPr>
          <a:xfrm flipV="1">
            <a:off x="8115480" y="2437920"/>
            <a:ext cx="267120" cy="6105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87" name=""/>
          <p:cNvSpPr/>
          <p:nvPr/>
        </p:nvSpPr>
        <p:spPr>
          <a:xfrm>
            <a:off x="7162920" y="4114800"/>
            <a:ext cx="9144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8" name=""/>
          <p:cNvCxnSpPr>
            <a:stCxn id="2483" idx="0"/>
            <a:endCxn id="2487" idx="6"/>
          </p:cNvCxnSpPr>
          <p:nvPr/>
        </p:nvCxnSpPr>
        <p:spPr>
          <a:xfrm flipH="1" flipV="1">
            <a:off x="8076960" y="4304880"/>
            <a:ext cx="305280" cy="388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89" name=""/>
          <p:cNvCxnSpPr>
            <a:stCxn id="2487" idx="2"/>
            <a:endCxn id="2490" idx="2"/>
          </p:cNvCxnSpPr>
          <p:nvPr/>
        </p:nvCxnSpPr>
        <p:spPr>
          <a:xfrm flipH="1" flipV="1">
            <a:off x="6743520" y="4038120"/>
            <a:ext cx="419760" cy="26712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491" name=""/>
          <p:cNvCxnSpPr>
            <a:stCxn id="2492" idx="3"/>
            <a:endCxn id="2445" idx="2"/>
          </p:cNvCxnSpPr>
          <p:nvPr/>
        </p:nvCxnSpPr>
        <p:spPr>
          <a:xfrm flipH="1">
            <a:off x="6743520" y="2459160"/>
            <a:ext cx="313200" cy="4370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92" name=""/>
          <p:cNvSpPr/>
          <p:nvPr/>
        </p:nvSpPr>
        <p:spPr>
          <a:xfrm>
            <a:off x="6934320" y="2133720"/>
            <a:ext cx="8380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t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3" name=""/>
          <p:cNvCxnSpPr>
            <a:stCxn id="2482" idx="1"/>
            <a:endCxn id="2492" idx="6"/>
          </p:cNvCxnSpPr>
          <p:nvPr/>
        </p:nvCxnSpPr>
        <p:spPr>
          <a:xfrm flipH="1">
            <a:off x="7771680" y="2133360"/>
            <a:ext cx="229320" cy="191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90" name=""/>
          <p:cNvSpPr/>
          <p:nvPr/>
        </p:nvSpPr>
        <p:spPr>
          <a:xfrm>
            <a:off x="6553080" y="37339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4" name=""/>
          <p:cNvCxnSpPr>
            <a:stCxn id="2475" idx="3"/>
            <a:endCxn id="2495" idx="2"/>
          </p:cNvCxnSpPr>
          <p:nvPr/>
        </p:nvCxnSpPr>
        <p:spPr>
          <a:xfrm>
            <a:off x="4876920" y="34668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96" name=""/>
          <p:cNvCxnSpPr>
            <a:stCxn id="2475" idx="3"/>
            <a:endCxn id="2497" idx="2"/>
          </p:cNvCxnSpPr>
          <p:nvPr/>
        </p:nvCxnSpPr>
        <p:spPr>
          <a:xfrm>
            <a:off x="4876920" y="34671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98" name=""/>
          <p:cNvCxnSpPr>
            <a:stCxn id="2475" idx="2"/>
          </p:cNvCxnSpPr>
          <p:nvPr/>
        </p:nvCxnSpPr>
        <p:spPr>
          <a:xfrm>
            <a:off x="4419720" y="3733920"/>
            <a:ext cx="8388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9" name=""/>
          <p:cNvCxnSpPr>
            <a:stCxn id="2475" idx="3"/>
            <a:endCxn id="2500" idx="2"/>
          </p:cNvCxnSpPr>
          <p:nvPr/>
        </p:nvCxnSpPr>
        <p:spPr>
          <a:xfrm flipV="1">
            <a:off x="4876920" y="3085920"/>
            <a:ext cx="381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1" name=""/>
          <p:cNvCxnSpPr>
            <a:stCxn id="2475" idx="0"/>
            <a:endCxn id="2502" idx="2"/>
          </p:cNvCxnSpPr>
          <p:nvPr/>
        </p:nvCxnSpPr>
        <p:spPr>
          <a:xfrm flipV="1">
            <a:off x="4419720" y="278100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03" name=""/>
          <p:cNvCxnSpPr>
            <a:stCxn id="2475" idx="0"/>
            <a:endCxn id="2504" idx="2"/>
          </p:cNvCxnSpPr>
          <p:nvPr/>
        </p:nvCxnSpPr>
        <p:spPr>
          <a:xfrm flipV="1">
            <a:off x="4419720" y="2400120"/>
            <a:ext cx="83880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05" name=""/>
          <p:cNvCxnSpPr>
            <a:stCxn id="2445" idx="2"/>
            <a:endCxn id="2495" idx="6"/>
          </p:cNvCxnSpPr>
          <p:nvPr/>
        </p:nvCxnSpPr>
        <p:spPr>
          <a:xfrm flipH="1">
            <a:off x="6095880" y="2895480"/>
            <a:ext cx="6483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6" name=""/>
          <p:cNvCxnSpPr>
            <a:stCxn id="2445" idx="2"/>
            <a:endCxn id="2504" idx="6"/>
          </p:cNvCxnSpPr>
          <p:nvPr/>
        </p:nvCxnSpPr>
        <p:spPr>
          <a:xfrm flipH="1" flipV="1">
            <a:off x="6095880" y="2399760"/>
            <a:ext cx="64836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7" name=""/>
          <p:cNvCxnSpPr>
            <a:stCxn id="2490" idx="2"/>
            <a:endCxn id="2508" idx="6"/>
          </p:cNvCxnSpPr>
          <p:nvPr/>
        </p:nvCxnSpPr>
        <p:spPr>
          <a:xfrm flipH="1" flipV="1">
            <a:off x="6171840" y="3923640"/>
            <a:ext cx="57240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9" name=""/>
          <p:cNvCxnSpPr>
            <a:stCxn id="2490" idx="2"/>
            <a:endCxn id="2510" idx="6"/>
          </p:cNvCxnSpPr>
          <p:nvPr/>
        </p:nvCxnSpPr>
        <p:spPr>
          <a:xfrm flipH="1">
            <a:off x="6171840" y="4038480"/>
            <a:ext cx="57240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1" name=""/>
          <p:cNvSpPr/>
          <p:nvPr/>
        </p:nvSpPr>
        <p:spPr>
          <a:xfrm>
            <a:off x="228600" y="380880"/>
            <a:ext cx="6858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pa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990720" y="380880"/>
            <a:ext cx="6858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752480" y="380880"/>
            <a:ext cx="6858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514600" y="380880"/>
            <a:ext cx="6858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276720" y="380880"/>
            <a:ext cx="6858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038480" y="380880"/>
            <a:ext cx="6858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800600" y="380880"/>
            <a:ext cx="6858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6324480" y="380880"/>
            <a:ext cx="6858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5228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62120" y="62485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137160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g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8108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590920" y="62485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20040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5" name=""/>
          <p:cNvCxnSpPr>
            <a:stCxn id="2455" idx="2"/>
            <a:endCxn id="2519" idx="0"/>
          </p:cNvCxnSpPr>
          <p:nvPr/>
        </p:nvCxnSpPr>
        <p:spPr>
          <a:xfrm flipH="1">
            <a:off x="418680" y="4876920"/>
            <a:ext cx="38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6" name=""/>
          <p:cNvCxnSpPr>
            <a:stCxn id="2455" idx="2"/>
            <a:endCxn id="2520" idx="0"/>
          </p:cNvCxnSpPr>
          <p:nvPr/>
        </p:nvCxnSpPr>
        <p:spPr>
          <a:xfrm>
            <a:off x="457200" y="4876920"/>
            <a:ext cx="57240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7" name=""/>
          <p:cNvCxnSpPr>
            <a:stCxn id="2455" idx="2"/>
            <a:endCxn id="2521" idx="0"/>
          </p:cNvCxnSpPr>
          <p:nvPr/>
        </p:nvCxnSpPr>
        <p:spPr>
          <a:xfrm>
            <a:off x="456840" y="487692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8" name=""/>
          <p:cNvCxnSpPr>
            <a:stCxn id="2455" idx="2"/>
            <a:endCxn id="2522" idx="0"/>
          </p:cNvCxnSpPr>
          <p:nvPr/>
        </p:nvCxnSpPr>
        <p:spPr>
          <a:xfrm>
            <a:off x="457200" y="4876920"/>
            <a:ext cx="17913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9" name=""/>
          <p:cNvCxnSpPr>
            <a:stCxn id="2455" idx="2"/>
            <a:endCxn id="2523" idx="0"/>
          </p:cNvCxnSpPr>
          <p:nvPr/>
        </p:nvCxnSpPr>
        <p:spPr>
          <a:xfrm>
            <a:off x="457200" y="4876920"/>
            <a:ext cx="240120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0" name=""/>
          <p:cNvCxnSpPr>
            <a:stCxn id="2455" idx="2"/>
            <a:endCxn id="2524" idx="0"/>
          </p:cNvCxnSpPr>
          <p:nvPr/>
        </p:nvCxnSpPr>
        <p:spPr>
          <a:xfrm>
            <a:off x="456840" y="4876920"/>
            <a:ext cx="30106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1" name=""/>
          <p:cNvCxnSpPr>
            <a:stCxn id="2452" idx="0"/>
            <a:endCxn id="2511" idx="2"/>
          </p:cNvCxnSpPr>
          <p:nvPr/>
        </p:nvCxnSpPr>
        <p:spPr>
          <a:xfrm flipV="1">
            <a:off x="533520" y="914040"/>
            <a:ext cx="388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2" name=""/>
          <p:cNvCxnSpPr>
            <a:stCxn id="2452" idx="0"/>
            <a:endCxn id="2512" idx="2"/>
          </p:cNvCxnSpPr>
          <p:nvPr/>
        </p:nvCxnSpPr>
        <p:spPr>
          <a:xfrm flipV="1">
            <a:off x="533520" y="914040"/>
            <a:ext cx="8006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3" name=""/>
          <p:cNvCxnSpPr>
            <a:stCxn id="2452" idx="0"/>
            <a:endCxn id="2513" idx="2"/>
          </p:cNvCxnSpPr>
          <p:nvPr/>
        </p:nvCxnSpPr>
        <p:spPr>
          <a:xfrm flipV="1">
            <a:off x="533160" y="914040"/>
            <a:ext cx="15627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4" name=""/>
          <p:cNvCxnSpPr>
            <a:stCxn id="2452" idx="0"/>
            <a:endCxn id="2514" idx="2"/>
          </p:cNvCxnSpPr>
          <p:nvPr/>
        </p:nvCxnSpPr>
        <p:spPr>
          <a:xfrm flipV="1">
            <a:off x="533520" y="914040"/>
            <a:ext cx="23248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5" name=""/>
          <p:cNvCxnSpPr>
            <a:stCxn id="2452" idx="0"/>
            <a:endCxn id="2515" idx="2"/>
          </p:cNvCxnSpPr>
          <p:nvPr/>
        </p:nvCxnSpPr>
        <p:spPr>
          <a:xfrm flipV="1">
            <a:off x="533520" y="914040"/>
            <a:ext cx="30866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6" name=""/>
          <p:cNvCxnSpPr>
            <a:stCxn id="2452" idx="0"/>
            <a:endCxn id="2516" idx="2"/>
          </p:cNvCxnSpPr>
          <p:nvPr/>
        </p:nvCxnSpPr>
        <p:spPr>
          <a:xfrm flipV="1">
            <a:off x="533160" y="914040"/>
            <a:ext cx="38487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7" name=""/>
          <p:cNvCxnSpPr>
            <a:stCxn id="2452" idx="0"/>
            <a:endCxn id="2517" idx="2"/>
          </p:cNvCxnSpPr>
          <p:nvPr/>
        </p:nvCxnSpPr>
        <p:spPr>
          <a:xfrm flipV="1">
            <a:off x="533520" y="914040"/>
            <a:ext cx="46108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8" name=""/>
          <p:cNvCxnSpPr>
            <a:stCxn id="2452" idx="0"/>
            <a:endCxn id="2518" idx="2"/>
          </p:cNvCxnSpPr>
          <p:nvPr/>
        </p:nvCxnSpPr>
        <p:spPr>
          <a:xfrm flipV="1">
            <a:off x="533160" y="914040"/>
            <a:ext cx="61347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9" name=""/>
          <p:cNvSpPr/>
          <p:nvPr/>
        </p:nvSpPr>
        <p:spPr>
          <a:xfrm>
            <a:off x="3962520" y="16002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bject (system)</a:t>
            </a: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962520" y="472428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1" name=""/>
          <p:cNvCxnSpPr>
            <a:stCxn id="2539" idx="3"/>
            <a:endCxn id="2492" idx="0"/>
          </p:cNvCxnSpPr>
          <p:nvPr/>
        </p:nvCxnSpPr>
        <p:spPr>
          <a:xfrm>
            <a:off x="4876560" y="1866600"/>
            <a:ext cx="2477160" cy="2671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42" name=""/>
          <p:cNvCxnSpPr>
            <a:stCxn id="2540" idx="3"/>
            <a:endCxn id="2487" idx="4"/>
          </p:cNvCxnSpPr>
          <p:nvPr/>
        </p:nvCxnSpPr>
        <p:spPr>
          <a:xfrm flipV="1">
            <a:off x="4876920" y="4495320"/>
            <a:ext cx="2743920" cy="496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43" name=""/>
          <p:cNvCxnSpPr>
            <a:stCxn id="2540" idx="1"/>
            <a:endCxn id="2459" idx="4"/>
          </p:cNvCxnSpPr>
          <p:nvPr/>
        </p:nvCxnSpPr>
        <p:spPr>
          <a:xfrm flipH="1" flipV="1">
            <a:off x="1485360" y="4876200"/>
            <a:ext cx="2477160" cy="114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44" name=""/>
          <p:cNvCxnSpPr>
            <a:stCxn id="2539" idx="1"/>
            <a:endCxn id="2467" idx="0"/>
          </p:cNvCxnSpPr>
          <p:nvPr/>
        </p:nvCxnSpPr>
        <p:spPr>
          <a:xfrm flipH="1">
            <a:off x="1523880" y="1866600"/>
            <a:ext cx="2439000" cy="1148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545" name=""/>
          <p:cNvSpPr/>
          <p:nvPr/>
        </p:nvSpPr>
        <p:spPr>
          <a:xfrm>
            <a:off x="1295280" y="0"/>
            <a:ext cx="609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b Kernel services-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257800" y="55627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477120" y="556272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7696080" y="556272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eavy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0" name=""/>
          <p:cNvCxnSpPr>
            <a:stCxn id="2451" idx="2"/>
            <a:endCxn id="2547" idx="0"/>
          </p:cNvCxnSpPr>
          <p:nvPr/>
        </p:nvCxnSpPr>
        <p:spPr>
          <a:xfrm>
            <a:off x="4419720" y="5410080"/>
            <a:ext cx="13723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451" idx="2"/>
            <a:endCxn id="2548" idx="0"/>
          </p:cNvCxnSpPr>
          <p:nvPr/>
        </p:nvCxnSpPr>
        <p:spPr>
          <a:xfrm>
            <a:off x="4419720" y="5410080"/>
            <a:ext cx="25912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2" name=""/>
          <p:cNvCxnSpPr>
            <a:stCxn id="2451" idx="2"/>
            <a:endCxn id="2549" idx="0"/>
          </p:cNvCxnSpPr>
          <p:nvPr/>
        </p:nvCxnSpPr>
        <p:spPr>
          <a:xfrm>
            <a:off x="4419360" y="5410080"/>
            <a:ext cx="38106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3" name=""/>
          <p:cNvSpPr/>
          <p:nvPr/>
        </p:nvSpPr>
        <p:spPr>
          <a:xfrm>
            <a:off x="571500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562720" y="380880"/>
            <a:ext cx="6858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5" name=""/>
          <p:cNvCxnSpPr>
            <a:stCxn id="2452" idx="0"/>
            <a:endCxn id="2554" idx="2"/>
          </p:cNvCxnSpPr>
          <p:nvPr/>
        </p:nvCxnSpPr>
        <p:spPr>
          <a:xfrm flipV="1">
            <a:off x="533520" y="914040"/>
            <a:ext cx="53726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6" name=""/>
          <p:cNvSpPr/>
          <p:nvPr/>
        </p:nvSpPr>
        <p:spPr>
          <a:xfrm>
            <a:off x="7086600" y="380880"/>
            <a:ext cx="6858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7" name=""/>
          <p:cNvCxnSpPr>
            <a:stCxn id="2452" idx="0"/>
            <a:endCxn id="2556" idx="2"/>
          </p:cNvCxnSpPr>
          <p:nvPr/>
        </p:nvCxnSpPr>
        <p:spPr>
          <a:xfrm flipV="1">
            <a:off x="533520" y="914040"/>
            <a:ext cx="68968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8" name=""/>
          <p:cNvCxnSpPr>
            <a:stCxn id="2455" idx="3"/>
            <a:endCxn id="2449" idx="1"/>
          </p:cNvCxnSpPr>
          <p:nvPr/>
        </p:nvCxnSpPr>
        <p:spPr>
          <a:xfrm flipV="1">
            <a:off x="762120" y="4114440"/>
            <a:ext cx="762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9" name=""/>
          <p:cNvCxnSpPr>
            <a:stCxn id="2452" idx="3"/>
            <a:endCxn id="2448" idx="1"/>
          </p:cNvCxnSpPr>
          <p:nvPr/>
        </p:nvCxnSpPr>
        <p:spPr>
          <a:xfrm>
            <a:off x="914040" y="2209680"/>
            <a:ext cx="61020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0" name=""/>
          <p:cNvSpPr/>
          <p:nvPr/>
        </p:nvSpPr>
        <p:spPr>
          <a:xfrm>
            <a:off x="685800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46748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2" name=""/>
          <p:cNvCxnSpPr>
            <a:stCxn id="2455" idx="2"/>
            <a:endCxn id="2553" idx="0"/>
          </p:cNvCxnSpPr>
          <p:nvPr/>
        </p:nvCxnSpPr>
        <p:spPr>
          <a:xfrm>
            <a:off x="457200" y="4876920"/>
            <a:ext cx="5525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3" name=""/>
          <p:cNvCxnSpPr>
            <a:stCxn id="2455" idx="2"/>
            <a:endCxn id="2560" idx="0"/>
          </p:cNvCxnSpPr>
          <p:nvPr/>
        </p:nvCxnSpPr>
        <p:spPr>
          <a:xfrm>
            <a:off x="456840" y="4876920"/>
            <a:ext cx="666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4" name=""/>
          <p:cNvCxnSpPr>
            <a:stCxn id="2455" idx="2"/>
            <a:endCxn id="2561" idx="0"/>
          </p:cNvCxnSpPr>
          <p:nvPr/>
        </p:nvCxnSpPr>
        <p:spPr>
          <a:xfrm>
            <a:off x="457200" y="4876920"/>
            <a:ext cx="72777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5" name=""/>
          <p:cNvSpPr/>
          <p:nvPr/>
        </p:nvSpPr>
        <p:spPr>
          <a:xfrm>
            <a:off x="6248520" y="62485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tic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6" name=""/>
          <p:cNvCxnSpPr>
            <a:stCxn id="2455" idx="2"/>
            <a:endCxn id="2565" idx="0"/>
          </p:cNvCxnSpPr>
          <p:nvPr/>
        </p:nvCxnSpPr>
        <p:spPr>
          <a:xfrm>
            <a:off x="457200" y="4876920"/>
            <a:ext cx="605880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7" name=""/>
          <p:cNvSpPr/>
          <p:nvPr/>
        </p:nvSpPr>
        <p:spPr>
          <a:xfrm>
            <a:off x="3962520" y="4114800"/>
            <a:ext cx="9144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11 conn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8" name=""/>
          <p:cNvCxnSpPr>
            <a:stCxn id="2475" idx="2"/>
            <a:endCxn id="2567" idx="0"/>
          </p:cNvCxnSpPr>
          <p:nvPr/>
        </p:nvCxnSpPr>
        <p:spPr>
          <a:xfrm>
            <a:off x="4419360" y="37339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9" name=""/>
          <p:cNvSpPr/>
          <p:nvPr/>
        </p:nvSpPr>
        <p:spPr>
          <a:xfrm>
            <a:off x="2286000" y="251460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9 Decl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0" name=""/>
          <p:cNvCxnSpPr>
            <a:stCxn id="2448" idx="0"/>
            <a:endCxn id="2569" idx="3"/>
          </p:cNvCxnSpPr>
          <p:nvPr/>
        </p:nvCxnSpPr>
        <p:spPr>
          <a:xfrm flipV="1">
            <a:off x="1828800" y="2709360"/>
            <a:ext cx="5803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71" name=""/>
          <p:cNvCxnSpPr>
            <a:stCxn id="2569" idx="6"/>
            <a:endCxn id="2475" idx="0"/>
          </p:cNvCxnSpPr>
          <p:nvPr/>
        </p:nvCxnSpPr>
        <p:spPr>
          <a:xfrm>
            <a:off x="3123720" y="2628720"/>
            <a:ext cx="12963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2" name=""/>
          <p:cNvSpPr/>
          <p:nvPr/>
        </p:nvSpPr>
        <p:spPr>
          <a:xfrm>
            <a:off x="2286000" y="434340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3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3" name=""/>
          <p:cNvCxnSpPr>
            <a:stCxn id="2449" idx="0"/>
            <a:endCxn id="2572" idx="2"/>
          </p:cNvCxnSpPr>
          <p:nvPr/>
        </p:nvCxnSpPr>
        <p:spPr>
          <a:xfrm>
            <a:off x="1790640" y="388620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74" name=""/>
          <p:cNvCxnSpPr>
            <a:stCxn id="2572" idx="6"/>
            <a:endCxn id="2475" idx="2"/>
          </p:cNvCxnSpPr>
          <p:nvPr/>
        </p:nvCxnSpPr>
        <p:spPr>
          <a:xfrm flipV="1">
            <a:off x="3123720" y="3733200"/>
            <a:ext cx="12963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0" name=""/>
          <p:cNvSpPr/>
          <p:nvPr/>
        </p:nvSpPr>
        <p:spPr>
          <a:xfrm>
            <a:off x="5257800" y="487692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2 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334120" y="380988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5 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257800" y="419112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4 Decl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257800" y="228600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10 De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257800" y="2971800"/>
            <a:ext cx="9144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8 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257800" y="335268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7 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257800" y="266688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9 Decl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257800" y="4495680"/>
            <a:ext cx="83808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.3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6" name=""/>
          <p:cNvCxnSpPr>
            <a:stCxn id="2445" idx="2"/>
            <a:endCxn id="2502" idx="6"/>
          </p:cNvCxnSpPr>
          <p:nvPr/>
        </p:nvCxnSpPr>
        <p:spPr>
          <a:xfrm flipH="1" flipV="1">
            <a:off x="6095880" y="2780640"/>
            <a:ext cx="6483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7" name=""/>
          <p:cNvCxnSpPr>
            <a:stCxn id="2445" idx="2"/>
            <a:endCxn id="2500" idx="6"/>
          </p:cNvCxnSpPr>
          <p:nvPr/>
        </p:nvCxnSpPr>
        <p:spPr>
          <a:xfrm flipH="1">
            <a:off x="6171840" y="2895480"/>
            <a:ext cx="57240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8" name=""/>
          <p:cNvCxnSpPr>
            <a:stCxn id="2490" idx="2"/>
            <a:endCxn id="2497" idx="6"/>
          </p:cNvCxnSpPr>
          <p:nvPr/>
        </p:nvCxnSpPr>
        <p:spPr>
          <a:xfrm flipH="1">
            <a:off x="6171840" y="4038120"/>
            <a:ext cx="57240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9" name=""/>
          <p:cNvCxnSpPr>
            <a:stCxn id="2490" idx="2"/>
            <a:endCxn id="2575" idx="6"/>
          </p:cNvCxnSpPr>
          <p:nvPr/>
        </p:nvCxnSpPr>
        <p:spPr>
          <a:xfrm flipH="1">
            <a:off x="6095880" y="4038480"/>
            <a:ext cx="6483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0" name=""/>
          <p:cNvCxnSpPr>
            <a:stCxn id="2510" idx="2"/>
            <a:endCxn id="2475" idx="2"/>
          </p:cNvCxnSpPr>
          <p:nvPr/>
        </p:nvCxnSpPr>
        <p:spPr>
          <a:xfrm flipH="1" flipV="1">
            <a:off x="4419360" y="3733560"/>
            <a:ext cx="83880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1" name=""/>
          <p:cNvCxnSpPr>
            <a:stCxn id="2508" idx="2"/>
            <a:endCxn id="2475" idx="3"/>
          </p:cNvCxnSpPr>
          <p:nvPr/>
        </p:nvCxnSpPr>
        <p:spPr>
          <a:xfrm flipH="1" flipV="1">
            <a:off x="4876560" y="346680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2" name=""/>
          <p:cNvSpPr/>
          <p:nvPr/>
        </p:nvSpPr>
        <p:spPr>
          <a:xfrm>
            <a:off x="380988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419720" y="62485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6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29200" y="62485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762120"/>
            <a:ext cx="7621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 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provi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76520"/>
            <a:ext cx="7391520" cy="1447560"/>
          </a:xfrm>
          <a:prstGeom prst="rect">
            <a:avLst/>
          </a:prstGeom>
          <a:solidFill>
            <a:srgbClr val="00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2286000"/>
            <a:ext cx="15238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2286000"/>
            <a:ext cx="15238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15238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752480"/>
            <a:ext cx="1752480" cy="12193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981080"/>
            <a:ext cx="30456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981080"/>
            <a:ext cx="3049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981080"/>
            <a:ext cx="3049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1981080"/>
            <a:ext cx="30456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905120"/>
            <a:ext cx="4952880" cy="304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809880"/>
            <a:ext cx="990720" cy="3812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se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os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809880"/>
            <a:ext cx="1066680" cy="3812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Us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os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3809880"/>
            <a:ext cx="1143000" cy="38124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Us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Compose LKS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809880"/>
            <a:ext cx="99072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end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04920"/>
            <a:ext cx="10666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Asks/deliv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2767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2767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chnolog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32767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ig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32767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2767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ar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8680" y="2362320"/>
            <a:ext cx="106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7840" y="236232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920" y="2362320"/>
            <a:ext cx="10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75248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621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7" idx="2"/>
            <a:endCxn id="63" idx="0"/>
          </p:cNvCxnSpPr>
          <p:nvPr/>
        </p:nvCxnSpPr>
        <p:spPr>
          <a:xfrm>
            <a:off x="1561680" y="3003480"/>
            <a:ext cx="686520" cy="807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3" idx="6"/>
            <a:endCxn id="80" idx="2"/>
          </p:cNvCxnSpPr>
          <p:nvPr/>
        </p:nvCxnSpPr>
        <p:spPr>
          <a:xfrm flipV="1">
            <a:off x="2743200" y="2895120"/>
            <a:ext cx="572400" cy="1105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80" idx="2"/>
            <a:endCxn id="64" idx="0"/>
          </p:cNvCxnSpPr>
          <p:nvPr/>
        </p:nvCxnSpPr>
        <p:spPr>
          <a:xfrm>
            <a:off x="3314880" y="2895480"/>
            <a:ext cx="876960" cy="915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4" idx="7"/>
            <a:endCxn id="83" idx="2"/>
          </p:cNvCxnSpPr>
          <p:nvPr/>
        </p:nvCxnSpPr>
        <p:spPr>
          <a:xfrm flipV="1">
            <a:off x="4568400" y="2894760"/>
            <a:ext cx="499320" cy="970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6" idx="7"/>
            <a:endCxn id="57" idx="2"/>
          </p:cNvCxnSpPr>
          <p:nvPr/>
        </p:nvCxnSpPr>
        <p:spPr>
          <a:xfrm flipV="1">
            <a:off x="1302840" y="3002760"/>
            <a:ext cx="259560" cy="862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3" idx="2"/>
            <a:endCxn id="65" idx="0"/>
          </p:cNvCxnSpPr>
          <p:nvPr/>
        </p:nvCxnSpPr>
        <p:spPr>
          <a:xfrm>
            <a:off x="5067000" y="2895480"/>
            <a:ext cx="1143720" cy="915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5" idx="7"/>
            <a:endCxn id="87" idx="2"/>
          </p:cNvCxnSpPr>
          <p:nvPr/>
        </p:nvCxnSpPr>
        <p:spPr>
          <a:xfrm flipV="1">
            <a:off x="6615000" y="2920680"/>
            <a:ext cx="129240" cy="9453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3" idx="6"/>
            <a:endCxn id="89" idx="0"/>
          </p:cNvCxnSpPr>
          <p:nvPr/>
        </p:nvCxnSpPr>
        <p:spPr>
          <a:xfrm>
            <a:off x="2743200" y="4000680"/>
            <a:ext cx="572400" cy="343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64" idx="5"/>
            <a:endCxn id="91" idx="0"/>
          </p:cNvCxnSpPr>
          <p:nvPr/>
        </p:nvCxnSpPr>
        <p:spPr>
          <a:xfrm>
            <a:off x="4568760" y="4135320"/>
            <a:ext cx="727560" cy="208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65" idx="5"/>
            <a:endCxn id="93" idx="0"/>
          </p:cNvCxnSpPr>
          <p:nvPr/>
        </p:nvCxnSpPr>
        <p:spPr>
          <a:xfrm>
            <a:off x="6615000" y="4135320"/>
            <a:ext cx="434160" cy="208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7" idx="5"/>
            <a:endCxn id="52" idx="0"/>
          </p:cNvCxnSpPr>
          <p:nvPr/>
        </p:nvCxnSpPr>
        <p:spPr>
          <a:xfrm>
            <a:off x="1596600" y="630360"/>
            <a:ext cx="384840" cy="1324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89" idx="0"/>
            <a:endCxn id="64" idx="4"/>
          </p:cNvCxnSpPr>
          <p:nvPr/>
        </p:nvCxnSpPr>
        <p:spPr>
          <a:xfrm flipV="1">
            <a:off x="3314880" y="4190400"/>
            <a:ext cx="876960" cy="1530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1" idx="0"/>
            <a:endCxn id="65" idx="4"/>
          </p:cNvCxnSpPr>
          <p:nvPr/>
        </p:nvCxnSpPr>
        <p:spPr>
          <a:xfrm flipV="1">
            <a:off x="5295960" y="4190400"/>
            <a:ext cx="915120" cy="1530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743200" y="4343400"/>
            <a:ext cx="1143000" cy="254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Deliver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434340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Deliver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434340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delivered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includ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includ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66688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included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a TELOS general presentation-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69" idx="2"/>
            <a:endCxn id="63" idx="1"/>
          </p:cNvCxnSpPr>
          <p:nvPr/>
        </p:nvCxnSpPr>
        <p:spPr>
          <a:xfrm>
            <a:off x="1638000" y="3733920"/>
            <a:ext cx="259560" cy="1324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70" idx="2"/>
            <a:endCxn id="64" idx="1"/>
          </p:cNvCxnSpPr>
          <p:nvPr/>
        </p:nvCxnSpPr>
        <p:spPr>
          <a:xfrm>
            <a:off x="3314880" y="3733920"/>
            <a:ext cx="498960" cy="1324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72" idx="2"/>
            <a:endCxn id="65" idx="1"/>
          </p:cNvCxnSpPr>
          <p:nvPr/>
        </p:nvCxnSpPr>
        <p:spPr>
          <a:xfrm>
            <a:off x="5295600" y="3733920"/>
            <a:ext cx="510120" cy="1324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77" idx="3"/>
            <a:endCxn id="67" idx="4"/>
          </p:cNvCxnSpPr>
          <p:nvPr/>
        </p:nvCxnSpPr>
        <p:spPr>
          <a:xfrm flipV="1">
            <a:off x="914040" y="685080"/>
            <a:ext cx="305640" cy="305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68" idx="2"/>
            <a:endCxn id="66" idx="0"/>
          </p:cNvCxnSpPr>
          <p:nvPr/>
        </p:nvCxnSpPr>
        <p:spPr>
          <a:xfrm>
            <a:off x="571680" y="3733560"/>
            <a:ext cx="381600" cy="766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629400" y="838080"/>
            <a:ext cx="76212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9144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4"/>
            <a:endCxn id="104" idx="3"/>
          </p:cNvCxnSpPr>
          <p:nvPr/>
        </p:nvCxnSpPr>
        <p:spPr>
          <a:xfrm flipH="1">
            <a:off x="7390800" y="685800"/>
            <a:ext cx="610200" cy="419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"/>
          <p:cNvCxnSpPr>
            <a:stCxn id="105" idx="1"/>
            <a:endCxn id="107" idx="5"/>
          </p:cNvCxnSpPr>
          <p:nvPr/>
        </p:nvCxnSpPr>
        <p:spPr>
          <a:xfrm flipV="1">
            <a:off x="8305560" y="618840"/>
            <a:ext cx="73800" cy="524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715000" y="167652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9600" y="327672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2209680"/>
            <a:ext cx="838080" cy="3812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Admini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87" idx="3"/>
          </p:cNvCxnSpPr>
          <p:nvPr/>
        </p:nvCxnSpPr>
        <p:spPr>
          <a:xfrm flipH="1">
            <a:off x="7314480" y="2400120"/>
            <a:ext cx="762840" cy="394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11" idx="2"/>
            <a:endCxn id="83" idx="3"/>
          </p:cNvCxnSpPr>
          <p:nvPr/>
        </p:nvCxnSpPr>
        <p:spPr>
          <a:xfrm flipH="1">
            <a:off x="5638680" y="2400480"/>
            <a:ext cx="2439000" cy="381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"/>
          <p:cNvCxnSpPr>
            <a:stCxn id="111" idx="2"/>
            <a:endCxn id="80" idx="3"/>
          </p:cNvCxnSpPr>
          <p:nvPr/>
        </p:nvCxnSpPr>
        <p:spPr>
          <a:xfrm flipH="1">
            <a:off x="3885840" y="2400480"/>
            <a:ext cx="4191840" cy="381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"/>
          <p:cNvCxnSpPr>
            <a:stCxn id="110" idx="0"/>
            <a:endCxn id="111" idx="4"/>
          </p:cNvCxnSpPr>
          <p:nvPr/>
        </p:nvCxnSpPr>
        <p:spPr>
          <a:xfrm flipV="1">
            <a:off x="8496000" y="2590200"/>
            <a:ext cx="1080" cy="686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981080" y="1981080"/>
            <a:ext cx="3049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666880"/>
            <a:ext cx="15238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systems 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1" idx="2"/>
            <a:endCxn id="117" idx="3"/>
          </p:cNvCxnSpPr>
          <p:nvPr/>
        </p:nvCxnSpPr>
        <p:spPr>
          <a:xfrm flipH="1">
            <a:off x="2285280" y="2400480"/>
            <a:ext cx="5792040" cy="381600"/>
          </a:xfrm>
          <a:prstGeom prst="straightConnector1">
            <a:avLst/>
          </a:prstGeom>
          <a:ln w="190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7467480" y="228600"/>
            <a:ext cx="106704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Ask/deliver 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71" idx="2"/>
            <a:endCxn id="65" idx="7"/>
          </p:cNvCxnSpPr>
          <p:nvPr/>
        </p:nvCxnSpPr>
        <p:spPr>
          <a:xfrm flipH="1">
            <a:off x="6615000" y="3733920"/>
            <a:ext cx="1043640" cy="1324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62" idx="0"/>
            <a:endCxn id="67" idx="6"/>
          </p:cNvCxnSpPr>
          <p:nvPr/>
        </p:nvCxnSpPr>
        <p:spPr>
          <a:xfrm flipH="1" flipV="1">
            <a:off x="1752120" y="495000"/>
            <a:ext cx="3315600" cy="139104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62" idx="0"/>
            <a:endCxn id="107" idx="2"/>
          </p:cNvCxnSpPr>
          <p:nvPr/>
        </p:nvCxnSpPr>
        <p:spPr>
          <a:xfrm flipV="1">
            <a:off x="5067000" y="456480"/>
            <a:ext cx="2400840" cy="142956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6934320" y="3886200"/>
            <a:ext cx="19810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410080"/>
            <a:ext cx="1143000" cy="4572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Aggreg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219320"/>
            <a:ext cx="19810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480060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Com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800600"/>
            <a:ext cx="5335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800600"/>
            <a:ext cx="76176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480060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480060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 Us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480060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800600"/>
            <a:ext cx="5331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800600"/>
            <a:ext cx="76176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Prep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800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3"/>
            <a:endCxn id="132" idx="2"/>
          </p:cNvCxnSpPr>
          <p:nvPr/>
        </p:nvCxnSpPr>
        <p:spPr>
          <a:xfrm>
            <a:off x="45720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6"/>
            <a:endCxn id="126" idx="1"/>
          </p:cNvCxnSpPr>
          <p:nvPr/>
        </p:nvCxnSpPr>
        <p:spPr>
          <a:xfrm>
            <a:off x="129528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3"/>
            <a:endCxn id="125" idx="2"/>
          </p:cNvCxnSpPr>
          <p:nvPr/>
        </p:nvCxnSpPr>
        <p:spPr>
          <a:xfrm>
            <a:off x="190476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5" idx="6"/>
            <a:endCxn id="128" idx="1"/>
          </p:cNvCxnSpPr>
          <p:nvPr/>
        </p:nvCxnSpPr>
        <p:spPr>
          <a:xfrm>
            <a:off x="266688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8" idx="3"/>
            <a:endCxn id="127" idx="2"/>
          </p:cNvCxnSpPr>
          <p:nvPr/>
        </p:nvCxnSpPr>
        <p:spPr>
          <a:xfrm>
            <a:off x="320040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7" idx="6"/>
            <a:endCxn id="130" idx="1"/>
          </p:cNvCxnSpPr>
          <p:nvPr/>
        </p:nvCxnSpPr>
        <p:spPr>
          <a:xfrm>
            <a:off x="403848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0" idx="3"/>
            <a:endCxn id="129" idx="2"/>
          </p:cNvCxnSpPr>
          <p:nvPr/>
        </p:nvCxnSpPr>
        <p:spPr>
          <a:xfrm>
            <a:off x="472428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9" idx="6"/>
            <a:endCxn id="131" idx="1"/>
          </p:cNvCxnSpPr>
          <p:nvPr/>
        </p:nvCxnSpPr>
        <p:spPr>
          <a:xfrm>
            <a:off x="5486400" y="5028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4800600" y="624852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LKM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6248520"/>
            <a:ext cx="609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6248520"/>
            <a:ext cx="76212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624852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6248520"/>
            <a:ext cx="6858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6248520"/>
            <a:ext cx="60984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624852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6248520"/>
            <a:ext cx="76176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Prep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62485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3"/>
            <a:endCxn id="149" idx="2"/>
          </p:cNvCxnSpPr>
          <p:nvPr/>
        </p:nvCxnSpPr>
        <p:spPr>
          <a:xfrm>
            <a:off x="320040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3" idx="1"/>
          </p:cNvCxnSpPr>
          <p:nvPr/>
        </p:nvCxnSpPr>
        <p:spPr>
          <a:xfrm>
            <a:off x="403848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3" idx="3"/>
            <a:endCxn id="142" idx="2"/>
          </p:cNvCxnSpPr>
          <p:nvPr/>
        </p:nvCxnSpPr>
        <p:spPr>
          <a:xfrm>
            <a:off x="472428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2" idx="6"/>
            <a:endCxn id="145" idx="1"/>
          </p:cNvCxnSpPr>
          <p:nvPr/>
        </p:nvCxnSpPr>
        <p:spPr>
          <a:xfrm>
            <a:off x="5486040" y="647676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5" idx="3"/>
            <a:endCxn id="144" idx="2"/>
          </p:cNvCxnSpPr>
          <p:nvPr/>
        </p:nvCxnSpPr>
        <p:spPr>
          <a:xfrm>
            <a:off x="609588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4" idx="6"/>
            <a:endCxn id="147" idx="1"/>
          </p:cNvCxnSpPr>
          <p:nvPr/>
        </p:nvCxnSpPr>
        <p:spPr>
          <a:xfrm>
            <a:off x="693396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3"/>
            <a:endCxn id="146" idx="2"/>
          </p:cNvCxnSpPr>
          <p:nvPr/>
        </p:nvCxnSpPr>
        <p:spPr>
          <a:xfrm>
            <a:off x="761976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6" idx="6"/>
            <a:endCxn id="148" idx="1"/>
          </p:cNvCxnSpPr>
          <p:nvPr/>
        </p:nvCxnSpPr>
        <p:spPr>
          <a:xfrm>
            <a:off x="8381880" y="647676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276720" y="5410080"/>
            <a:ext cx="7617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use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5410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5410080"/>
            <a:ext cx="6858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 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48640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nce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48640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=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0" idx="3"/>
            <a:endCxn id="159" idx="2"/>
          </p:cNvCxnSpPr>
          <p:nvPr/>
        </p:nvCxnSpPr>
        <p:spPr>
          <a:xfrm>
            <a:off x="3200400" y="5715000"/>
            <a:ext cx="76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6"/>
            <a:endCxn id="162" idx="1"/>
          </p:cNvCxnSpPr>
          <p:nvPr/>
        </p:nvCxnSpPr>
        <p:spPr>
          <a:xfrm>
            <a:off x="4038480" y="5753160"/>
            <a:ext cx="76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3"/>
            <a:endCxn id="161" idx="2"/>
          </p:cNvCxnSpPr>
          <p:nvPr/>
        </p:nvCxnSpPr>
        <p:spPr>
          <a:xfrm flipV="1">
            <a:off x="4724280" y="5752800"/>
            <a:ext cx="76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6"/>
            <a:endCxn id="163" idx="1"/>
          </p:cNvCxnSpPr>
          <p:nvPr/>
        </p:nvCxnSpPr>
        <p:spPr>
          <a:xfrm>
            <a:off x="5486400" y="575280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795600" y="6324480"/>
            <a:ext cx="134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 aggregation cyc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40560" y="4876920"/>
            <a:ext cx="131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aggregation cyc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0" idx="0"/>
            <a:endCxn id="128" idx="2"/>
          </p:cNvCxnSpPr>
          <p:nvPr/>
        </p:nvCxnSpPr>
        <p:spPr>
          <a:xfrm flipV="1">
            <a:off x="29714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0" idx="2"/>
            <a:endCxn id="150" idx="0"/>
          </p:cNvCxnSpPr>
          <p:nvPr/>
        </p:nvCxnSpPr>
        <p:spPr>
          <a:xfrm>
            <a:off x="2971440" y="6019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30" idx="2"/>
            <a:endCxn id="162" idx="0"/>
          </p:cNvCxnSpPr>
          <p:nvPr/>
        </p:nvCxnSpPr>
        <p:spPr>
          <a:xfrm>
            <a:off x="4419360" y="52574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2"/>
            <a:endCxn id="143" idx="0"/>
          </p:cNvCxnSpPr>
          <p:nvPr/>
        </p:nvCxnSpPr>
        <p:spPr>
          <a:xfrm>
            <a:off x="441936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31" idx="2"/>
            <a:endCxn id="163" idx="0"/>
          </p:cNvCxnSpPr>
          <p:nvPr/>
        </p:nvCxnSpPr>
        <p:spPr>
          <a:xfrm>
            <a:off x="5829120" y="52574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3" idx="2"/>
            <a:endCxn id="145" idx="0"/>
          </p:cNvCxnSpPr>
          <p:nvPr/>
        </p:nvCxnSpPr>
        <p:spPr>
          <a:xfrm>
            <a:off x="5829120" y="6019560"/>
            <a:ext cx="38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27" idx="4"/>
            <a:endCxn id="159" idx="0"/>
          </p:cNvCxnSpPr>
          <p:nvPr/>
        </p:nvCxnSpPr>
        <p:spPr>
          <a:xfrm>
            <a:off x="365724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9" idx="4"/>
            <a:endCxn id="149" idx="0"/>
          </p:cNvCxnSpPr>
          <p:nvPr/>
        </p:nvCxnSpPr>
        <p:spPr>
          <a:xfrm>
            <a:off x="365724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29" idx="4"/>
            <a:endCxn id="161" idx="0"/>
          </p:cNvCxnSpPr>
          <p:nvPr/>
        </p:nvCxnSpPr>
        <p:spPr>
          <a:xfrm>
            <a:off x="5143320" y="52574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1" idx="4"/>
            <a:endCxn id="142" idx="0"/>
          </p:cNvCxnSpPr>
          <p:nvPr/>
        </p:nvCxnSpPr>
        <p:spPr>
          <a:xfrm>
            <a:off x="5143320" y="6095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4952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371600"/>
            <a:ext cx="76212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Reques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/provid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ystem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057400"/>
            <a:ext cx="7391520" cy="2362320"/>
          </a:xfrm>
          <a:prstGeom prst="rect">
            <a:avLst/>
          </a:prstGeom>
          <a:solidFill>
            <a:srgbClr val="00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9920" y="28954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8954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2895480"/>
            <a:ext cx="15238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2133720"/>
            <a:ext cx="1828800" cy="21333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438280"/>
            <a:ext cx="30456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438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438280"/>
            <a:ext cx="30456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4290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57913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2133720"/>
            <a:ext cx="4952880" cy="304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:   Agent  coordination+ User connection + Object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952880"/>
            <a:ext cx="990720" cy="3812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Use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os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4952880"/>
            <a:ext cx="1066680" cy="3812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Use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pos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4952880"/>
            <a:ext cx="1143000" cy="381240"/>
          </a:xfrm>
          <a:prstGeom prst="ellips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Use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Compose)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029200"/>
            <a:ext cx="91440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tend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609480"/>
            <a:ext cx="106668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Asks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ivers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495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4495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chnolog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4495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sig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495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6400" y="4495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ear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7240" y="2895480"/>
            <a:ext cx="106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20080" y="2895480"/>
            <a:ext cx="10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4160" y="2895480"/>
            <a:ext cx="102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21337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066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33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991720" y="53352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600" y="67057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8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057400" y="533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2388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56272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3392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6" idx="2"/>
            <a:endCxn id="216" idx="0"/>
          </p:cNvCxnSpPr>
          <p:nvPr/>
        </p:nvCxnSpPr>
        <p:spPr>
          <a:xfrm>
            <a:off x="1523520" y="4299120"/>
            <a:ext cx="1181880" cy="6544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16" idx="6"/>
            <a:endCxn id="194" idx="2"/>
          </p:cNvCxnSpPr>
          <p:nvPr/>
        </p:nvCxnSpPr>
        <p:spPr>
          <a:xfrm flipV="1">
            <a:off x="3200400" y="4190760"/>
            <a:ext cx="115200" cy="9532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194" idx="2"/>
            <a:endCxn id="217" idx="0"/>
          </p:cNvCxnSpPr>
          <p:nvPr/>
        </p:nvCxnSpPr>
        <p:spPr>
          <a:xfrm>
            <a:off x="3314880" y="4191120"/>
            <a:ext cx="1334160" cy="7624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17" idx="7"/>
            <a:endCxn id="198" idx="2"/>
          </p:cNvCxnSpPr>
          <p:nvPr/>
        </p:nvCxnSpPr>
        <p:spPr>
          <a:xfrm flipV="1">
            <a:off x="5025600" y="4190400"/>
            <a:ext cx="41760" cy="8182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19" idx="0"/>
            <a:endCxn id="186" idx="2"/>
          </p:cNvCxnSpPr>
          <p:nvPr/>
        </p:nvCxnSpPr>
        <p:spPr>
          <a:xfrm flipV="1">
            <a:off x="1143000" y="4298760"/>
            <a:ext cx="381600" cy="7308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198" idx="2"/>
            <a:endCxn id="218" idx="0"/>
          </p:cNvCxnSpPr>
          <p:nvPr/>
        </p:nvCxnSpPr>
        <p:spPr>
          <a:xfrm>
            <a:off x="5067000" y="4191120"/>
            <a:ext cx="1600920" cy="7624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18" idx="7"/>
            <a:endCxn id="202" idx="2"/>
          </p:cNvCxnSpPr>
          <p:nvPr/>
        </p:nvCxnSpPr>
        <p:spPr>
          <a:xfrm flipH="1" flipV="1">
            <a:off x="6743520" y="4190400"/>
            <a:ext cx="329040" cy="8182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16" idx="6"/>
            <a:endCxn id="248" idx="0"/>
          </p:cNvCxnSpPr>
          <p:nvPr/>
        </p:nvCxnSpPr>
        <p:spPr>
          <a:xfrm flipH="1">
            <a:off x="2933280" y="5143680"/>
            <a:ext cx="267120" cy="419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17" idx="5"/>
            <a:endCxn id="250" idx="0"/>
          </p:cNvCxnSpPr>
          <p:nvPr/>
        </p:nvCxnSpPr>
        <p:spPr>
          <a:xfrm>
            <a:off x="5025600" y="5278320"/>
            <a:ext cx="41760" cy="285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18" idx="5"/>
            <a:endCxn id="252" idx="0"/>
          </p:cNvCxnSpPr>
          <p:nvPr/>
        </p:nvCxnSpPr>
        <p:spPr>
          <a:xfrm flipH="1">
            <a:off x="6819120" y="5278320"/>
            <a:ext cx="253080" cy="285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20" idx="5"/>
            <a:endCxn id="181" idx="0"/>
          </p:cNvCxnSpPr>
          <p:nvPr/>
        </p:nvCxnSpPr>
        <p:spPr>
          <a:xfrm flipH="1">
            <a:off x="1676160" y="934560"/>
            <a:ext cx="149760" cy="4374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7543800" y="2362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8" idx="0"/>
            <a:endCxn id="217" idx="4"/>
          </p:cNvCxnSpPr>
          <p:nvPr/>
        </p:nvCxnSpPr>
        <p:spPr>
          <a:xfrm flipV="1">
            <a:off x="2933280" y="5333400"/>
            <a:ext cx="1715400" cy="229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0" idx="0"/>
            <a:endCxn id="218" idx="3"/>
          </p:cNvCxnSpPr>
          <p:nvPr/>
        </p:nvCxnSpPr>
        <p:spPr>
          <a:xfrm flipV="1">
            <a:off x="5067360" y="5277960"/>
            <a:ext cx="1195920" cy="285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3276720" y="5791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5791320"/>
            <a:ext cx="228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5791320"/>
            <a:ext cx="228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5562720"/>
            <a:ext cx="1143000" cy="25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deliver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55627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deliver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556272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Delivered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962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included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35053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962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included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3962520"/>
            <a:ext cx="11430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Included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b TELOS general presentation-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4952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523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4952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4952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952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80520" y="533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5257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5257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8052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80880" y="533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5257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6629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6629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6629400"/>
            <a:ext cx="1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180" idx="0"/>
            <a:endCxn id="216" idx="1"/>
          </p:cNvCxnSpPr>
          <p:nvPr/>
        </p:nvCxnSpPr>
        <p:spPr>
          <a:xfrm>
            <a:off x="1866960" y="4952520"/>
            <a:ext cx="488160" cy="56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23" idx="2"/>
            <a:endCxn id="217" idx="1"/>
          </p:cNvCxnSpPr>
          <p:nvPr/>
        </p:nvCxnSpPr>
        <p:spPr>
          <a:xfrm>
            <a:off x="3695760" y="4952520"/>
            <a:ext cx="575280" cy="56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25" idx="2"/>
            <a:endCxn id="218" idx="1"/>
          </p:cNvCxnSpPr>
          <p:nvPr/>
        </p:nvCxnSpPr>
        <p:spPr>
          <a:xfrm>
            <a:off x="5752800" y="4952520"/>
            <a:ext cx="510120" cy="56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30" idx="2"/>
            <a:endCxn id="220" idx="4"/>
          </p:cNvCxnSpPr>
          <p:nvPr/>
        </p:nvCxnSpPr>
        <p:spPr>
          <a:xfrm flipV="1">
            <a:off x="876240" y="990000"/>
            <a:ext cx="572400" cy="5338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68" idx="0"/>
            <a:endCxn id="219" idx="1"/>
          </p:cNvCxnSpPr>
          <p:nvPr/>
        </p:nvCxnSpPr>
        <p:spPr>
          <a:xfrm>
            <a:off x="266760" y="4952520"/>
            <a:ext cx="552960" cy="1213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8077320" y="1828800"/>
            <a:ext cx="76176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54" idx="0"/>
            <a:endCxn id="288" idx="1"/>
          </p:cNvCxnSpPr>
          <p:nvPr/>
        </p:nvCxnSpPr>
        <p:spPr>
          <a:xfrm flipV="1">
            <a:off x="7543800" y="1894680"/>
            <a:ext cx="64512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6553080" y="1295280"/>
            <a:ext cx="76212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129528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05920" y="9907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162920" y="533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5" idx="4"/>
            <a:endCxn id="290" idx="3"/>
          </p:cNvCxnSpPr>
          <p:nvPr/>
        </p:nvCxnSpPr>
        <p:spPr>
          <a:xfrm flipH="1">
            <a:off x="7314840" y="1143000"/>
            <a:ext cx="496080" cy="419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8381880" y="14479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6" idx="0"/>
            <a:endCxn id="295" idx="5"/>
          </p:cNvCxnSpPr>
          <p:nvPr/>
        </p:nvCxnSpPr>
        <p:spPr>
          <a:xfrm flipH="1" flipV="1">
            <a:off x="8214480" y="1064520"/>
            <a:ext cx="358200" cy="3834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192" idx="0"/>
            <a:endCxn id="191" idx="0"/>
          </p:cNvCxnSpPr>
          <p:nvPr/>
        </p:nvCxnSpPr>
        <p:spPr>
          <a:xfrm rot="5400000">
            <a:off x="297036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194" idx="0"/>
            <a:endCxn id="192" idx="0"/>
          </p:cNvCxnSpPr>
          <p:nvPr/>
        </p:nvCxnSpPr>
        <p:spPr>
          <a:xfrm rot="5400000">
            <a:off x="319896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193" idx="0"/>
            <a:endCxn id="194" idx="0"/>
          </p:cNvCxnSpPr>
          <p:nvPr/>
        </p:nvCxnSpPr>
        <p:spPr>
          <a:xfrm rot="5400000">
            <a:off x="342756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/>
          <p:nvPr/>
        </p:nvCxnSpPr>
        <p:spPr>
          <a:xfrm rot="5400000">
            <a:off x="468468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/>
          <p:nvPr/>
        </p:nvCxnSpPr>
        <p:spPr>
          <a:xfrm rot="5400000">
            <a:off x="491328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/>
          <p:nvPr/>
        </p:nvCxnSpPr>
        <p:spPr>
          <a:xfrm rot="5400000">
            <a:off x="514188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rot="5400000">
            <a:off x="636120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rot="5400000">
            <a:off x="658980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rot="5400000">
            <a:off x="6818400" y="33152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04" idx="2"/>
            <a:endCxn id="203" idx="2"/>
          </p:cNvCxnSpPr>
          <p:nvPr/>
        </p:nvCxnSpPr>
        <p:spPr>
          <a:xfrm rot="5400000">
            <a:off x="258912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06" idx="2"/>
            <a:endCxn id="204" idx="2"/>
          </p:cNvCxnSpPr>
          <p:nvPr/>
        </p:nvCxnSpPr>
        <p:spPr>
          <a:xfrm rot="5400000">
            <a:off x="281772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05" idx="2"/>
            <a:endCxn id="206" idx="2"/>
          </p:cNvCxnSpPr>
          <p:nvPr/>
        </p:nvCxnSpPr>
        <p:spPr>
          <a:xfrm rot="5400000">
            <a:off x="304632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rot="5400000">
            <a:off x="468468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/>
          <p:nvPr/>
        </p:nvCxnSpPr>
        <p:spPr>
          <a:xfrm rot="5400000">
            <a:off x="491328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/>
          <p:nvPr/>
        </p:nvCxnSpPr>
        <p:spPr>
          <a:xfrm rot="5400000">
            <a:off x="514188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/>
          <p:nvPr/>
        </p:nvCxnSpPr>
        <p:spPr>
          <a:xfrm rot="5400000">
            <a:off x="643716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/>
          <p:nvPr/>
        </p:nvCxnSpPr>
        <p:spPr>
          <a:xfrm rot="5400000">
            <a:off x="666576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/>
          <p:nvPr/>
        </p:nvCxnSpPr>
        <p:spPr>
          <a:xfrm rot="5400000">
            <a:off x="6894360" y="6439320"/>
            <a:ext cx="2520" cy="229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188" idx="0"/>
            <a:endCxn id="187" idx="0"/>
          </p:cNvCxnSpPr>
          <p:nvPr/>
        </p:nvCxnSpPr>
        <p:spPr>
          <a:xfrm rot="5400000">
            <a:off x="1065240" y="2285640"/>
            <a:ext cx="2520" cy="305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189" idx="0"/>
            <a:endCxn id="188" idx="0"/>
          </p:cNvCxnSpPr>
          <p:nvPr/>
        </p:nvCxnSpPr>
        <p:spPr>
          <a:xfrm rot="5400000">
            <a:off x="1370160" y="2286000"/>
            <a:ext cx="2520" cy="30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190" idx="0"/>
            <a:endCxn id="189" idx="0"/>
          </p:cNvCxnSpPr>
          <p:nvPr/>
        </p:nvCxnSpPr>
        <p:spPr>
          <a:xfrm rot="5400000">
            <a:off x="1674720" y="2285640"/>
            <a:ext cx="2520" cy="305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5638680" y="2514600"/>
            <a:ext cx="19814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167652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676520"/>
            <a:ext cx="7617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67652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4"/>
            <a:endCxn id="320" idx="0"/>
          </p:cNvCxnSpPr>
          <p:nvPr/>
        </p:nvCxnSpPr>
        <p:spPr>
          <a:xfrm flipH="1">
            <a:off x="4419360" y="1523880"/>
            <a:ext cx="915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291" idx="4"/>
            <a:endCxn id="321" idx="0"/>
          </p:cNvCxnSpPr>
          <p:nvPr/>
        </p:nvCxnSpPr>
        <p:spPr>
          <a:xfrm flipH="1">
            <a:off x="5257800" y="1523880"/>
            <a:ext cx="766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291" idx="4"/>
            <a:endCxn id="322" idx="0"/>
          </p:cNvCxnSpPr>
          <p:nvPr/>
        </p:nvCxnSpPr>
        <p:spPr>
          <a:xfrm>
            <a:off x="5334120" y="1523880"/>
            <a:ext cx="7624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8001000" y="4495680"/>
            <a:ext cx="533520" cy="45720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77320" y="4952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4680" y="3276720"/>
            <a:ext cx="990720" cy="761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i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Cor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LKM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LKM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8" idx="2"/>
            <a:endCxn id="265" idx="3"/>
          </p:cNvCxnSpPr>
          <p:nvPr/>
        </p:nvCxnSpPr>
        <p:spPr>
          <a:xfrm flipH="1">
            <a:off x="7314480" y="3657240"/>
            <a:ext cx="610200" cy="4323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0" name=""/>
          <p:cNvCxnSpPr>
            <a:stCxn id="328" idx="2"/>
            <a:endCxn id="264" idx="3"/>
          </p:cNvCxnSpPr>
          <p:nvPr/>
        </p:nvCxnSpPr>
        <p:spPr>
          <a:xfrm flipH="1">
            <a:off x="5638320" y="3657600"/>
            <a:ext cx="2286720" cy="419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1" name=""/>
          <p:cNvCxnSpPr>
            <a:stCxn id="328" idx="2"/>
            <a:endCxn id="261" idx="3"/>
          </p:cNvCxnSpPr>
          <p:nvPr/>
        </p:nvCxnSpPr>
        <p:spPr>
          <a:xfrm flipH="1">
            <a:off x="3885840" y="3657600"/>
            <a:ext cx="4039200" cy="419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2" name=""/>
          <p:cNvCxnSpPr>
            <a:stCxn id="327" idx="0"/>
            <a:endCxn id="328" idx="4"/>
          </p:cNvCxnSpPr>
          <p:nvPr/>
        </p:nvCxnSpPr>
        <p:spPr>
          <a:xfrm flipV="1">
            <a:off x="8267400" y="4038120"/>
            <a:ext cx="153000" cy="9151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84582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endCxn id="288" idx="1"/>
          </p:cNvCxnSpPr>
          <p:nvPr/>
        </p:nvCxnSpPr>
        <p:spPr>
          <a:xfrm>
            <a:off x="7391160" y="1219320"/>
            <a:ext cx="79740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1981080" y="2971800"/>
            <a:ext cx="304920" cy="99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962520"/>
            <a:ext cx="15238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systems (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28" idx="2"/>
            <a:endCxn id="336" idx="3"/>
          </p:cNvCxnSpPr>
          <p:nvPr/>
        </p:nvCxnSpPr>
        <p:spPr>
          <a:xfrm flipH="1">
            <a:off x="2285280" y="3657600"/>
            <a:ext cx="5639400" cy="4197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8" name=""/>
          <p:cNvCxnSpPr>
            <a:stCxn id="296" idx="1"/>
            <a:endCxn id="288" idx="1"/>
          </p:cNvCxnSpPr>
          <p:nvPr/>
        </p:nvCxnSpPr>
        <p:spPr>
          <a:xfrm flipH="1">
            <a:off x="8187840" y="1600200"/>
            <a:ext cx="19440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3124080" y="129528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v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838080"/>
            <a:ext cx="144756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167652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167652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0" idx="4"/>
            <a:endCxn id="339" idx="0"/>
          </p:cNvCxnSpPr>
          <p:nvPr/>
        </p:nvCxnSpPr>
        <p:spPr>
          <a:xfrm flipH="1">
            <a:off x="3504960" y="1218960"/>
            <a:ext cx="9532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0" idx="4"/>
            <a:endCxn id="291" idx="0"/>
          </p:cNvCxnSpPr>
          <p:nvPr/>
        </p:nvCxnSpPr>
        <p:spPr>
          <a:xfrm>
            <a:off x="4457880" y="1218960"/>
            <a:ext cx="8769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39" idx="4"/>
            <a:endCxn id="341" idx="0"/>
          </p:cNvCxnSpPr>
          <p:nvPr/>
        </p:nvCxnSpPr>
        <p:spPr>
          <a:xfrm flipH="1">
            <a:off x="2666160" y="152388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42" idx="0"/>
            <a:endCxn id="342" idx="0"/>
          </p:cNvCxnSpPr>
          <p:nvPr/>
        </p:nvCxnSpPr>
        <p:spPr>
          <a:xfrm>
            <a:off x="3504960" y="1676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39" idx="4"/>
            <a:endCxn id="342" idx="0"/>
          </p:cNvCxnSpPr>
          <p:nvPr/>
        </p:nvCxnSpPr>
        <p:spPr>
          <a:xfrm>
            <a:off x="3504960" y="1523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7238880" y="609480"/>
            <a:ext cx="114300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 Ask/deli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e/LKMS/exter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220" idx="6"/>
            <a:endCxn id="340" idx="2"/>
          </p:cNvCxnSpPr>
          <p:nvPr/>
        </p:nvCxnSpPr>
        <p:spPr>
          <a:xfrm>
            <a:off x="1980720" y="799920"/>
            <a:ext cx="17535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40" idx="6"/>
            <a:endCxn id="295" idx="2"/>
          </p:cNvCxnSpPr>
          <p:nvPr/>
        </p:nvCxnSpPr>
        <p:spPr>
          <a:xfrm flipV="1">
            <a:off x="5181120" y="875880"/>
            <a:ext cx="20577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87631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5257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272" idx="0"/>
            <a:endCxn id="218" idx="6"/>
          </p:cNvCxnSpPr>
          <p:nvPr/>
        </p:nvCxnSpPr>
        <p:spPr>
          <a:xfrm flipH="1">
            <a:off x="7238160" y="4952880"/>
            <a:ext cx="343800" cy="191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685800" y="5715000"/>
            <a:ext cx="1066680" cy="609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Aggreg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0"/>
            <a:endCxn id="216" idx="4"/>
          </p:cNvCxnSpPr>
          <p:nvPr/>
        </p:nvCxnSpPr>
        <p:spPr>
          <a:xfrm flipV="1">
            <a:off x="1218960" y="5333760"/>
            <a:ext cx="1486440" cy="381600"/>
          </a:xfrm>
          <a:prstGeom prst="straightConnector1">
            <a:avLst/>
          </a:prstGeom>
          <a:ln w="12600">
            <a:solidFill>
              <a:srgbClr val="ff00ff"/>
            </a:solidFill>
            <a:miter/>
          </a:ln>
        </p:spPr>
      </p:cxnSp>
      <p:cxnSp>
        <p:nvCxnSpPr>
          <p:cNvPr id="355" name=""/>
          <p:cNvCxnSpPr>
            <a:stCxn id="353" idx="0"/>
            <a:endCxn id="217" idx="3"/>
          </p:cNvCxnSpPr>
          <p:nvPr/>
        </p:nvCxnSpPr>
        <p:spPr>
          <a:xfrm flipV="1">
            <a:off x="1218960" y="5277600"/>
            <a:ext cx="3051720" cy="437400"/>
          </a:xfrm>
          <a:prstGeom prst="straightConnector1">
            <a:avLst/>
          </a:prstGeom>
          <a:ln w="12600">
            <a:solidFill>
              <a:srgbClr val="ff00ff"/>
            </a:solidFill>
            <a:miter/>
          </a:ln>
        </p:spPr>
      </p:cxnSp>
      <p:cxnSp>
        <p:nvCxnSpPr>
          <p:cNvPr id="356" name=""/>
          <p:cNvCxnSpPr>
            <a:stCxn id="353" idx="0"/>
            <a:endCxn id="218" idx="3"/>
          </p:cNvCxnSpPr>
          <p:nvPr/>
        </p:nvCxnSpPr>
        <p:spPr>
          <a:xfrm flipV="1">
            <a:off x="1218960" y="5277600"/>
            <a:ext cx="5043960" cy="437400"/>
          </a:xfrm>
          <a:prstGeom prst="straightConnector1">
            <a:avLst/>
          </a:prstGeom>
          <a:ln w="12600">
            <a:solidFill>
              <a:srgbClr val="ff00ff"/>
            </a:solidFill>
            <a:miter/>
          </a:ln>
        </p:spPr>
      </p:cxnSp>
      <p:cxnSp>
        <p:nvCxnSpPr>
          <p:cNvPr id="357" name=""/>
          <p:cNvCxnSpPr>
            <a:stCxn id="353" idx="0"/>
            <a:endCxn id="219" idx="4"/>
          </p:cNvCxnSpPr>
          <p:nvPr/>
        </p:nvCxnSpPr>
        <p:spPr>
          <a:xfrm flipH="1" flipV="1">
            <a:off x="1143000" y="5333760"/>
            <a:ext cx="76680" cy="381600"/>
          </a:xfrm>
          <a:prstGeom prst="straightConnector1">
            <a:avLst/>
          </a:prstGeom>
          <a:ln w="12600">
            <a:solidFill>
              <a:srgbClr val="ff00ff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1905120" y="10666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0280" y="10666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32767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4120" y="33526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5120" y="26668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32004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00400" y="6400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6324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86600" y="63244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0" y="304920"/>
            <a:ext cx="4419720" cy="2743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457200"/>
            <a:ext cx="4191120" cy="2438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2209680"/>
            <a:ext cx="91440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6400800"/>
            <a:ext cx="3047760" cy="304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685800"/>
            <a:ext cx="685800" cy="380880"/>
          </a:xfrm>
          <a:prstGeom prst="hexagon">
            <a:avLst>
              <a:gd name="adj" fmla="val 4501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14300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m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1" idx="2"/>
            <a:endCxn id="372" idx="0"/>
          </p:cNvCxnSpPr>
          <p:nvPr/>
        </p:nvCxnSpPr>
        <p:spPr>
          <a:xfrm flipH="1">
            <a:off x="952200" y="1066680"/>
            <a:ext cx="1372320" cy="766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3352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74" idx="0"/>
            <a:endCxn id="372" idx="4"/>
          </p:cNvCxnSpPr>
          <p:nvPr/>
        </p:nvCxnSpPr>
        <p:spPr>
          <a:xfrm flipH="1" flipV="1">
            <a:off x="952200" y="1599840"/>
            <a:ext cx="38880" cy="2820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2" idx="6"/>
            <a:endCxn id="377" idx="1"/>
          </p:cNvCxnSpPr>
          <p:nvPr/>
        </p:nvCxnSpPr>
        <p:spPr>
          <a:xfrm>
            <a:off x="1447560" y="1371240"/>
            <a:ext cx="610200" cy="191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1828800" y="205740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6094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8680" y="1523880"/>
            <a:ext cx="9144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1066680"/>
            <a:ext cx="6858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9" idx="2"/>
            <a:endCxn id="381" idx="0"/>
          </p:cNvCxnSpPr>
          <p:nvPr/>
        </p:nvCxnSpPr>
        <p:spPr>
          <a:xfrm flipH="1">
            <a:off x="5066640" y="990360"/>
            <a:ext cx="762840" cy="766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81" idx="4"/>
            <a:endCxn id="384" idx="0"/>
          </p:cNvCxnSpPr>
          <p:nvPr/>
        </p:nvCxnSpPr>
        <p:spPr>
          <a:xfrm>
            <a:off x="5067360" y="1447920"/>
            <a:ext cx="34344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9" idx="2"/>
            <a:endCxn id="386" idx="1"/>
          </p:cNvCxnSpPr>
          <p:nvPr/>
        </p:nvCxnSpPr>
        <p:spPr>
          <a:xfrm>
            <a:off x="5829480" y="990360"/>
            <a:ext cx="498960" cy="673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4" idx="0"/>
            <a:endCxn id="380" idx="2"/>
          </p:cNvCxnSpPr>
          <p:nvPr/>
        </p:nvCxnSpPr>
        <p:spPr>
          <a:xfrm flipV="1">
            <a:off x="5409720" y="1638000"/>
            <a:ext cx="229320" cy="267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4876920" y="1905120"/>
            <a:ext cx="106668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95480" y="2057400"/>
            <a:ext cx="7621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2"/>
            <a:endCxn id="388" idx="0"/>
          </p:cNvCxnSpPr>
          <p:nvPr/>
        </p:nvCxnSpPr>
        <p:spPr>
          <a:xfrm>
            <a:off x="2324160" y="1066680"/>
            <a:ext cx="953280" cy="9914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77" idx="3"/>
            <a:endCxn id="388" idx="1"/>
          </p:cNvCxnSpPr>
          <p:nvPr/>
        </p:nvCxnSpPr>
        <p:spPr>
          <a:xfrm>
            <a:off x="2971440" y="1562040"/>
            <a:ext cx="35640" cy="551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92" idx="1"/>
            <a:endCxn id="393" idx="2"/>
          </p:cNvCxnSpPr>
          <p:nvPr/>
        </p:nvCxnSpPr>
        <p:spPr>
          <a:xfrm flipH="1" flipV="1">
            <a:off x="6895800" y="4190760"/>
            <a:ext cx="343440" cy="343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92" idx="0"/>
            <a:endCxn id="380" idx="4"/>
          </p:cNvCxnSpPr>
          <p:nvPr/>
        </p:nvCxnSpPr>
        <p:spPr>
          <a:xfrm flipH="1" flipV="1">
            <a:off x="6095160" y="1751760"/>
            <a:ext cx="1600920" cy="2515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990720" y="190512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2" idx="4"/>
            <a:endCxn id="395" idx="0"/>
          </p:cNvCxnSpPr>
          <p:nvPr/>
        </p:nvCxnSpPr>
        <p:spPr>
          <a:xfrm>
            <a:off x="952560" y="1599840"/>
            <a:ext cx="3816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2514600" y="380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14240" y="838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Use phase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5" idx="6"/>
            <a:endCxn id="378" idx="1"/>
          </p:cNvCxnSpPr>
          <p:nvPr/>
        </p:nvCxnSpPr>
        <p:spPr>
          <a:xfrm>
            <a:off x="1676160" y="2095560"/>
            <a:ext cx="153000" cy="38880"/>
          </a:xfrm>
          <a:prstGeom prst="straightConnector1">
            <a:avLst/>
          </a:prstGeom>
          <a:ln w="12600">
            <a:solidFill>
              <a:srgbClr val="008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828800" y="236232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395" idx="6"/>
            <a:endCxn id="400" idx="1"/>
          </p:cNvCxnSpPr>
          <p:nvPr/>
        </p:nvCxnSpPr>
        <p:spPr>
          <a:xfrm>
            <a:off x="1676160" y="2095560"/>
            <a:ext cx="153000" cy="343440"/>
          </a:xfrm>
          <a:prstGeom prst="straightConnector1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402" name=""/>
          <p:cNvCxnSpPr>
            <a:stCxn id="395" idx="6"/>
            <a:endCxn id="369" idx="1"/>
          </p:cNvCxnSpPr>
          <p:nvPr/>
        </p:nvCxnSpPr>
        <p:spPr>
          <a:xfrm>
            <a:off x="1676160" y="2095200"/>
            <a:ext cx="153000" cy="191160"/>
          </a:xfrm>
          <a:prstGeom prst="straightConnector1">
            <a:avLst/>
          </a:prstGeom>
          <a:ln w="12600">
            <a:solidFill>
              <a:srgbClr val="008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2819520" y="685800"/>
            <a:ext cx="761760" cy="38088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i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6477120"/>
            <a:ext cx="6098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6400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22860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3903840"/>
            <a:ext cx="609480" cy="21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3868560"/>
            <a:ext cx="53352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190512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395" idx="6"/>
            <a:endCxn id="409" idx="1"/>
          </p:cNvCxnSpPr>
          <p:nvPr/>
        </p:nvCxnSpPr>
        <p:spPr>
          <a:xfrm flipV="1">
            <a:off x="1676160" y="1980720"/>
            <a:ext cx="1530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1" name=""/>
          <p:cNvCxnSpPr/>
          <p:nvPr/>
        </p:nvCxnSpPr>
        <p:spPr>
          <a:xfrm>
            <a:off x="1831680" y="89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7010280" y="685800"/>
            <a:ext cx="685800" cy="304920"/>
          </a:xfrm>
          <a:prstGeom prst="hexagon">
            <a:avLst>
              <a:gd name="adj" fmla="val 5622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u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236232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a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1981080"/>
            <a:ext cx="9144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0" y="1600200"/>
            <a:ext cx="9144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24680" y="167652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380" idx="5"/>
            <a:endCxn id="414" idx="0"/>
          </p:cNvCxnSpPr>
          <p:nvPr/>
        </p:nvCxnSpPr>
        <p:spPr>
          <a:xfrm>
            <a:off x="6419880" y="1719000"/>
            <a:ext cx="286560" cy="26208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cxnSp>
        <p:nvCxnSpPr>
          <p:cNvPr id="418" name=""/>
          <p:cNvCxnSpPr>
            <a:stCxn id="380" idx="5"/>
            <a:endCxn id="413" idx="0"/>
          </p:cNvCxnSpPr>
          <p:nvPr/>
        </p:nvCxnSpPr>
        <p:spPr>
          <a:xfrm flipH="1">
            <a:off x="5981040" y="1719360"/>
            <a:ext cx="438840" cy="64332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cxnSp>
        <p:nvCxnSpPr>
          <p:cNvPr id="419" name=""/>
          <p:cNvCxnSpPr>
            <a:stCxn id="380" idx="5"/>
            <a:endCxn id="415" idx="2"/>
          </p:cNvCxnSpPr>
          <p:nvPr/>
        </p:nvCxnSpPr>
        <p:spPr>
          <a:xfrm>
            <a:off x="6419520" y="1719360"/>
            <a:ext cx="438840" cy="7200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7315200" y="1295280"/>
            <a:ext cx="11430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15" idx="6"/>
            <a:endCxn id="416" idx="1"/>
          </p:cNvCxnSpPr>
          <p:nvPr/>
        </p:nvCxnSpPr>
        <p:spPr>
          <a:xfrm flipV="1">
            <a:off x="7772040" y="1709280"/>
            <a:ext cx="253080" cy="8136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cxnSp>
        <p:nvCxnSpPr>
          <p:cNvPr id="422" name=""/>
          <p:cNvCxnSpPr>
            <a:stCxn id="412" idx="2"/>
            <a:endCxn id="420" idx="0"/>
          </p:cNvCxnSpPr>
          <p:nvPr/>
        </p:nvCxnSpPr>
        <p:spPr>
          <a:xfrm>
            <a:off x="7353360" y="990720"/>
            <a:ext cx="534240" cy="3052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7467480" y="2514600"/>
            <a:ext cx="9907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duct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4"/>
            <a:endCxn id="423" idx="0"/>
          </p:cNvCxnSpPr>
          <p:nvPr/>
        </p:nvCxnSpPr>
        <p:spPr>
          <a:xfrm flipH="1">
            <a:off x="7962120" y="1904760"/>
            <a:ext cx="305640" cy="610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6172200" y="990720"/>
            <a:ext cx="10666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e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2"/>
            <a:endCxn id="386" idx="7"/>
          </p:cNvCxnSpPr>
          <p:nvPr/>
        </p:nvCxnSpPr>
        <p:spPr>
          <a:xfrm flipH="1">
            <a:off x="7083000" y="990360"/>
            <a:ext cx="270720" cy="673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379" idx="2"/>
            <a:endCxn id="380" idx="0"/>
          </p:cNvCxnSpPr>
          <p:nvPr/>
        </p:nvCxnSpPr>
        <p:spPr>
          <a:xfrm>
            <a:off x="5829480" y="990360"/>
            <a:ext cx="267120" cy="5338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4" idx="4"/>
            <a:endCxn id="406" idx="0"/>
          </p:cNvCxnSpPr>
          <p:nvPr/>
        </p:nvCxnSpPr>
        <p:spPr>
          <a:xfrm>
            <a:off x="6705720" y="2209680"/>
            <a:ext cx="76248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a Aggregation processes -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03" idx="2"/>
            <a:endCxn id="430" idx="0"/>
          </p:cNvCxnSpPr>
          <p:nvPr/>
        </p:nvCxnSpPr>
        <p:spPr>
          <a:xfrm>
            <a:off x="3200040" y="1066680"/>
            <a:ext cx="343800" cy="153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7238880" y="426708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2895480"/>
            <a:ext cx="3962160" cy="198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297180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3886200"/>
            <a:ext cx="11430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 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2" idx="2"/>
            <a:endCxn id="433" idx="0"/>
          </p:cNvCxnSpPr>
          <p:nvPr/>
        </p:nvCxnSpPr>
        <p:spPr>
          <a:xfrm>
            <a:off x="4228920" y="3429000"/>
            <a:ext cx="76680" cy="4579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152388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3809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44197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tri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388" idx="4"/>
            <a:endCxn id="435" idx="0"/>
          </p:cNvCxnSpPr>
          <p:nvPr/>
        </p:nvCxnSpPr>
        <p:spPr>
          <a:xfrm flipH="1">
            <a:off x="1980360" y="2438280"/>
            <a:ext cx="1296360" cy="1982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2666880" y="3276720"/>
            <a:ext cx="8384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2" idx="2"/>
            <a:endCxn id="438" idx="7"/>
          </p:cNvCxnSpPr>
          <p:nvPr/>
        </p:nvCxnSpPr>
        <p:spPr>
          <a:xfrm flipH="1" flipV="1">
            <a:off x="3382200" y="3331440"/>
            <a:ext cx="847080" cy="975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724280" y="4267080"/>
            <a:ext cx="99072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tivate 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2" idx="2"/>
            <a:endCxn id="440" idx="1"/>
          </p:cNvCxnSpPr>
          <p:nvPr/>
        </p:nvCxnSpPr>
        <p:spPr>
          <a:xfrm>
            <a:off x="4228920" y="3428640"/>
            <a:ext cx="640440" cy="8946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0" idx="2"/>
            <a:endCxn id="435" idx="0"/>
          </p:cNvCxnSpPr>
          <p:nvPr/>
        </p:nvCxnSpPr>
        <p:spPr>
          <a:xfrm flipH="1" flipV="1">
            <a:off x="1980720" y="4419360"/>
            <a:ext cx="2743920" cy="38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38" idx="3"/>
            <a:endCxn id="435" idx="0"/>
          </p:cNvCxnSpPr>
          <p:nvPr/>
        </p:nvCxnSpPr>
        <p:spPr>
          <a:xfrm flipH="1">
            <a:off x="1980360" y="3601800"/>
            <a:ext cx="808920" cy="8182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4572000" y="31240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 Prepare use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380988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las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38" idx="4"/>
            <a:endCxn id="445" idx="0"/>
          </p:cNvCxnSpPr>
          <p:nvPr/>
        </p:nvCxnSpPr>
        <p:spPr>
          <a:xfrm>
            <a:off x="3085920" y="3657240"/>
            <a:ext cx="76680" cy="1530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5" idx="3"/>
            <a:endCxn id="433" idx="1"/>
          </p:cNvCxnSpPr>
          <p:nvPr/>
        </p:nvCxnSpPr>
        <p:spPr>
          <a:xfrm>
            <a:off x="3657240" y="3924360"/>
            <a:ext cx="243720" cy="180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5029200" y="3733920"/>
            <a:ext cx="99072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Instan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33" idx="7"/>
            <a:endCxn id="448" idx="1"/>
          </p:cNvCxnSpPr>
          <p:nvPr/>
        </p:nvCxnSpPr>
        <p:spPr>
          <a:xfrm flipV="1">
            <a:off x="4710240" y="3847680"/>
            <a:ext cx="319680" cy="94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8" idx="2"/>
            <a:endCxn id="440" idx="0"/>
          </p:cNvCxnSpPr>
          <p:nvPr/>
        </p:nvCxnSpPr>
        <p:spPr>
          <a:xfrm flipH="1">
            <a:off x="5218920" y="3962520"/>
            <a:ext cx="305640" cy="3052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3048120" y="1219320"/>
            <a:ext cx="9903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5334120"/>
            <a:ext cx="838080" cy="4572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195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5334120"/>
            <a:ext cx="838440" cy="4572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5334120"/>
            <a:ext cx="838080" cy="4572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5334120"/>
            <a:ext cx="838080" cy="4572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5334120"/>
            <a:ext cx="2514600" cy="4572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320" y="5410080"/>
            <a:ext cx="6858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5410080"/>
            <a:ext cx="6858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36" idx="2"/>
            <a:endCxn id="463" idx="3"/>
          </p:cNvCxnSpPr>
          <p:nvPr/>
        </p:nvCxnSpPr>
        <p:spPr>
          <a:xfrm flipH="1">
            <a:off x="6130080" y="4800240"/>
            <a:ext cx="423000" cy="1113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36" idx="2"/>
            <a:endCxn id="465" idx="3"/>
          </p:cNvCxnSpPr>
          <p:nvPr/>
        </p:nvCxnSpPr>
        <p:spPr>
          <a:xfrm flipH="1">
            <a:off x="2536560" y="4800240"/>
            <a:ext cx="4016880" cy="1113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7165800" y="609588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OS semantic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251460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381" idx="4"/>
            <a:endCxn id="436" idx="0"/>
          </p:cNvCxnSpPr>
          <p:nvPr/>
        </p:nvCxnSpPr>
        <p:spPr>
          <a:xfrm>
            <a:off x="5067000" y="1447560"/>
            <a:ext cx="1486440" cy="2972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469" name=""/>
          <p:cNvSpPr/>
          <p:nvPr/>
        </p:nvSpPr>
        <p:spPr>
          <a:xfrm>
            <a:off x="6934320" y="647712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77120" y="5334120"/>
            <a:ext cx="838080" cy="4572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5308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5334120"/>
            <a:ext cx="838080" cy="4572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153280" y="5334120"/>
            <a:ext cx="838440" cy="4572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2960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43600" y="6477120"/>
            <a:ext cx="6094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36" idx="2"/>
            <a:endCxn id="370" idx="0"/>
          </p:cNvCxnSpPr>
          <p:nvPr/>
        </p:nvCxnSpPr>
        <p:spPr>
          <a:xfrm flipH="1">
            <a:off x="6171840" y="4800600"/>
            <a:ext cx="381600" cy="157536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393" idx="2"/>
            <a:endCxn id="370" idx="0"/>
          </p:cNvCxnSpPr>
          <p:nvPr/>
        </p:nvCxnSpPr>
        <p:spPr>
          <a:xfrm flipH="1">
            <a:off x="6171480" y="4190760"/>
            <a:ext cx="724680" cy="218484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36" idx="2"/>
            <a:endCxn id="480" idx="1"/>
          </p:cNvCxnSpPr>
          <p:nvPr/>
        </p:nvCxnSpPr>
        <p:spPr>
          <a:xfrm>
            <a:off x="6552720" y="4800240"/>
            <a:ext cx="1972440" cy="1113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85800" y="6248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6248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6248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6248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43200" y="62485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59" idx="2"/>
            <a:endCxn id="482" idx="0"/>
          </p:cNvCxnSpPr>
          <p:nvPr/>
        </p:nvCxnSpPr>
        <p:spPr>
          <a:xfrm flipH="1">
            <a:off x="342720" y="5816520"/>
            <a:ext cx="9151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59" idx="2"/>
            <a:endCxn id="481" idx="0"/>
          </p:cNvCxnSpPr>
          <p:nvPr/>
        </p:nvCxnSpPr>
        <p:spPr>
          <a:xfrm flipH="1">
            <a:off x="1028160" y="5816520"/>
            <a:ext cx="2293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59" idx="2"/>
            <a:endCxn id="483" idx="0"/>
          </p:cNvCxnSpPr>
          <p:nvPr/>
        </p:nvCxnSpPr>
        <p:spPr>
          <a:xfrm>
            <a:off x="1257480" y="5816520"/>
            <a:ext cx="4579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59" idx="2"/>
            <a:endCxn id="484" idx="0"/>
          </p:cNvCxnSpPr>
          <p:nvPr/>
        </p:nvCxnSpPr>
        <p:spPr>
          <a:xfrm>
            <a:off x="1257120" y="5816520"/>
            <a:ext cx="1143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59" idx="2"/>
            <a:endCxn id="485" idx="0"/>
          </p:cNvCxnSpPr>
          <p:nvPr/>
        </p:nvCxnSpPr>
        <p:spPr>
          <a:xfrm>
            <a:off x="1257480" y="5816520"/>
            <a:ext cx="18295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828800" y="2666880"/>
            <a:ext cx="91440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791320"/>
            <a:ext cx="54612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534520" y="5791320"/>
            <a:ext cx="43812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791320"/>
            <a:ext cx="48276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54100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5" idx="2"/>
            <a:endCxn id="370" idx="1"/>
          </p:cNvCxnSpPr>
          <p:nvPr/>
        </p:nvCxnSpPr>
        <p:spPr>
          <a:xfrm>
            <a:off x="2253960" y="6044760"/>
            <a:ext cx="2369160" cy="50868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63" idx="2"/>
            <a:endCxn id="370" idx="1"/>
          </p:cNvCxnSpPr>
          <p:nvPr/>
        </p:nvCxnSpPr>
        <p:spPr>
          <a:xfrm flipH="1">
            <a:off x="4622040" y="6044760"/>
            <a:ext cx="1258200" cy="50868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0" idx="2"/>
            <a:endCxn id="370" idx="1"/>
          </p:cNvCxnSpPr>
          <p:nvPr/>
        </p:nvCxnSpPr>
        <p:spPr>
          <a:xfrm flipH="1">
            <a:off x="4622400" y="6044760"/>
            <a:ext cx="4131360" cy="50868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35" idx="2"/>
            <a:endCxn id="460" idx="0"/>
          </p:cNvCxnSpPr>
          <p:nvPr/>
        </p:nvCxnSpPr>
        <p:spPr>
          <a:xfrm flipH="1">
            <a:off x="418320" y="4952880"/>
            <a:ext cx="15627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28600" y="167652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372" idx="4"/>
            <a:endCxn id="497" idx="0"/>
          </p:cNvCxnSpPr>
          <p:nvPr/>
        </p:nvCxnSpPr>
        <p:spPr>
          <a:xfrm flipH="1">
            <a:off x="571320" y="1600200"/>
            <a:ext cx="381600" cy="76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395" idx="6"/>
            <a:endCxn id="491" idx="1"/>
          </p:cNvCxnSpPr>
          <p:nvPr/>
        </p:nvCxnSpPr>
        <p:spPr>
          <a:xfrm>
            <a:off x="1676160" y="2095200"/>
            <a:ext cx="1530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395" idx="6"/>
            <a:endCxn id="467" idx="1"/>
          </p:cNvCxnSpPr>
          <p:nvPr/>
        </p:nvCxnSpPr>
        <p:spPr>
          <a:xfrm>
            <a:off x="1676160" y="2095560"/>
            <a:ext cx="153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35" idx="2"/>
            <a:endCxn id="461" idx="0"/>
          </p:cNvCxnSpPr>
          <p:nvPr/>
        </p:nvCxnSpPr>
        <p:spPr>
          <a:xfrm flipH="1">
            <a:off x="1257120" y="4952880"/>
            <a:ext cx="72432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35" idx="2"/>
            <a:endCxn id="492" idx="0"/>
          </p:cNvCxnSpPr>
          <p:nvPr/>
        </p:nvCxnSpPr>
        <p:spPr>
          <a:xfrm>
            <a:off x="1981080" y="4952880"/>
            <a:ext cx="11520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5943600" y="266688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e, cl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23" idx="2"/>
            <a:endCxn id="503" idx="6"/>
          </p:cNvCxnSpPr>
          <p:nvPr/>
        </p:nvCxnSpPr>
        <p:spPr>
          <a:xfrm flipH="1">
            <a:off x="6705360" y="2743200"/>
            <a:ext cx="1257840" cy="38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06" idx="2"/>
            <a:endCxn id="503" idx="6"/>
          </p:cNvCxnSpPr>
          <p:nvPr/>
        </p:nvCxnSpPr>
        <p:spPr>
          <a:xfrm flipH="1">
            <a:off x="6705360" y="2514240"/>
            <a:ext cx="762480" cy="267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35" idx="0"/>
            <a:endCxn id="503" idx="2"/>
          </p:cNvCxnSpPr>
          <p:nvPr/>
        </p:nvCxnSpPr>
        <p:spPr>
          <a:xfrm flipV="1">
            <a:off x="1980720" y="2780640"/>
            <a:ext cx="3963240" cy="1639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7" name=""/>
          <p:cNvCxnSpPr>
            <a:stCxn id="420" idx="4"/>
            <a:endCxn id="406" idx="0"/>
          </p:cNvCxnSpPr>
          <p:nvPr/>
        </p:nvCxnSpPr>
        <p:spPr>
          <a:xfrm flipH="1">
            <a:off x="7466760" y="1523520"/>
            <a:ext cx="420120" cy="7628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7464600" y="2895480"/>
            <a:ext cx="1679400" cy="1295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27400" y="38862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Analyze phase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02680" y="3200400"/>
            <a:ext cx="685800" cy="380880"/>
          </a:xfrm>
          <a:prstGeom prst="hexagon">
            <a:avLst>
              <a:gd name="adj" fmla="val 4501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3581280"/>
            <a:ext cx="8380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924680" y="3809880"/>
            <a:ext cx="8384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7"/>
            <a:endCxn id="512" idx="0"/>
          </p:cNvCxnSpPr>
          <p:nvPr/>
        </p:nvCxnSpPr>
        <p:spPr>
          <a:xfrm flipH="1" flipV="1">
            <a:off x="8343720" y="3809520"/>
            <a:ext cx="29736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10" idx="1"/>
            <a:endCxn id="512" idx="0"/>
          </p:cNvCxnSpPr>
          <p:nvPr/>
        </p:nvCxnSpPr>
        <p:spPr>
          <a:xfrm>
            <a:off x="8302320" y="3390840"/>
            <a:ext cx="41760" cy="4197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10" idx="1"/>
            <a:endCxn id="511" idx="4"/>
          </p:cNvCxnSpPr>
          <p:nvPr/>
        </p:nvCxnSpPr>
        <p:spPr>
          <a:xfrm flipH="1">
            <a:off x="7962840" y="3390480"/>
            <a:ext cx="340200" cy="343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8001000" y="2971800"/>
            <a:ext cx="6094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0" idx="1"/>
            <a:endCxn id="516" idx="4"/>
          </p:cNvCxnSpPr>
          <p:nvPr/>
        </p:nvCxnSpPr>
        <p:spPr>
          <a:xfrm flipV="1">
            <a:off x="8302320" y="3123720"/>
            <a:ext cx="3960" cy="2671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9" idx="2"/>
            <a:endCxn id="511" idx="0"/>
          </p:cNvCxnSpPr>
          <p:nvPr/>
        </p:nvCxnSpPr>
        <p:spPr>
          <a:xfrm>
            <a:off x="7848360" y="3428640"/>
            <a:ext cx="114840" cy="1530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435" idx="0"/>
            <a:endCxn id="516" idx="2"/>
          </p:cNvCxnSpPr>
          <p:nvPr/>
        </p:nvCxnSpPr>
        <p:spPr>
          <a:xfrm flipV="1">
            <a:off x="1981080" y="3047760"/>
            <a:ext cx="6020640" cy="1372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12" idx="2"/>
            <a:endCxn id="522" idx="6"/>
          </p:cNvCxnSpPr>
          <p:nvPr/>
        </p:nvCxnSpPr>
        <p:spPr>
          <a:xfrm flipH="1" flipV="1">
            <a:off x="4876560" y="2570040"/>
            <a:ext cx="3048480" cy="13165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3962520" y="2438280"/>
            <a:ext cx="914400" cy="26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22" idx="2"/>
            <a:endCxn id="368" idx="5"/>
          </p:cNvCxnSpPr>
          <p:nvPr/>
        </p:nvCxnSpPr>
        <p:spPr>
          <a:xfrm flipH="1" flipV="1">
            <a:off x="3728160" y="2538000"/>
            <a:ext cx="23436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0" y="2819520"/>
            <a:ext cx="609480" cy="304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00400"/>
            <a:ext cx="1905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7" idx="0"/>
            <a:endCxn id="524" idx="2"/>
          </p:cNvCxnSpPr>
          <p:nvPr/>
        </p:nvCxnSpPr>
        <p:spPr>
          <a:xfrm flipH="1" flipV="1">
            <a:off x="304200" y="3123720"/>
            <a:ext cx="990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762120" y="3276720"/>
            <a:ext cx="609480" cy="380880"/>
          </a:xfrm>
          <a:prstGeom prst="hexagon">
            <a:avLst>
              <a:gd name="adj" fmla="val 40005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is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2280" y="3276720"/>
            <a:ext cx="50004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1"/>
            <a:endCxn id="527" idx="6"/>
          </p:cNvCxnSpPr>
          <p:nvPr/>
        </p:nvCxnSpPr>
        <p:spPr>
          <a:xfrm flipH="1" flipV="1">
            <a:off x="651600" y="3376080"/>
            <a:ext cx="1105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4" idx="0"/>
            <a:endCxn id="368" idx="3"/>
          </p:cNvCxnSpPr>
          <p:nvPr/>
        </p:nvCxnSpPr>
        <p:spPr>
          <a:xfrm flipV="1">
            <a:off x="304560" y="2537640"/>
            <a:ext cx="462600" cy="2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228600" y="3657600"/>
            <a:ext cx="17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repare design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7" idx="4"/>
            <a:endCxn id="374" idx="0"/>
          </p:cNvCxnSpPr>
          <p:nvPr/>
        </p:nvCxnSpPr>
        <p:spPr>
          <a:xfrm>
            <a:off x="403200" y="3475080"/>
            <a:ext cx="58824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403" idx="2"/>
            <a:endCxn id="372" idx="6"/>
          </p:cNvCxnSpPr>
          <p:nvPr/>
        </p:nvCxnSpPr>
        <p:spPr>
          <a:xfrm flipH="1">
            <a:off x="1447560" y="1066320"/>
            <a:ext cx="1753200" cy="305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392" idx="0"/>
            <a:endCxn id="503" idx="4"/>
          </p:cNvCxnSpPr>
          <p:nvPr/>
        </p:nvCxnSpPr>
        <p:spPr>
          <a:xfrm flipH="1" flipV="1">
            <a:off x="6324120" y="2895120"/>
            <a:ext cx="1372320" cy="1372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19" name=""/>
          <p:cNvSpPr/>
          <p:nvPr/>
        </p:nvSpPr>
        <p:spPr>
          <a:xfrm>
            <a:off x="7543800" y="3200400"/>
            <a:ext cx="609480" cy="228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16" idx="4"/>
            <a:endCxn id="519" idx="0"/>
          </p:cNvCxnSpPr>
          <p:nvPr/>
        </p:nvCxnSpPr>
        <p:spPr>
          <a:xfrm flipH="1">
            <a:off x="7848360" y="3124080"/>
            <a:ext cx="457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393" idx="0"/>
            <a:endCxn id="415" idx="4"/>
          </p:cNvCxnSpPr>
          <p:nvPr/>
        </p:nvCxnSpPr>
        <p:spPr>
          <a:xfrm flipV="1">
            <a:off x="6896160" y="1980720"/>
            <a:ext cx="419760" cy="1829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7848360" y="4952880"/>
            <a:ext cx="109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LOS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1523880"/>
            <a:ext cx="6858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SC 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372" idx="4"/>
            <a:endCxn id="538" idx="2"/>
          </p:cNvCxnSpPr>
          <p:nvPr/>
        </p:nvCxnSpPr>
        <p:spPr>
          <a:xfrm>
            <a:off x="952560" y="1600200"/>
            <a:ext cx="3434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456120" y="91440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762120"/>
            <a:ext cx="44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g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96360" y="685800"/>
            <a:ext cx="5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che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372" idx="0"/>
            <a:endCxn id="540" idx="3"/>
          </p:cNvCxnSpPr>
          <p:nvPr/>
        </p:nvCxnSpPr>
        <p:spPr>
          <a:xfrm flipH="1" flipV="1">
            <a:off x="753480" y="1036080"/>
            <a:ext cx="1990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372" idx="0"/>
          </p:cNvCxnSpPr>
          <p:nvPr/>
        </p:nvCxnSpPr>
        <p:spPr>
          <a:xfrm flipH="1" flipV="1">
            <a:off x="947160" y="990000"/>
            <a:ext cx="54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372" idx="0"/>
            <a:endCxn id="542" idx="2"/>
          </p:cNvCxnSpPr>
          <p:nvPr/>
        </p:nvCxnSpPr>
        <p:spPr>
          <a:xfrm flipV="1">
            <a:off x="952200" y="929520"/>
            <a:ext cx="62460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2057400" y="144792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2440" y="152280"/>
            <a:ext cx="19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3000" y="152280"/>
            <a:ext cx="1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99840" y="152280"/>
            <a:ext cx="30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v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377" idx="0"/>
            <a:endCxn id="546" idx="3"/>
          </p:cNvCxnSpPr>
          <p:nvPr/>
        </p:nvCxnSpPr>
        <p:spPr>
          <a:xfrm flipH="1" flipV="1">
            <a:off x="729360" y="273960"/>
            <a:ext cx="1785240" cy="117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377" idx="0"/>
            <a:endCxn id="547" idx="2"/>
          </p:cNvCxnSpPr>
          <p:nvPr/>
        </p:nvCxnSpPr>
        <p:spPr>
          <a:xfrm flipH="1" flipV="1">
            <a:off x="1211040" y="396360"/>
            <a:ext cx="1303920" cy="105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377" idx="0"/>
            <a:endCxn id="548" idx="2"/>
          </p:cNvCxnSpPr>
          <p:nvPr/>
        </p:nvCxnSpPr>
        <p:spPr>
          <a:xfrm flipH="1" flipV="1">
            <a:off x="1751760" y="396360"/>
            <a:ext cx="762840" cy="105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386" idx="4"/>
            <a:endCxn id="503" idx="0"/>
          </p:cNvCxnSpPr>
          <p:nvPr/>
        </p:nvCxnSpPr>
        <p:spPr>
          <a:xfrm flipH="1">
            <a:off x="6323760" y="1447920"/>
            <a:ext cx="38196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0" y="304920"/>
            <a:ext cx="4419720" cy="2514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533520"/>
            <a:ext cx="4648320" cy="2743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457200"/>
            <a:ext cx="4191120" cy="2743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6880" y="190512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6400800"/>
            <a:ext cx="2209680" cy="304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457200"/>
            <a:ext cx="685800" cy="304920"/>
          </a:xfrm>
          <a:prstGeom prst="hexagon">
            <a:avLst>
              <a:gd name="adj" fmla="val 5622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99072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m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43000" y="2362320"/>
            <a:ext cx="762120" cy="33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i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1143000"/>
            <a:ext cx="9144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59" idx="4"/>
            <a:endCxn id="560" idx="0"/>
          </p:cNvCxnSpPr>
          <p:nvPr/>
        </p:nvCxnSpPr>
        <p:spPr>
          <a:xfrm>
            <a:off x="1409400" y="1447920"/>
            <a:ext cx="114840" cy="91512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563" name=""/>
          <p:cNvCxnSpPr>
            <a:stCxn id="558" idx="2"/>
            <a:endCxn id="559" idx="0"/>
          </p:cNvCxnSpPr>
          <p:nvPr/>
        </p:nvCxnSpPr>
        <p:spPr>
          <a:xfrm flipH="1">
            <a:off x="1409040" y="761760"/>
            <a:ext cx="610200" cy="22932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228600" y="380988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0"/>
            <a:endCxn id="559" idx="4"/>
          </p:cNvCxnSpPr>
          <p:nvPr/>
        </p:nvCxnSpPr>
        <p:spPr>
          <a:xfrm flipV="1">
            <a:off x="685440" y="1447200"/>
            <a:ext cx="724680" cy="2362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59" idx="6"/>
            <a:endCxn id="561" idx="1"/>
          </p:cNvCxnSpPr>
          <p:nvPr/>
        </p:nvCxnSpPr>
        <p:spPr>
          <a:xfrm>
            <a:off x="1905120" y="1219320"/>
            <a:ext cx="381600" cy="38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666880" y="1752480"/>
            <a:ext cx="91440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609480"/>
            <a:ext cx="838440" cy="457200"/>
          </a:xfrm>
          <a:prstGeom prst="hexagon">
            <a:avLst>
              <a:gd name="adj" fmla="val 4584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1371600"/>
            <a:ext cx="9144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0" y="1143000"/>
            <a:ext cx="762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join, resu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0" idx="4"/>
            <a:endCxn id="572" idx="0"/>
          </p:cNvCxnSpPr>
          <p:nvPr/>
        </p:nvCxnSpPr>
        <p:spPr>
          <a:xfrm>
            <a:off x="4952520" y="1599840"/>
            <a:ext cx="420120" cy="1530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2"/>
            <a:endCxn id="574" idx="1"/>
          </p:cNvCxnSpPr>
          <p:nvPr/>
        </p:nvCxnSpPr>
        <p:spPr>
          <a:xfrm>
            <a:off x="6058080" y="1066680"/>
            <a:ext cx="259200" cy="4536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72" idx="0"/>
            <a:endCxn id="569" idx="2"/>
          </p:cNvCxnSpPr>
          <p:nvPr/>
        </p:nvCxnSpPr>
        <p:spPr>
          <a:xfrm flipV="1">
            <a:off x="5371920" y="1485720"/>
            <a:ext cx="114840" cy="267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72" name=""/>
          <p:cNvSpPr/>
          <p:nvPr/>
        </p:nvSpPr>
        <p:spPr>
          <a:xfrm>
            <a:off x="4800600" y="1752480"/>
            <a:ext cx="11430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Instan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58" idx="2"/>
            <a:endCxn id="577" idx="0"/>
          </p:cNvCxnSpPr>
          <p:nvPr/>
        </p:nvCxnSpPr>
        <p:spPr>
          <a:xfrm>
            <a:off x="2019240" y="762120"/>
            <a:ext cx="1905840" cy="45792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1" idx="3"/>
            <a:endCxn id="577" idx="2"/>
          </p:cNvCxnSpPr>
          <p:nvPr/>
        </p:nvCxnSpPr>
        <p:spPr>
          <a:xfrm>
            <a:off x="3200040" y="1257120"/>
            <a:ext cx="305640" cy="229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79" name=""/>
          <p:cNvCxnSpPr>
            <a:stCxn id="569" idx="4"/>
            <a:endCxn id="580" idx="2"/>
          </p:cNvCxnSpPr>
          <p:nvPr/>
        </p:nvCxnSpPr>
        <p:spPr>
          <a:xfrm>
            <a:off x="5943600" y="1599840"/>
            <a:ext cx="915120" cy="72468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581" name=""/>
          <p:cNvCxnSpPr>
            <a:stCxn id="582" idx="1"/>
            <a:endCxn id="583" idx="2"/>
          </p:cNvCxnSpPr>
          <p:nvPr/>
        </p:nvCxnSpPr>
        <p:spPr>
          <a:xfrm flipH="1" flipV="1">
            <a:off x="6438240" y="4114080"/>
            <a:ext cx="572040" cy="34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85" idx="0"/>
            <a:endCxn id="569" idx="4"/>
          </p:cNvCxnSpPr>
          <p:nvPr/>
        </p:nvCxnSpPr>
        <p:spPr>
          <a:xfrm flipH="1" flipV="1">
            <a:off x="5943240" y="1599840"/>
            <a:ext cx="1419840" cy="22867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228600" y="1219320"/>
            <a:ext cx="7621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comp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190512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compose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59" idx="4"/>
            <a:endCxn id="586" idx="5"/>
          </p:cNvCxnSpPr>
          <p:nvPr/>
        </p:nvCxnSpPr>
        <p:spPr>
          <a:xfrm flipH="1">
            <a:off x="878760" y="1447920"/>
            <a:ext cx="531000" cy="3240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589" name=""/>
          <p:cNvCxnSpPr>
            <a:stCxn id="559" idx="4"/>
            <a:endCxn id="587" idx="0"/>
          </p:cNvCxnSpPr>
          <p:nvPr/>
        </p:nvCxnSpPr>
        <p:spPr>
          <a:xfrm>
            <a:off x="1409760" y="1447920"/>
            <a:ext cx="534240" cy="45792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0" y="457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933320" y="53352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Use phase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42670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40384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4920" y="4724280"/>
            <a:ext cx="685800" cy="152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44956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stCxn id="587" idx="6"/>
            <a:endCxn id="567" idx="1"/>
          </p:cNvCxnSpPr>
          <p:nvPr/>
        </p:nvCxnSpPr>
        <p:spPr>
          <a:xfrm flipV="1">
            <a:off x="2286000" y="1828440"/>
            <a:ext cx="381600" cy="267120"/>
          </a:xfrm>
          <a:prstGeom prst="straightConnector1">
            <a:avLst/>
          </a:prstGeom>
          <a:ln w="12600">
            <a:solidFill>
              <a:srgbClr val="008000"/>
            </a:solidFill>
            <a:miter/>
          </a:ln>
        </p:spPr>
      </p:cxnSp>
      <p:sp>
        <p:nvSpPr>
          <p:cNvPr id="597" name=""/>
          <p:cNvSpPr/>
          <p:nvPr/>
        </p:nvSpPr>
        <p:spPr>
          <a:xfrm>
            <a:off x="392400" y="380988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edi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66880" y="205740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87" idx="6"/>
            <a:endCxn id="598" idx="1"/>
          </p:cNvCxnSpPr>
          <p:nvPr/>
        </p:nvCxnSpPr>
        <p:spPr>
          <a:xfrm>
            <a:off x="2286000" y="2095560"/>
            <a:ext cx="381600" cy="38880"/>
          </a:xfrm>
          <a:prstGeom prst="straightConnector1">
            <a:avLst/>
          </a:prstGeom>
          <a:ln w="12600">
            <a:solidFill>
              <a:srgbClr val="008000"/>
            </a:solidFill>
            <a:miter/>
          </a:ln>
        </p:spPr>
      </p:cxnSp>
      <p:cxnSp>
        <p:nvCxnSpPr>
          <p:cNvPr id="600" name=""/>
          <p:cNvCxnSpPr>
            <a:stCxn id="587" idx="6"/>
            <a:endCxn id="556" idx="1"/>
          </p:cNvCxnSpPr>
          <p:nvPr/>
        </p:nvCxnSpPr>
        <p:spPr>
          <a:xfrm flipV="1">
            <a:off x="2286000" y="1980720"/>
            <a:ext cx="381600" cy="115200"/>
          </a:xfrm>
          <a:prstGeom prst="straightConnector1">
            <a:avLst/>
          </a:prstGeom>
          <a:ln w="12600">
            <a:solidFill>
              <a:srgbClr val="008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0" y="2666880"/>
            <a:ext cx="609480" cy="304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533520"/>
            <a:ext cx="609480" cy="304560"/>
          </a:xfrm>
          <a:prstGeom prst="hexagon">
            <a:avLst>
              <a:gd name="adj" fmla="val 5003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i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24480" y="6477120"/>
            <a:ext cx="6098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0800" y="6400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0" y="2743200"/>
            <a:ext cx="609480" cy="304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733920" y="3903840"/>
            <a:ext cx="609480" cy="21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3868560"/>
            <a:ext cx="53352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91120" y="457200"/>
            <a:ext cx="914400" cy="41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559" idx="6"/>
            <a:endCxn id="608" idx="2"/>
          </p:cNvCxnSpPr>
          <p:nvPr/>
        </p:nvCxnSpPr>
        <p:spPr>
          <a:xfrm flipV="1">
            <a:off x="1905120" y="664560"/>
            <a:ext cx="2286720" cy="55476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8" idx="6"/>
            <a:endCxn id="554" idx="1"/>
          </p:cNvCxnSpPr>
          <p:nvPr/>
        </p:nvCxnSpPr>
        <p:spPr>
          <a:xfrm>
            <a:off x="5105520" y="664920"/>
            <a:ext cx="72000" cy="27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1" name=""/>
          <p:cNvSpPr/>
          <p:nvPr/>
        </p:nvSpPr>
        <p:spPr>
          <a:xfrm>
            <a:off x="2666880" y="160020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587" idx="6"/>
            <a:endCxn id="611" idx="1"/>
          </p:cNvCxnSpPr>
          <p:nvPr/>
        </p:nvCxnSpPr>
        <p:spPr>
          <a:xfrm flipV="1">
            <a:off x="2286000" y="1676160"/>
            <a:ext cx="3816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601" idx="0"/>
            <a:endCxn id="614" idx="3"/>
          </p:cNvCxnSpPr>
          <p:nvPr/>
        </p:nvCxnSpPr>
        <p:spPr>
          <a:xfrm flipV="1">
            <a:off x="304560" y="2394000"/>
            <a:ext cx="253080" cy="2732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6" idx="2"/>
            <a:endCxn id="555" idx="5"/>
          </p:cNvCxnSpPr>
          <p:nvPr/>
        </p:nvCxnSpPr>
        <p:spPr>
          <a:xfrm flipH="1">
            <a:off x="3728160" y="2798280"/>
            <a:ext cx="158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"/>
          <p:cNvSpPr/>
          <p:nvPr/>
        </p:nvSpPr>
        <p:spPr>
          <a:xfrm>
            <a:off x="0" y="3048120"/>
            <a:ext cx="1752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0" y="220968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ncret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585" idx="0"/>
            <a:endCxn id="619" idx="4"/>
          </p:cNvCxnSpPr>
          <p:nvPr/>
        </p:nvCxnSpPr>
        <p:spPr>
          <a:xfrm flipV="1">
            <a:off x="7362360" y="2971440"/>
            <a:ext cx="639000" cy="9151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20" name=""/>
          <p:cNvCxnSpPr/>
          <p:nvPr/>
        </p:nvCxnSpPr>
        <p:spPr>
          <a:xfrm>
            <a:off x="1831680" y="89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0" idx="3"/>
            <a:endCxn id="622" idx="3"/>
          </p:cNvCxnSpPr>
          <p:nvPr/>
        </p:nvCxnSpPr>
        <p:spPr>
          <a:xfrm flipH="1">
            <a:off x="6629400" y="2404800"/>
            <a:ext cx="340200" cy="22057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228600" y="1676520"/>
            <a:ext cx="76212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compose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559" idx="4"/>
            <a:endCxn id="623" idx="0"/>
          </p:cNvCxnSpPr>
          <p:nvPr/>
        </p:nvCxnSpPr>
        <p:spPr>
          <a:xfrm flipH="1">
            <a:off x="608760" y="1447560"/>
            <a:ext cx="801000" cy="22932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1752480" y="1676520"/>
            <a:ext cx="9144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Compose 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stCxn id="559" idx="4"/>
            <a:endCxn id="625" idx="1"/>
          </p:cNvCxnSpPr>
          <p:nvPr/>
        </p:nvCxnSpPr>
        <p:spPr>
          <a:xfrm>
            <a:off x="1409400" y="1447560"/>
            <a:ext cx="477000" cy="262080"/>
          </a:xfrm>
          <a:prstGeom prst="straightConnector1">
            <a:avLst/>
          </a:prstGeom>
          <a:ln w="9360">
            <a:solidFill>
              <a:srgbClr val="3333cc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6858000" y="609480"/>
            <a:ext cx="838080" cy="457200"/>
          </a:xfrm>
          <a:prstGeom prst="hexagon">
            <a:avLst>
              <a:gd name="adj" fmla="val 458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u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43600" y="220968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 lea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2514600"/>
            <a:ext cx="5335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 n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1828800"/>
            <a:ext cx="7621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 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76920" y="243828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coope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81480" y="2666880"/>
            <a:ext cx="9907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 receiv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91520" y="2057400"/>
            <a:ext cx="8380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 Compo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24280" y="2133720"/>
            <a:ext cx="6098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 expl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69" idx="4"/>
            <a:endCxn id="634" idx="0"/>
          </p:cNvCxnSpPr>
          <p:nvPr/>
        </p:nvCxnSpPr>
        <p:spPr>
          <a:xfrm flipH="1">
            <a:off x="5028840" y="1600200"/>
            <a:ext cx="915120" cy="53424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36" name=""/>
          <p:cNvCxnSpPr>
            <a:stCxn id="569" idx="4"/>
            <a:endCxn id="629" idx="0"/>
          </p:cNvCxnSpPr>
          <p:nvPr/>
        </p:nvCxnSpPr>
        <p:spPr>
          <a:xfrm>
            <a:off x="5943240" y="1600200"/>
            <a:ext cx="648360" cy="91512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37" name=""/>
          <p:cNvCxnSpPr>
            <a:stCxn id="569" idx="4"/>
            <a:endCxn id="632" idx="0"/>
          </p:cNvCxnSpPr>
          <p:nvPr/>
        </p:nvCxnSpPr>
        <p:spPr>
          <a:xfrm flipH="1">
            <a:off x="5676480" y="1599840"/>
            <a:ext cx="267120" cy="106740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38" name=""/>
          <p:cNvCxnSpPr>
            <a:stCxn id="569" idx="4"/>
            <a:endCxn id="628" idx="1"/>
          </p:cNvCxnSpPr>
          <p:nvPr/>
        </p:nvCxnSpPr>
        <p:spPr>
          <a:xfrm>
            <a:off x="5943240" y="1600200"/>
            <a:ext cx="89640" cy="64332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39" name=""/>
          <p:cNvCxnSpPr>
            <a:stCxn id="569" idx="4"/>
            <a:endCxn id="631" idx="0"/>
          </p:cNvCxnSpPr>
          <p:nvPr/>
        </p:nvCxnSpPr>
        <p:spPr>
          <a:xfrm flipH="1">
            <a:off x="5218920" y="1600200"/>
            <a:ext cx="724680" cy="83880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40" name=""/>
          <p:cNvCxnSpPr>
            <a:stCxn id="569" idx="4"/>
            <a:endCxn id="630" idx="1"/>
          </p:cNvCxnSpPr>
          <p:nvPr/>
        </p:nvCxnSpPr>
        <p:spPr>
          <a:xfrm>
            <a:off x="5943600" y="1600200"/>
            <a:ext cx="721440" cy="27324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41" name=""/>
          <p:cNvCxnSpPr>
            <a:stCxn id="642" idx="4"/>
            <a:endCxn id="643" idx="6"/>
          </p:cNvCxnSpPr>
          <p:nvPr/>
        </p:nvCxnSpPr>
        <p:spPr>
          <a:xfrm flipH="1">
            <a:off x="7314840" y="1600200"/>
            <a:ext cx="572400" cy="388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6477120" y="1523880"/>
            <a:ext cx="8380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 ob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15200" y="1676520"/>
            <a:ext cx="8380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5 gu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77320" y="1676520"/>
            <a:ext cx="8380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6 exec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153280" y="198108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7 evalu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"/>
          <p:cNvCxnSpPr>
            <a:stCxn id="642" idx="4"/>
            <a:endCxn id="645" idx="0"/>
          </p:cNvCxnSpPr>
          <p:nvPr/>
        </p:nvCxnSpPr>
        <p:spPr>
          <a:xfrm>
            <a:off x="7886520" y="1600200"/>
            <a:ext cx="610200" cy="76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7315200" y="1371600"/>
            <a:ext cx="11430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>
            <a:stCxn id="642" idx="4"/>
            <a:endCxn id="646" idx="0"/>
          </p:cNvCxnSpPr>
          <p:nvPr/>
        </p:nvCxnSpPr>
        <p:spPr>
          <a:xfrm>
            <a:off x="7886520" y="1600200"/>
            <a:ext cx="648360" cy="38160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0" idx="6"/>
            <a:endCxn id="633" idx="1"/>
          </p:cNvCxnSpPr>
          <p:nvPr/>
        </p:nvCxnSpPr>
        <p:spPr>
          <a:xfrm>
            <a:off x="7314840" y="1980720"/>
            <a:ext cx="199080" cy="1105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2" idx="4"/>
            <a:endCxn id="644" idx="0"/>
          </p:cNvCxnSpPr>
          <p:nvPr/>
        </p:nvCxnSpPr>
        <p:spPr>
          <a:xfrm flipH="1">
            <a:off x="7733880" y="1600200"/>
            <a:ext cx="153360" cy="76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27" idx="2"/>
            <a:endCxn id="642" idx="0"/>
          </p:cNvCxnSpPr>
          <p:nvPr/>
        </p:nvCxnSpPr>
        <p:spPr>
          <a:xfrm>
            <a:off x="7277040" y="1066320"/>
            <a:ext cx="610560" cy="3056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52" name=""/>
          <p:cNvSpPr/>
          <p:nvPr/>
        </p:nvSpPr>
        <p:spPr>
          <a:xfrm>
            <a:off x="8229600" y="22860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33" idx="4"/>
            <a:endCxn id="652" idx="0"/>
          </p:cNvCxnSpPr>
          <p:nvPr/>
        </p:nvCxnSpPr>
        <p:spPr>
          <a:xfrm>
            <a:off x="7810560" y="2285640"/>
            <a:ext cx="800640" cy="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6172200" y="1066680"/>
            <a:ext cx="9907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ve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27" idx="2"/>
            <a:endCxn id="574" idx="7"/>
          </p:cNvCxnSpPr>
          <p:nvPr/>
        </p:nvCxnSpPr>
        <p:spPr>
          <a:xfrm flipH="1">
            <a:off x="7017480" y="1066680"/>
            <a:ext cx="259560" cy="453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568" idx="2"/>
            <a:endCxn id="569" idx="0"/>
          </p:cNvCxnSpPr>
          <p:nvPr/>
        </p:nvCxnSpPr>
        <p:spPr>
          <a:xfrm flipH="1">
            <a:off x="5943240" y="1066320"/>
            <a:ext cx="115200" cy="3056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19" idx="3"/>
            <a:endCxn id="605" idx="3"/>
          </p:cNvCxnSpPr>
          <p:nvPr/>
        </p:nvCxnSpPr>
        <p:spPr>
          <a:xfrm flipH="1" flipV="1">
            <a:off x="7467120" y="2894760"/>
            <a:ext cx="264240" cy="4356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29" idx="4"/>
            <a:endCxn id="605" idx="0"/>
          </p:cNvCxnSpPr>
          <p:nvPr/>
        </p:nvCxnSpPr>
        <p:spPr>
          <a:xfrm>
            <a:off x="6591240" y="2742840"/>
            <a:ext cx="572400" cy="1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6" idx="4"/>
            <a:endCxn id="605" idx="0"/>
          </p:cNvCxnSpPr>
          <p:nvPr/>
        </p:nvCxnSpPr>
        <p:spPr>
          <a:xfrm flipH="1">
            <a:off x="7162560" y="2209680"/>
            <a:ext cx="1372320" cy="53424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1981080" y="2514600"/>
            <a:ext cx="762120" cy="26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stCxn id="559" idx="4"/>
            <a:endCxn id="659" idx="0"/>
          </p:cNvCxnSpPr>
          <p:nvPr/>
        </p:nvCxnSpPr>
        <p:spPr>
          <a:xfrm>
            <a:off x="1409760" y="1447560"/>
            <a:ext cx="953280" cy="106740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61" name=""/>
          <p:cNvCxnSpPr>
            <a:stCxn id="597" idx="0"/>
            <a:endCxn id="662" idx="3"/>
          </p:cNvCxnSpPr>
          <p:nvPr/>
        </p:nvCxnSpPr>
        <p:spPr>
          <a:xfrm flipV="1">
            <a:off x="655200" y="3166920"/>
            <a:ext cx="1197360" cy="643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62" name=""/>
          <p:cNvSpPr/>
          <p:nvPr/>
        </p:nvSpPr>
        <p:spPr>
          <a:xfrm>
            <a:off x="1752480" y="297180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inter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274320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59" idx="4"/>
            <a:endCxn id="663" idx="3"/>
          </p:cNvCxnSpPr>
          <p:nvPr/>
        </p:nvCxnSpPr>
        <p:spPr>
          <a:xfrm flipH="1">
            <a:off x="1828440" y="2777760"/>
            <a:ext cx="534240" cy="802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2" idx="1"/>
            <a:endCxn id="663" idx="3"/>
          </p:cNvCxnSpPr>
          <p:nvPr/>
        </p:nvCxnSpPr>
        <p:spPr>
          <a:xfrm flipH="1" flipV="1">
            <a:off x="1828440" y="2857320"/>
            <a:ext cx="24480" cy="148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457200" y="2133720"/>
            <a:ext cx="6858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 rece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559" idx="4"/>
            <a:endCxn id="614" idx="0"/>
          </p:cNvCxnSpPr>
          <p:nvPr/>
        </p:nvCxnSpPr>
        <p:spPr>
          <a:xfrm flipH="1">
            <a:off x="799560" y="1447560"/>
            <a:ext cx="610200" cy="68652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b Aggregation processes -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63" idx="1"/>
            <a:endCxn id="669" idx="7"/>
          </p:cNvCxnSpPr>
          <p:nvPr/>
        </p:nvCxnSpPr>
        <p:spPr>
          <a:xfrm flipH="1">
            <a:off x="579240" y="2857320"/>
            <a:ext cx="716400" cy="30060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670" name=""/>
          <p:cNvCxnSpPr>
            <a:stCxn id="669" idx="0"/>
            <a:endCxn id="601" idx="2"/>
          </p:cNvCxnSpPr>
          <p:nvPr/>
        </p:nvCxnSpPr>
        <p:spPr>
          <a:xfrm flipH="1" flipV="1">
            <a:off x="304200" y="2971080"/>
            <a:ext cx="990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02" idx="2"/>
            <a:endCxn id="672" idx="1"/>
          </p:cNvCxnSpPr>
          <p:nvPr/>
        </p:nvCxnSpPr>
        <p:spPr>
          <a:xfrm>
            <a:off x="2666880" y="837720"/>
            <a:ext cx="416880" cy="1105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6934320" y="388620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10280" y="43434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010280" y="41148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10280" y="4800600"/>
            <a:ext cx="685800" cy="152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45720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34400" y="3886200"/>
            <a:ext cx="65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lor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09680" y="3048120"/>
            <a:ext cx="3657600" cy="1828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33920" y="3048120"/>
            <a:ext cx="533160" cy="457200"/>
          </a:xfrm>
          <a:prstGeom prst="hexagon">
            <a:avLst>
              <a:gd name="adj" fmla="val 2915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6576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 ses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0" name=""/>
          <p:cNvCxnSpPr>
            <a:stCxn id="678" idx="2"/>
            <a:endCxn id="679" idx="0"/>
          </p:cNvCxnSpPr>
          <p:nvPr/>
        </p:nvCxnSpPr>
        <p:spPr>
          <a:xfrm>
            <a:off x="4000320" y="3504960"/>
            <a:ext cx="38520" cy="1530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4038480" y="4495680"/>
            <a:ext cx="11430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 concret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4191120"/>
            <a:ext cx="10670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 create (instan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124080" y="449568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 parameter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79" idx="4"/>
            <a:endCxn id="682" idx="7"/>
          </p:cNvCxnSpPr>
          <p:nvPr/>
        </p:nvCxnSpPr>
        <p:spPr>
          <a:xfrm flipH="1">
            <a:off x="3349080" y="3962160"/>
            <a:ext cx="689400" cy="28440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85" name=""/>
          <p:cNvCxnSpPr>
            <a:stCxn id="679" idx="4"/>
            <a:endCxn id="683" idx="0"/>
          </p:cNvCxnSpPr>
          <p:nvPr/>
        </p:nvCxnSpPr>
        <p:spPr>
          <a:xfrm flipH="1">
            <a:off x="3580920" y="3962160"/>
            <a:ext cx="457920" cy="53388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cxnSp>
        <p:nvCxnSpPr>
          <p:cNvPr id="686" name=""/>
          <p:cNvCxnSpPr>
            <a:stCxn id="679" idx="4"/>
            <a:endCxn id="681" idx="0"/>
          </p:cNvCxnSpPr>
          <p:nvPr/>
        </p:nvCxnSpPr>
        <p:spPr>
          <a:xfrm>
            <a:off x="4038480" y="3962160"/>
            <a:ext cx="572400" cy="533880"/>
          </a:xfrm>
          <a:prstGeom prst="straightConnector1">
            <a:avLst/>
          </a:prstGeom>
          <a:ln w="12600">
            <a:solidFill>
              <a:srgbClr val="3333cc"/>
            </a:solidFill>
            <a:miter/>
          </a:ln>
        </p:spPr>
      </p:cxnSp>
      <p:sp>
        <p:nvSpPr>
          <p:cNvPr id="687" name=""/>
          <p:cNvSpPr/>
          <p:nvPr/>
        </p:nvSpPr>
        <p:spPr>
          <a:xfrm>
            <a:off x="1219320" y="3809880"/>
            <a:ext cx="914400" cy="11430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143000"/>
              <a:gd name="textAreaBottom" fmla="*/ 1098360 h 1143000"/>
            </a:gdLst>
            <a:ahLst/>
            <a:rect l="textAreaLeft" t="textAreaTop" r="textAreaRight" b="textAreaBottom"/>
            <a:pathLst>
              <a:path w="21600" h="26998">
                <a:moveTo>
                  <a:pt x="3600" y="0"/>
                </a:moveTo>
                <a:arcTo wR="3600" hR="3600" stAng="16200000" swAng="-5400000"/>
                <a:lnTo>
                  <a:pt x="0" y="23398"/>
                </a:lnTo>
                <a:arcTo wR="3600" hR="3600" stAng="10800000" swAng="-5400000"/>
                <a:lnTo>
                  <a:pt x="18000" y="269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42670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40384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4724280"/>
            <a:ext cx="685800" cy="1526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44956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11840" y="380988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19920" y="3733920"/>
            <a:ext cx="83808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715000" y="44197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etri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14600" y="3276720"/>
            <a:ext cx="83808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 ch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78" idx="2"/>
            <a:endCxn id="693" idx="7"/>
          </p:cNvCxnSpPr>
          <p:nvPr/>
        </p:nvCxnSpPr>
        <p:spPr>
          <a:xfrm flipH="1" flipV="1">
            <a:off x="3229920" y="3320640"/>
            <a:ext cx="770760" cy="1850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4800600" y="4038480"/>
            <a:ext cx="10666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 suspend,le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 join, res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 activate, sa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78" idx="2"/>
            <a:endCxn id="695" idx="1"/>
          </p:cNvCxnSpPr>
          <p:nvPr/>
        </p:nvCxnSpPr>
        <p:spPr>
          <a:xfrm>
            <a:off x="4000680" y="3504960"/>
            <a:ext cx="956160" cy="611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95" idx="2"/>
            <a:endCxn id="692" idx="0"/>
          </p:cNvCxnSpPr>
          <p:nvPr/>
        </p:nvCxnSpPr>
        <p:spPr>
          <a:xfrm flipH="1" flipV="1">
            <a:off x="1645920" y="3809520"/>
            <a:ext cx="3155040" cy="4960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8" name=""/>
          <p:cNvCxnSpPr>
            <a:stCxn id="693" idx="3"/>
            <a:endCxn id="692" idx="0"/>
          </p:cNvCxnSpPr>
          <p:nvPr/>
        </p:nvCxnSpPr>
        <p:spPr>
          <a:xfrm flipH="1">
            <a:off x="1645920" y="3537000"/>
            <a:ext cx="991440" cy="273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699" name=""/>
          <p:cNvSpPr/>
          <p:nvPr/>
        </p:nvSpPr>
        <p:spPr>
          <a:xfrm>
            <a:off x="4343400" y="3200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 Prepare use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62320" y="3657600"/>
            <a:ext cx="99036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las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3" idx="4"/>
            <a:endCxn id="700" idx="0"/>
          </p:cNvCxnSpPr>
          <p:nvPr/>
        </p:nvCxnSpPr>
        <p:spPr>
          <a:xfrm flipH="1">
            <a:off x="2856960" y="3581280"/>
            <a:ext cx="76680" cy="766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700" idx="3"/>
            <a:endCxn id="679" idx="2"/>
          </p:cNvCxnSpPr>
          <p:nvPr/>
        </p:nvCxnSpPr>
        <p:spPr>
          <a:xfrm>
            <a:off x="3352320" y="3771720"/>
            <a:ext cx="229320" cy="38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03" name=""/>
          <p:cNvSpPr/>
          <p:nvPr/>
        </p:nvSpPr>
        <p:spPr>
          <a:xfrm>
            <a:off x="4648320" y="3657600"/>
            <a:ext cx="99036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Instan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>
            <a:stCxn id="679" idx="6"/>
            <a:endCxn id="703" idx="1"/>
          </p:cNvCxnSpPr>
          <p:nvPr/>
        </p:nvCxnSpPr>
        <p:spPr>
          <a:xfrm flipV="1">
            <a:off x="4495680" y="3771360"/>
            <a:ext cx="153360" cy="38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703" idx="2"/>
            <a:endCxn id="695" idx="0"/>
          </p:cNvCxnSpPr>
          <p:nvPr/>
        </p:nvCxnSpPr>
        <p:spPr>
          <a:xfrm>
            <a:off x="5143320" y="3885840"/>
            <a:ext cx="191160" cy="1530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2743200" y="5105520"/>
            <a:ext cx="838080" cy="11430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19520" y="5181480"/>
            <a:ext cx="685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195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19520" y="5630040"/>
            <a:ext cx="6858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81280" y="5105520"/>
            <a:ext cx="838440" cy="11430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57600" y="5181480"/>
            <a:ext cx="685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65760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57600" y="5630040"/>
            <a:ext cx="6858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65760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19720" y="5105520"/>
            <a:ext cx="838080" cy="11430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95680" y="5181480"/>
            <a:ext cx="685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49568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495680" y="5630040"/>
            <a:ext cx="6858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49568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57800" y="5105520"/>
            <a:ext cx="838080" cy="114300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4120" y="5181480"/>
            <a:ext cx="685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341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5630040"/>
            <a:ext cx="6858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5105520"/>
            <a:ext cx="2514600" cy="11430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320" y="5181480"/>
            <a:ext cx="6858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63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320" y="5549760"/>
            <a:ext cx="685800" cy="40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32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14400" y="5181480"/>
            <a:ext cx="685800" cy="228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5626080"/>
            <a:ext cx="685800" cy="254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1440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>
            <a:stCxn id="709" idx="0"/>
            <a:endCxn id="557" idx="1"/>
          </p:cNvCxnSpPr>
          <p:nvPr/>
        </p:nvCxnSpPr>
        <p:spPr>
          <a:xfrm>
            <a:off x="3162240" y="5625720"/>
            <a:ext cx="306144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714" idx="0"/>
            <a:endCxn id="557" idx="1"/>
          </p:cNvCxnSpPr>
          <p:nvPr/>
        </p:nvCxnSpPr>
        <p:spPr>
          <a:xfrm>
            <a:off x="4000320" y="5625720"/>
            <a:ext cx="222300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19" idx="0"/>
            <a:endCxn id="557" idx="1"/>
          </p:cNvCxnSpPr>
          <p:nvPr/>
        </p:nvCxnSpPr>
        <p:spPr>
          <a:xfrm>
            <a:off x="4838400" y="5625720"/>
            <a:ext cx="138492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"/>
          <p:cNvCxnSpPr>
            <a:stCxn id="724" idx="0"/>
            <a:endCxn id="557" idx="1"/>
          </p:cNvCxnSpPr>
          <p:nvPr/>
        </p:nvCxnSpPr>
        <p:spPr>
          <a:xfrm>
            <a:off x="5676480" y="5625720"/>
            <a:ext cx="5464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9" name=""/>
          <p:cNvCxnSpPr>
            <a:stCxn id="729" idx="0"/>
            <a:endCxn id="557" idx="1"/>
          </p:cNvCxnSpPr>
          <p:nvPr/>
        </p:nvCxnSpPr>
        <p:spPr>
          <a:xfrm>
            <a:off x="419040" y="5549400"/>
            <a:ext cx="580464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"/>
          <p:cNvCxnSpPr>
            <a:stCxn id="733" idx="0"/>
            <a:endCxn id="557" idx="1"/>
          </p:cNvCxnSpPr>
          <p:nvPr/>
        </p:nvCxnSpPr>
        <p:spPr>
          <a:xfrm>
            <a:off x="1257120" y="5625720"/>
            <a:ext cx="496620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622" idx="2"/>
            <a:endCxn id="706" idx="0"/>
          </p:cNvCxnSpPr>
          <p:nvPr/>
        </p:nvCxnSpPr>
        <p:spPr>
          <a:xfrm flipH="1">
            <a:off x="3161520" y="4800600"/>
            <a:ext cx="30106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22" idx="2"/>
            <a:endCxn id="711" idx="0"/>
          </p:cNvCxnSpPr>
          <p:nvPr/>
        </p:nvCxnSpPr>
        <p:spPr>
          <a:xfrm flipH="1">
            <a:off x="4000680" y="4800600"/>
            <a:ext cx="21718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622" idx="2"/>
            <a:endCxn id="716" idx="0"/>
          </p:cNvCxnSpPr>
          <p:nvPr/>
        </p:nvCxnSpPr>
        <p:spPr>
          <a:xfrm flipH="1">
            <a:off x="4838400" y="4800600"/>
            <a:ext cx="13341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622" idx="2"/>
            <a:endCxn id="721" idx="0"/>
          </p:cNvCxnSpPr>
          <p:nvPr/>
        </p:nvCxnSpPr>
        <p:spPr>
          <a:xfrm flipH="1">
            <a:off x="5676480" y="4800600"/>
            <a:ext cx="4960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622" idx="2"/>
            <a:endCxn id="726" idx="0"/>
          </p:cNvCxnSpPr>
          <p:nvPr/>
        </p:nvCxnSpPr>
        <p:spPr>
          <a:xfrm flipH="1">
            <a:off x="1257120" y="4800600"/>
            <a:ext cx="49154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622" idx="2"/>
          </p:cNvCxnSpPr>
          <p:nvPr/>
        </p:nvCxnSpPr>
        <p:spPr>
          <a:xfrm flipH="1">
            <a:off x="1257120" y="4800600"/>
            <a:ext cx="49154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7620120" y="2743200"/>
            <a:ext cx="7617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 inter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650480" y="6477120"/>
            <a:ext cx="138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OS semantic re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2209680"/>
            <a:ext cx="91440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622" idx="0"/>
            <a:endCxn id="560" idx="5"/>
          </p:cNvCxnSpPr>
          <p:nvPr/>
        </p:nvCxnSpPr>
        <p:spPr>
          <a:xfrm flipH="1" flipV="1">
            <a:off x="1793880" y="2652480"/>
            <a:ext cx="4378680" cy="1767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570" idx="4"/>
            <a:endCxn id="622" idx="0"/>
          </p:cNvCxnSpPr>
          <p:nvPr/>
        </p:nvCxnSpPr>
        <p:spPr>
          <a:xfrm>
            <a:off x="4952520" y="1600200"/>
            <a:ext cx="1220040" cy="28202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751" name=""/>
          <p:cNvSpPr/>
          <p:nvPr/>
        </p:nvSpPr>
        <p:spPr>
          <a:xfrm>
            <a:off x="7696080" y="6477120"/>
            <a:ext cx="6098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77120" y="5105520"/>
            <a:ext cx="838080" cy="11430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553080" y="5181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5308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553080" y="5638680"/>
            <a:ext cx="685800" cy="317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5308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15200" y="5105520"/>
            <a:ext cx="838080" cy="11430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9152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391520" y="5626080"/>
            <a:ext cx="685800" cy="254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39152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ip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153280" y="5105520"/>
            <a:ext cx="838440" cy="11430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229600" y="51814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22960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229600" y="5630040"/>
            <a:ext cx="6858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960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6477120"/>
            <a:ext cx="6098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8" name=""/>
          <p:cNvCxnSpPr>
            <a:stCxn id="622" idx="2"/>
            <a:endCxn id="557" idx="3"/>
          </p:cNvCxnSpPr>
          <p:nvPr/>
        </p:nvCxnSpPr>
        <p:spPr>
          <a:xfrm>
            <a:off x="6171840" y="4800600"/>
            <a:ext cx="2312280" cy="175320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69" name=""/>
          <p:cNvCxnSpPr>
            <a:stCxn id="583" idx="2"/>
            <a:endCxn id="557" idx="3"/>
          </p:cNvCxnSpPr>
          <p:nvPr/>
        </p:nvCxnSpPr>
        <p:spPr>
          <a:xfrm>
            <a:off x="6438960" y="4114440"/>
            <a:ext cx="2045520" cy="2439000"/>
          </a:xfrm>
          <a:prstGeom prst="straightConnector1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70" name=""/>
          <p:cNvCxnSpPr>
            <a:stCxn id="622" idx="2"/>
            <a:endCxn id="752" idx="0"/>
          </p:cNvCxnSpPr>
          <p:nvPr/>
        </p:nvCxnSpPr>
        <p:spPr>
          <a:xfrm>
            <a:off x="6171840" y="4800600"/>
            <a:ext cx="72468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1" name=""/>
          <p:cNvCxnSpPr>
            <a:stCxn id="622" idx="2"/>
            <a:endCxn id="757" idx="0"/>
          </p:cNvCxnSpPr>
          <p:nvPr/>
        </p:nvCxnSpPr>
        <p:spPr>
          <a:xfrm>
            <a:off x="6171840" y="4800600"/>
            <a:ext cx="15627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"/>
          <p:cNvCxnSpPr>
            <a:stCxn id="622" idx="2"/>
            <a:endCxn id="762" idx="0"/>
          </p:cNvCxnSpPr>
          <p:nvPr/>
        </p:nvCxnSpPr>
        <p:spPr>
          <a:xfrm>
            <a:off x="6172200" y="4800600"/>
            <a:ext cx="240120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"/>
          <p:cNvCxnSpPr>
            <a:stCxn id="755" idx="0"/>
            <a:endCxn id="557" idx="1"/>
          </p:cNvCxnSpPr>
          <p:nvPr/>
        </p:nvCxnSpPr>
        <p:spPr>
          <a:xfrm flipH="1">
            <a:off x="6222600" y="5638680"/>
            <a:ext cx="6739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60" idx="0"/>
            <a:endCxn id="557" idx="1"/>
          </p:cNvCxnSpPr>
          <p:nvPr/>
        </p:nvCxnSpPr>
        <p:spPr>
          <a:xfrm flipH="1">
            <a:off x="6222600" y="5625720"/>
            <a:ext cx="151200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"/>
          <p:cNvCxnSpPr>
            <a:stCxn id="765" idx="0"/>
            <a:endCxn id="603" idx="1"/>
          </p:cNvCxnSpPr>
          <p:nvPr/>
        </p:nvCxnSpPr>
        <p:spPr>
          <a:xfrm flipH="1">
            <a:off x="6323760" y="5625720"/>
            <a:ext cx="224892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"/>
          <p:cNvSpPr/>
          <p:nvPr/>
        </p:nvSpPr>
        <p:spPr>
          <a:xfrm>
            <a:off x="1371600" y="6477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6477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057400" y="6477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743200" y="6477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29000" y="647712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26" idx="2"/>
            <a:endCxn id="777" idx="0"/>
          </p:cNvCxnSpPr>
          <p:nvPr/>
        </p:nvCxnSpPr>
        <p:spPr>
          <a:xfrm flipH="1">
            <a:off x="1028160" y="6273360"/>
            <a:ext cx="22932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2" name=""/>
          <p:cNvCxnSpPr>
            <a:stCxn id="726" idx="2"/>
            <a:endCxn id="776" idx="0"/>
          </p:cNvCxnSpPr>
          <p:nvPr/>
        </p:nvCxnSpPr>
        <p:spPr>
          <a:xfrm>
            <a:off x="1257480" y="6273360"/>
            <a:ext cx="45792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3" name=""/>
          <p:cNvCxnSpPr>
            <a:stCxn id="726" idx="2"/>
            <a:endCxn id="778" idx="0"/>
          </p:cNvCxnSpPr>
          <p:nvPr/>
        </p:nvCxnSpPr>
        <p:spPr>
          <a:xfrm>
            <a:off x="1257120" y="6273360"/>
            <a:ext cx="114372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26" idx="2"/>
            <a:endCxn id="779" idx="0"/>
          </p:cNvCxnSpPr>
          <p:nvPr/>
        </p:nvCxnSpPr>
        <p:spPr>
          <a:xfrm>
            <a:off x="1257480" y="6273360"/>
            <a:ext cx="182952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26" idx="2"/>
            <a:endCxn id="780" idx="0"/>
          </p:cNvCxnSpPr>
          <p:nvPr/>
        </p:nvCxnSpPr>
        <p:spPr>
          <a:xfrm>
            <a:off x="1257120" y="6273360"/>
            <a:ext cx="251532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2666880" y="2362320"/>
            <a:ext cx="914400" cy="15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6248520"/>
            <a:ext cx="54612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534520" y="6248520"/>
            <a:ext cx="43812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452840" y="6248520"/>
            <a:ext cx="482760" cy="24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5181480"/>
            <a:ext cx="6858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752480" y="541008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52480" y="5630040"/>
            <a:ext cx="685800" cy="24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5867280"/>
            <a:ext cx="685800" cy="254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687" idx="2"/>
            <a:endCxn id="726" idx="0"/>
          </p:cNvCxnSpPr>
          <p:nvPr/>
        </p:nvCxnSpPr>
        <p:spPr>
          <a:xfrm flipH="1">
            <a:off x="1257120" y="4952520"/>
            <a:ext cx="419760" cy="127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587" idx="5"/>
            <a:endCxn id="583" idx="1"/>
          </p:cNvCxnSpPr>
          <p:nvPr/>
        </p:nvCxnSpPr>
        <p:spPr>
          <a:xfrm>
            <a:off x="2185920" y="2230200"/>
            <a:ext cx="3834720" cy="16945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cxnSp>
        <p:nvCxnSpPr>
          <p:cNvPr id="796" name=""/>
          <p:cNvCxnSpPr>
            <a:stCxn id="587" idx="6"/>
            <a:endCxn id="748" idx="1"/>
          </p:cNvCxnSpPr>
          <p:nvPr/>
        </p:nvCxnSpPr>
        <p:spPr>
          <a:xfrm>
            <a:off x="2286000" y="2095200"/>
            <a:ext cx="3816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587" idx="6"/>
            <a:endCxn id="786" idx="1"/>
          </p:cNvCxnSpPr>
          <p:nvPr/>
        </p:nvCxnSpPr>
        <p:spPr>
          <a:xfrm>
            <a:off x="2286000" y="2095560"/>
            <a:ext cx="38160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3505320" y="1219320"/>
            <a:ext cx="8380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 suspend,le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 join, res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 save, 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577" idx="4"/>
            <a:endCxn id="692" idx="0"/>
          </p:cNvCxnSpPr>
          <p:nvPr/>
        </p:nvCxnSpPr>
        <p:spPr>
          <a:xfrm flipH="1">
            <a:off x="1645920" y="1752120"/>
            <a:ext cx="2278800" cy="20577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9" name=""/>
          <p:cNvCxnSpPr>
            <a:stCxn id="687" idx="2"/>
          </p:cNvCxnSpPr>
          <p:nvPr/>
        </p:nvCxnSpPr>
        <p:spPr>
          <a:xfrm flipH="1">
            <a:off x="1257120" y="4952520"/>
            <a:ext cx="41976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6019920" y="2971800"/>
            <a:ext cx="6094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 S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652" idx="1"/>
            <a:endCxn id="800" idx="7"/>
          </p:cNvCxnSpPr>
          <p:nvPr/>
        </p:nvCxnSpPr>
        <p:spPr>
          <a:xfrm flipH="1">
            <a:off x="6540120" y="2476080"/>
            <a:ext cx="1689840" cy="540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02" name=""/>
          <p:cNvCxnSpPr>
            <a:stCxn id="605" idx="1"/>
            <a:endCxn id="800" idx="0"/>
          </p:cNvCxnSpPr>
          <p:nvPr/>
        </p:nvCxnSpPr>
        <p:spPr>
          <a:xfrm flipH="1">
            <a:off x="6324120" y="2895480"/>
            <a:ext cx="53424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03" name=""/>
          <p:cNvCxnSpPr>
            <a:stCxn id="687" idx="3"/>
            <a:endCxn id="800" idx="2"/>
          </p:cNvCxnSpPr>
          <p:nvPr/>
        </p:nvCxnSpPr>
        <p:spPr>
          <a:xfrm flipV="1">
            <a:off x="2133360" y="3123360"/>
            <a:ext cx="3886920" cy="1258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04" name=""/>
          <p:cNvCxnSpPr>
            <a:stCxn id="792" idx="0"/>
            <a:endCxn id="557" idx="1"/>
          </p:cNvCxnSpPr>
          <p:nvPr/>
        </p:nvCxnSpPr>
        <p:spPr>
          <a:xfrm>
            <a:off x="2095200" y="5625720"/>
            <a:ext cx="412812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7620120" y="3124080"/>
            <a:ext cx="1523880" cy="121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935480" y="431784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 Analyze phase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58200" y="3352680"/>
            <a:ext cx="685800" cy="381240"/>
          </a:xfrm>
          <a:prstGeom prst="hexagon">
            <a:avLst>
              <a:gd name="adj" fmla="val 4497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96080" y="3657600"/>
            <a:ext cx="76212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1 analy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001000" y="3809880"/>
            <a:ext cx="6858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 prop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807" idx="1"/>
            <a:endCxn id="809" idx="7"/>
          </p:cNvCxnSpPr>
          <p:nvPr/>
        </p:nvCxnSpPr>
        <p:spPr>
          <a:xfrm>
            <a:off x="8457840" y="3543120"/>
            <a:ext cx="129240" cy="3006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11" name=""/>
          <p:cNvCxnSpPr>
            <a:stCxn id="807" idx="1"/>
            <a:endCxn id="808" idx="7"/>
          </p:cNvCxnSpPr>
          <p:nvPr/>
        </p:nvCxnSpPr>
        <p:spPr>
          <a:xfrm flipH="1">
            <a:off x="8346240" y="3543120"/>
            <a:ext cx="111960" cy="137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12" name=""/>
          <p:cNvSpPr/>
          <p:nvPr/>
        </p:nvSpPr>
        <p:spPr>
          <a:xfrm>
            <a:off x="8077320" y="3124080"/>
            <a:ext cx="6094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07" idx="1"/>
            <a:endCxn id="812" idx="4"/>
          </p:cNvCxnSpPr>
          <p:nvPr/>
        </p:nvCxnSpPr>
        <p:spPr>
          <a:xfrm flipH="1" flipV="1">
            <a:off x="8381880" y="3276360"/>
            <a:ext cx="76680" cy="2671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687" idx="3"/>
            <a:endCxn id="812" idx="2"/>
          </p:cNvCxnSpPr>
          <p:nvPr/>
        </p:nvCxnSpPr>
        <p:spPr>
          <a:xfrm flipV="1">
            <a:off x="2133720" y="3199680"/>
            <a:ext cx="5944320" cy="1181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152280" y="3429000"/>
            <a:ext cx="175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repare design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6" name=""/>
          <p:cNvCxnSpPr>
            <a:stCxn id="669" idx="4"/>
            <a:endCxn id="597" idx="0"/>
          </p:cNvCxnSpPr>
          <p:nvPr/>
        </p:nvCxnSpPr>
        <p:spPr>
          <a:xfrm>
            <a:off x="402840" y="3352680"/>
            <a:ext cx="253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762120" y="3124080"/>
            <a:ext cx="533160" cy="304920"/>
          </a:xfrm>
          <a:prstGeom prst="hexagon">
            <a:avLst>
              <a:gd name="adj" fmla="val 4371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i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280" y="3124080"/>
            <a:ext cx="5000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2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"/>
          <p:cNvCxnSpPr>
            <a:stCxn id="817" idx="1"/>
            <a:endCxn id="669" idx="6"/>
          </p:cNvCxnSpPr>
          <p:nvPr/>
        </p:nvCxnSpPr>
        <p:spPr>
          <a:xfrm flipH="1" flipV="1">
            <a:off x="651600" y="3238200"/>
            <a:ext cx="1105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9" name=""/>
          <p:cNvSpPr/>
          <p:nvPr/>
        </p:nvSpPr>
        <p:spPr>
          <a:xfrm>
            <a:off x="7696080" y="335268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0" name=""/>
          <p:cNvCxnSpPr>
            <a:stCxn id="812" idx="3"/>
            <a:endCxn id="819" idx="0"/>
          </p:cNvCxnSpPr>
          <p:nvPr/>
        </p:nvCxnSpPr>
        <p:spPr>
          <a:xfrm flipH="1">
            <a:off x="7962120" y="3254040"/>
            <a:ext cx="20412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2"/>
            <a:endCxn id="808" idx="0"/>
          </p:cNvCxnSpPr>
          <p:nvPr/>
        </p:nvCxnSpPr>
        <p:spPr>
          <a:xfrm>
            <a:off x="79628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583" idx="0"/>
            <a:endCxn id="630" idx="4"/>
          </p:cNvCxnSpPr>
          <p:nvPr/>
        </p:nvCxnSpPr>
        <p:spPr>
          <a:xfrm flipV="1">
            <a:off x="6438960" y="2133000"/>
            <a:ext cx="496080" cy="1600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24" idx="1"/>
            <a:endCxn id="616" idx="6"/>
          </p:cNvCxnSpPr>
          <p:nvPr/>
        </p:nvCxnSpPr>
        <p:spPr>
          <a:xfrm flipH="1" flipV="1">
            <a:off x="4876560" y="2798280"/>
            <a:ext cx="3201120" cy="1431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3886200" y="2666880"/>
            <a:ext cx="990720" cy="26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077320" y="4114800"/>
            <a:ext cx="838080" cy="228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pos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09" idx="4"/>
            <a:endCxn id="824" idx="0"/>
          </p:cNvCxnSpPr>
          <p:nvPr/>
        </p:nvCxnSpPr>
        <p:spPr>
          <a:xfrm>
            <a:off x="8343720" y="40384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2971800" y="914400"/>
            <a:ext cx="7621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05120" y="1447920"/>
            <a:ext cx="8380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Compose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559" idx="5"/>
            <a:endCxn id="826" idx="1"/>
          </p:cNvCxnSpPr>
          <p:nvPr/>
        </p:nvCxnSpPr>
        <p:spPr>
          <a:xfrm>
            <a:off x="1760040" y="1380960"/>
            <a:ext cx="26712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570" idx="4"/>
            <a:endCxn id="687" idx="0"/>
          </p:cNvCxnSpPr>
          <p:nvPr/>
        </p:nvCxnSpPr>
        <p:spPr>
          <a:xfrm flipH="1">
            <a:off x="1675800" y="1600200"/>
            <a:ext cx="3277080" cy="22104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56120" y="91440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685800"/>
            <a:ext cx="44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g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44080" y="609480"/>
            <a:ext cx="55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chest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559" idx="1"/>
            <a:endCxn id="829" idx="3"/>
          </p:cNvCxnSpPr>
          <p:nvPr/>
        </p:nvCxnSpPr>
        <p:spPr>
          <a:xfrm flipH="1" flipV="1">
            <a:off x="753840" y="1036440"/>
            <a:ext cx="305280" cy="2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3" name=""/>
          <p:cNvCxnSpPr>
            <a:stCxn id="559" idx="1"/>
            <a:endCxn id="830" idx="2"/>
          </p:cNvCxnSpPr>
          <p:nvPr/>
        </p:nvCxnSpPr>
        <p:spPr>
          <a:xfrm flipH="1" flipV="1">
            <a:off x="909360" y="929520"/>
            <a:ext cx="14976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4" name=""/>
          <p:cNvCxnSpPr>
            <a:stCxn id="559" idx="1"/>
            <a:endCxn id="831" idx="2"/>
          </p:cNvCxnSpPr>
          <p:nvPr/>
        </p:nvCxnSpPr>
        <p:spPr>
          <a:xfrm flipV="1">
            <a:off x="1058400" y="853200"/>
            <a:ext cx="36612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532440" y="152280"/>
            <a:ext cx="19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152280"/>
            <a:ext cx="1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99840" y="152280"/>
            <a:ext cx="30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av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561" idx="0"/>
            <a:endCxn id="835" idx="3"/>
          </p:cNvCxnSpPr>
          <p:nvPr/>
        </p:nvCxnSpPr>
        <p:spPr>
          <a:xfrm flipH="1" flipV="1">
            <a:off x="729720" y="274320"/>
            <a:ext cx="2013840" cy="86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9" name=""/>
          <p:cNvCxnSpPr>
            <a:stCxn id="561" idx="0"/>
            <a:endCxn id="836" idx="2"/>
          </p:cNvCxnSpPr>
          <p:nvPr/>
        </p:nvCxnSpPr>
        <p:spPr>
          <a:xfrm flipH="1" flipV="1">
            <a:off x="1210680" y="396000"/>
            <a:ext cx="1532520" cy="74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0" name=""/>
          <p:cNvCxnSpPr>
            <a:stCxn id="561" idx="0"/>
            <a:endCxn id="837" idx="2"/>
          </p:cNvCxnSpPr>
          <p:nvPr/>
        </p:nvCxnSpPr>
        <p:spPr>
          <a:xfrm flipH="1" flipV="1">
            <a:off x="1752120" y="396000"/>
            <a:ext cx="991440" cy="74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731" idx="1"/>
            <a:endCxn id="727" idx="3"/>
          </p:cNvCxnSpPr>
          <p:nvPr/>
        </p:nvCxnSpPr>
        <p:spPr>
          <a:xfrm flipH="1">
            <a:off x="761400" y="5295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90" idx="1"/>
            <a:endCxn id="731" idx="3"/>
          </p:cNvCxnSpPr>
          <p:nvPr/>
        </p:nvCxnSpPr>
        <p:spPr>
          <a:xfrm flipH="1">
            <a:off x="1599480" y="5295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574" idx="2"/>
            <a:endCxn id="570" idx="6"/>
          </p:cNvCxnSpPr>
          <p:nvPr/>
        </p:nvCxnSpPr>
        <p:spPr>
          <a:xfrm flipH="1">
            <a:off x="5333760" y="1218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7848720" y="914400"/>
            <a:ext cx="7617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 cl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leave,suspen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574" idx="6"/>
            <a:endCxn id="844" idx="2"/>
          </p:cNvCxnSpPr>
          <p:nvPr/>
        </p:nvCxnSpPr>
        <p:spPr>
          <a:xfrm flipV="1">
            <a:off x="7162560" y="1143000"/>
            <a:ext cx="6865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574" idx="4"/>
            <a:endCxn id="800" idx="0"/>
          </p:cNvCxnSpPr>
          <p:nvPr/>
        </p:nvCxnSpPr>
        <p:spPr>
          <a:xfrm flipH="1">
            <a:off x="6323760" y="1371240"/>
            <a:ext cx="34380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574" idx="3"/>
            <a:endCxn id="569" idx="7"/>
          </p:cNvCxnSpPr>
          <p:nvPr/>
        </p:nvCxnSpPr>
        <p:spPr>
          <a:xfrm flipH="1">
            <a:off x="6267240" y="1327320"/>
            <a:ext cx="496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8" name=""/>
          <p:cNvCxnSpPr>
            <a:stCxn id="574" idx="5"/>
            <a:endCxn id="642" idx="1"/>
          </p:cNvCxnSpPr>
          <p:nvPr/>
        </p:nvCxnSpPr>
        <p:spPr>
          <a:xfrm>
            <a:off x="7018200" y="1327320"/>
            <a:ext cx="46440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304920" y="4197240"/>
            <a:ext cx="556236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819520" y="2819520"/>
            <a:ext cx="685800" cy="533160"/>
          </a:xfrm>
          <a:prstGeom prst="hexagon">
            <a:avLst>
              <a:gd name="adj" fmla="val 32157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352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1000" y="762120"/>
            <a:ext cx="914400" cy="64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 Core extension and administration-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stCxn id="850" idx="2"/>
            <a:endCxn id="855" idx="6"/>
          </p:cNvCxnSpPr>
          <p:nvPr/>
        </p:nvCxnSpPr>
        <p:spPr>
          <a:xfrm flipH="1">
            <a:off x="1904760" y="3352320"/>
            <a:ext cx="1257840" cy="3819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8153280" y="5486400"/>
            <a:ext cx="83844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839080" y="1371600"/>
            <a:ext cx="0" cy="4114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2133720"/>
            <a:ext cx="68580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9" name=""/>
          <p:cNvCxnSpPr>
            <a:stCxn id="858" idx="2"/>
            <a:endCxn id="860" idx="7"/>
          </p:cNvCxnSpPr>
          <p:nvPr/>
        </p:nvCxnSpPr>
        <p:spPr>
          <a:xfrm flipH="1">
            <a:off x="5776200" y="2685960"/>
            <a:ext cx="2567880" cy="8978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861" name=""/>
          <p:cNvCxnSpPr>
            <a:stCxn id="850" idx="2"/>
            <a:endCxn id="862" idx="1"/>
          </p:cNvCxnSpPr>
          <p:nvPr/>
        </p:nvCxnSpPr>
        <p:spPr>
          <a:xfrm flipH="1">
            <a:off x="2997000" y="3352320"/>
            <a:ext cx="165600" cy="2962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60" name=""/>
          <p:cNvSpPr/>
          <p:nvPr/>
        </p:nvSpPr>
        <p:spPr>
          <a:xfrm>
            <a:off x="4800600" y="3505320"/>
            <a:ext cx="1143000" cy="533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OS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24480" y="2743200"/>
            <a:ext cx="609840" cy="457200"/>
          </a:xfrm>
          <a:prstGeom prst="hexagon">
            <a:avLst>
              <a:gd name="adj" fmla="val 3334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3" idx="2"/>
            <a:endCxn id="865" idx="0"/>
          </p:cNvCxnSpPr>
          <p:nvPr/>
        </p:nvCxnSpPr>
        <p:spPr>
          <a:xfrm>
            <a:off x="6629400" y="3200400"/>
            <a:ext cx="1296000" cy="3816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7" idx="0"/>
          </p:cNvCxnSpPr>
          <p:nvPr/>
        </p:nvCxnSpPr>
        <p:spPr>
          <a:xfrm>
            <a:off x="6629400" y="3200040"/>
            <a:ext cx="38880" cy="305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868" name=""/>
          <p:cNvSpPr/>
          <p:nvPr/>
        </p:nvSpPr>
        <p:spPr>
          <a:xfrm>
            <a:off x="7086600" y="4883040"/>
            <a:ext cx="5335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553080" y="4883040"/>
            <a:ext cx="4572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19920" y="4883040"/>
            <a:ext cx="4572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3880" y="450216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90920" y="4502160"/>
            <a:ext cx="99036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450216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19920" y="4197240"/>
            <a:ext cx="15238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5880" y="6102360"/>
            <a:ext cx="144792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450216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4197240"/>
            <a:ext cx="175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8" name=""/>
          <p:cNvCxnSpPr/>
          <p:nvPr/>
        </p:nvCxnSpPr>
        <p:spPr>
          <a:xfrm rot="5400000">
            <a:off x="1731960" y="3721680"/>
            <a:ext cx="2160" cy="1562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"/>
          <p:cNvCxnSpPr/>
          <p:nvPr/>
        </p:nvCxnSpPr>
        <p:spPr>
          <a:xfrm rot="5400000">
            <a:off x="3351240" y="3664440"/>
            <a:ext cx="2160" cy="1677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0" name=""/>
          <p:cNvCxnSpPr>
            <a:stCxn id="873" idx="0"/>
            <a:endCxn id="872" idx="0"/>
          </p:cNvCxnSpPr>
          <p:nvPr/>
        </p:nvCxnSpPr>
        <p:spPr>
          <a:xfrm rot="5400000">
            <a:off x="3618000" y="3969360"/>
            <a:ext cx="2160" cy="1067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724280" y="450216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" y="6102360"/>
            <a:ext cx="1143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52480" y="6102360"/>
            <a:ext cx="9144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82" idx="3"/>
            <a:endCxn id="883" idx="1"/>
          </p:cNvCxnSpPr>
          <p:nvPr/>
        </p:nvCxnSpPr>
        <p:spPr>
          <a:xfrm>
            <a:off x="1599840" y="6216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"/>
          <p:cNvSpPr/>
          <p:nvPr/>
        </p:nvSpPr>
        <p:spPr>
          <a:xfrm>
            <a:off x="4038480" y="6102360"/>
            <a:ext cx="4572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95680" y="6102360"/>
            <a:ext cx="6098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05520" y="6102360"/>
            <a:ext cx="6094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124080" y="6102360"/>
            <a:ext cx="9144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A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9" name=""/>
          <p:cNvCxnSpPr>
            <a:stCxn id="883" idx="3"/>
            <a:endCxn id="888" idx="1"/>
          </p:cNvCxnSpPr>
          <p:nvPr/>
        </p:nvCxnSpPr>
        <p:spPr>
          <a:xfrm>
            <a:off x="2666880" y="621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0" name=""/>
          <p:cNvSpPr/>
          <p:nvPr/>
        </p:nvSpPr>
        <p:spPr>
          <a:xfrm>
            <a:off x="304920" y="4191120"/>
            <a:ext cx="7619760" cy="243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" y="4343400"/>
            <a:ext cx="556272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5029200"/>
            <a:ext cx="5335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5720" y="5029200"/>
            <a:ext cx="4572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72200" y="5029200"/>
            <a:ext cx="4572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76520" y="4648320"/>
            <a:ext cx="99036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43200" y="464832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09880" y="464832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72200" y="4343400"/>
            <a:ext cx="15238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248520" y="6248520"/>
            <a:ext cx="144756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9480" y="4648320"/>
            <a:ext cx="99072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19720" y="4343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76920" y="4648320"/>
            <a:ext cx="990360" cy="152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480" y="6248520"/>
            <a:ext cx="9907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or 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76520" y="6248520"/>
            <a:ext cx="6094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 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5" name=""/>
          <p:cNvCxnSpPr>
            <a:stCxn id="903" idx="3"/>
            <a:endCxn id="904" idx="1"/>
          </p:cNvCxnSpPr>
          <p:nvPr/>
        </p:nvCxnSpPr>
        <p:spPr>
          <a:xfrm>
            <a:off x="1600200" y="636228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6" name=""/>
          <p:cNvSpPr/>
          <p:nvPr/>
        </p:nvSpPr>
        <p:spPr>
          <a:xfrm>
            <a:off x="4191120" y="6248520"/>
            <a:ext cx="4572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648320" y="6248520"/>
            <a:ext cx="6094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57800" y="6248520"/>
            <a:ext cx="6094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14600" y="6248520"/>
            <a:ext cx="16765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AS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0" name=""/>
          <p:cNvCxnSpPr>
            <a:stCxn id="904" idx="3"/>
            <a:endCxn id="909" idx="1"/>
          </p:cNvCxnSpPr>
          <p:nvPr/>
        </p:nvCxnSpPr>
        <p:spPr>
          <a:xfrm>
            <a:off x="2285640" y="63622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1" name=""/>
          <p:cNvSpPr/>
          <p:nvPr/>
        </p:nvSpPr>
        <p:spPr>
          <a:xfrm>
            <a:off x="228600" y="228600"/>
            <a:ext cx="7620120" cy="243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80880" y="380880"/>
            <a:ext cx="556272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62920" y="1066680"/>
            <a:ext cx="53316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29400" y="1066680"/>
            <a:ext cx="4572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95880" y="1066680"/>
            <a:ext cx="4572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600200" y="685800"/>
            <a:ext cx="99072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685800"/>
            <a:ext cx="99072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733920" y="685800"/>
            <a:ext cx="99036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95880" y="380880"/>
            <a:ext cx="152424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2286000"/>
            <a:ext cx="1447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520" y="685800"/>
            <a:ext cx="99036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43400" y="3808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00600" y="685800"/>
            <a:ext cx="99072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3520" y="2286000"/>
            <a:ext cx="9903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or 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00200" y="2286000"/>
            <a:ext cx="76212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 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6" name=""/>
          <p:cNvCxnSpPr>
            <a:stCxn id="924" idx="3"/>
            <a:endCxn id="925" idx="1"/>
          </p:cNvCxnSpPr>
          <p:nvPr/>
        </p:nvCxnSpPr>
        <p:spPr>
          <a:xfrm>
            <a:off x="1523880" y="240012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7" name=""/>
          <p:cNvSpPr/>
          <p:nvPr/>
        </p:nvSpPr>
        <p:spPr>
          <a:xfrm>
            <a:off x="4114800" y="2286000"/>
            <a:ext cx="4572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72000" y="2286000"/>
            <a:ext cx="60948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181480" y="2286000"/>
            <a:ext cx="60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514600" y="2286000"/>
            <a:ext cx="16002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AS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stCxn id="925" idx="3"/>
            <a:endCxn id="930" idx="1"/>
          </p:cNvCxnSpPr>
          <p:nvPr/>
        </p:nvCxnSpPr>
        <p:spPr>
          <a:xfrm>
            <a:off x="2361960" y="2400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"/>
          <p:cNvCxnSpPr>
            <a:stCxn id="912" idx="2"/>
            <a:endCxn id="855" idx="7"/>
          </p:cNvCxnSpPr>
          <p:nvPr/>
        </p:nvCxnSpPr>
        <p:spPr>
          <a:xfrm flipH="1">
            <a:off x="1737720" y="2610000"/>
            <a:ext cx="1424520" cy="9626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>
            <a:off x="762120" y="3505320"/>
            <a:ext cx="1143000" cy="4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stCxn id="855" idx="5"/>
            <a:endCxn id="891" idx="0"/>
          </p:cNvCxnSpPr>
          <p:nvPr/>
        </p:nvCxnSpPr>
        <p:spPr>
          <a:xfrm>
            <a:off x="1738080" y="3895200"/>
            <a:ext cx="1500840" cy="4294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34" name=""/>
          <p:cNvCxnSpPr>
            <a:stCxn id="850" idx="2"/>
            <a:endCxn id="860" idx="1"/>
          </p:cNvCxnSpPr>
          <p:nvPr/>
        </p:nvCxnSpPr>
        <p:spPr>
          <a:xfrm>
            <a:off x="3162240" y="3352680"/>
            <a:ext cx="1805760" cy="2311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935" name=""/>
          <p:cNvCxnSpPr>
            <a:stCxn id="915" idx="0"/>
            <a:endCxn id="862" idx="0"/>
          </p:cNvCxnSpPr>
          <p:nvPr/>
        </p:nvCxnSpPr>
        <p:spPr>
          <a:xfrm flipH="1">
            <a:off x="3428280" y="1047600"/>
            <a:ext cx="2896200" cy="2534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36" name=""/>
          <p:cNvCxnSpPr>
            <a:stCxn id="914" idx="0"/>
            <a:endCxn id="862" idx="0"/>
          </p:cNvCxnSpPr>
          <p:nvPr/>
        </p:nvCxnSpPr>
        <p:spPr>
          <a:xfrm flipH="1">
            <a:off x="3428280" y="1047600"/>
            <a:ext cx="3429720" cy="2534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37" name=""/>
          <p:cNvCxnSpPr>
            <a:stCxn id="913" idx="0"/>
            <a:endCxn id="862" idx="0"/>
          </p:cNvCxnSpPr>
          <p:nvPr/>
        </p:nvCxnSpPr>
        <p:spPr>
          <a:xfrm flipH="1">
            <a:off x="3428280" y="1047600"/>
            <a:ext cx="4001400" cy="2534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2819520" y="3581280"/>
            <a:ext cx="1218960" cy="4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8" name=""/>
          <p:cNvCxnSpPr>
            <a:stCxn id="862" idx="4"/>
            <a:endCxn id="894" idx="0"/>
          </p:cNvCxnSpPr>
          <p:nvPr/>
        </p:nvCxnSpPr>
        <p:spPr>
          <a:xfrm>
            <a:off x="3428640" y="4038120"/>
            <a:ext cx="2972520" cy="972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39" name=""/>
          <p:cNvCxnSpPr>
            <a:stCxn id="862" idx="4"/>
            <a:endCxn id="893" idx="0"/>
          </p:cNvCxnSpPr>
          <p:nvPr/>
        </p:nvCxnSpPr>
        <p:spPr>
          <a:xfrm>
            <a:off x="3428640" y="4038120"/>
            <a:ext cx="3506040" cy="972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0" name=""/>
          <p:cNvCxnSpPr>
            <a:stCxn id="862" idx="4"/>
            <a:endCxn id="892" idx="0"/>
          </p:cNvCxnSpPr>
          <p:nvPr/>
        </p:nvCxnSpPr>
        <p:spPr>
          <a:xfrm>
            <a:off x="3429000" y="4038120"/>
            <a:ext cx="4077360" cy="972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65" name=""/>
          <p:cNvSpPr/>
          <p:nvPr/>
        </p:nvSpPr>
        <p:spPr>
          <a:xfrm>
            <a:off x="7391520" y="3581280"/>
            <a:ext cx="10666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raries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13" idx="2"/>
            <a:endCxn id="865" idx="0"/>
          </p:cNvCxnSpPr>
          <p:nvPr/>
        </p:nvCxnSpPr>
        <p:spPr>
          <a:xfrm>
            <a:off x="7429320" y="2152800"/>
            <a:ext cx="495720" cy="1429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2" name=""/>
          <p:cNvCxnSpPr>
            <a:stCxn id="914" idx="2"/>
            <a:endCxn id="865" idx="0"/>
          </p:cNvCxnSpPr>
          <p:nvPr/>
        </p:nvCxnSpPr>
        <p:spPr>
          <a:xfrm>
            <a:off x="6857640" y="2152800"/>
            <a:ext cx="1067400" cy="1429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15" idx="2"/>
            <a:endCxn id="865" idx="0"/>
          </p:cNvCxnSpPr>
          <p:nvPr/>
        </p:nvCxnSpPr>
        <p:spPr>
          <a:xfrm>
            <a:off x="6324120" y="2152800"/>
            <a:ext cx="1600920" cy="1429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4" name=""/>
          <p:cNvCxnSpPr>
            <a:stCxn id="865" idx="4"/>
            <a:endCxn id="892" idx="2"/>
          </p:cNvCxnSpPr>
          <p:nvPr/>
        </p:nvCxnSpPr>
        <p:spPr>
          <a:xfrm flipH="1">
            <a:off x="7505280" y="3962160"/>
            <a:ext cx="419760" cy="2153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865" idx="4"/>
            <a:endCxn id="893" idx="2"/>
          </p:cNvCxnSpPr>
          <p:nvPr/>
        </p:nvCxnSpPr>
        <p:spPr>
          <a:xfrm flipH="1">
            <a:off x="6933600" y="3962160"/>
            <a:ext cx="991080" cy="2153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6" name=""/>
          <p:cNvCxnSpPr>
            <a:stCxn id="865" idx="4"/>
            <a:endCxn id="894" idx="2"/>
          </p:cNvCxnSpPr>
          <p:nvPr/>
        </p:nvCxnSpPr>
        <p:spPr>
          <a:xfrm flipH="1">
            <a:off x="6400080" y="3962160"/>
            <a:ext cx="1524600" cy="2153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6095880" y="3505320"/>
            <a:ext cx="1143000" cy="5331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age KR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ntral system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stCxn id="929" idx="3"/>
            <a:endCxn id="867" idx="1"/>
          </p:cNvCxnSpPr>
          <p:nvPr/>
        </p:nvCxnSpPr>
        <p:spPr>
          <a:xfrm>
            <a:off x="5790960" y="2400120"/>
            <a:ext cx="471960" cy="1183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8" name=""/>
          <p:cNvCxnSpPr>
            <a:stCxn id="867" idx="3"/>
            <a:endCxn id="908" idx="3"/>
          </p:cNvCxnSpPr>
          <p:nvPr/>
        </p:nvCxnSpPr>
        <p:spPr>
          <a:xfrm flipH="1">
            <a:off x="5866920" y="3960720"/>
            <a:ext cx="396000" cy="2402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949" name=""/>
          <p:cNvSpPr/>
          <p:nvPr/>
        </p:nvSpPr>
        <p:spPr>
          <a:xfrm>
            <a:off x="8077320" y="4419720"/>
            <a:ext cx="685800" cy="5331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rvice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"/>
          <p:cNvCxnSpPr>
            <a:stCxn id="860" idx="5"/>
            <a:endCxn id="949" idx="0"/>
          </p:cNvCxnSpPr>
          <p:nvPr/>
        </p:nvCxnSpPr>
        <p:spPr>
          <a:xfrm>
            <a:off x="5776920" y="3960720"/>
            <a:ext cx="2643840" cy="440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152280" y="4114800"/>
            <a:ext cx="8534520" cy="25909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" y="4191120"/>
            <a:ext cx="6553080" cy="243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29000" y="6324480"/>
            <a:ext cx="32004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2120" y="304920"/>
            <a:ext cx="6324480" cy="1828800"/>
          </a:xfrm>
          <a:prstGeom prst="rect">
            <a:avLst/>
          </a:prstGeom>
          <a:solidFill>
            <a:srgbClr val="00ff00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14400" y="533520"/>
            <a:ext cx="4038480" cy="15238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90720" y="1447920"/>
            <a:ext cx="3809880" cy="4572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533520"/>
            <a:ext cx="1600200" cy="3045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304920"/>
            <a:ext cx="152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324480" y="1066680"/>
            <a:ext cx="53352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791320" y="1066680"/>
            <a:ext cx="4572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57800" y="1066680"/>
            <a:ext cx="4572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83808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manip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990720" y="106668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refer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52480" y="83808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manip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52480" y="106668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514600" y="83808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manip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4600" y="106668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76720" y="83808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manip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76720" y="1066680"/>
            <a:ext cx="76176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90720" y="1676520"/>
            <a:ext cx="7617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514600" y="1676520"/>
            <a:ext cx="7621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1676520"/>
            <a:ext cx="7617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038480" y="838080"/>
            <a:ext cx="76212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manipul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038480" y="1676520"/>
            <a:ext cx="7621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371600" y="14479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6000" y="144792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48120" y="144792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9" name=""/>
          <p:cNvCxnSpPr>
            <a:stCxn id="967" idx="2"/>
            <a:endCxn id="977" idx="0"/>
          </p:cNvCxnSpPr>
          <p:nvPr/>
        </p:nvCxnSpPr>
        <p:spPr>
          <a:xfrm flipH="1">
            <a:off x="2666160" y="1314000"/>
            <a:ext cx="229320" cy="134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0" name=""/>
          <p:cNvSpPr/>
          <p:nvPr/>
        </p:nvSpPr>
        <p:spPr>
          <a:xfrm>
            <a:off x="3809880" y="1447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RAS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220040" y="533520"/>
            <a:ext cx="8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38480" y="1066680"/>
            <a:ext cx="762120" cy="2286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29000" y="2362320"/>
            <a:ext cx="685800" cy="533160"/>
          </a:xfrm>
          <a:prstGeom prst="hexagon">
            <a:avLst>
              <a:gd name="adj" fmla="val 32157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2"/>
            <a:endCxn id="985" idx="6"/>
          </p:cNvCxnSpPr>
          <p:nvPr/>
        </p:nvCxnSpPr>
        <p:spPr>
          <a:xfrm flipH="1" flipV="1">
            <a:off x="1142280" y="2704320"/>
            <a:ext cx="2629800" cy="19116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986" name=""/>
          <p:cNvSpPr/>
          <p:nvPr/>
        </p:nvSpPr>
        <p:spPr>
          <a:xfrm>
            <a:off x="53352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0880" y="3200400"/>
            <a:ext cx="99072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19320" y="3581280"/>
            <a:ext cx="10666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s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362320" y="3581280"/>
            <a:ext cx="99036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0" name=""/>
          <p:cNvCxnSpPr>
            <a:stCxn id="983" idx="2"/>
            <a:endCxn id="988" idx="7"/>
          </p:cNvCxnSpPr>
          <p:nvPr/>
        </p:nvCxnSpPr>
        <p:spPr>
          <a:xfrm flipH="1">
            <a:off x="2130120" y="2895480"/>
            <a:ext cx="1642320" cy="7423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991" name=""/>
          <p:cNvCxnSpPr>
            <a:stCxn id="983" idx="2"/>
            <a:endCxn id="989" idx="0"/>
          </p:cNvCxnSpPr>
          <p:nvPr/>
        </p:nvCxnSpPr>
        <p:spPr>
          <a:xfrm flipH="1">
            <a:off x="2857320" y="2895120"/>
            <a:ext cx="91512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992" name=""/>
          <p:cNvSpPr/>
          <p:nvPr/>
        </p:nvSpPr>
        <p:spPr>
          <a:xfrm>
            <a:off x="8077320" y="1219320"/>
            <a:ext cx="914400" cy="641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 Core extension and administration-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83" idx="2"/>
            <a:endCxn id="987" idx="6"/>
          </p:cNvCxnSpPr>
          <p:nvPr/>
        </p:nvCxnSpPr>
        <p:spPr>
          <a:xfrm flipH="1">
            <a:off x="1371240" y="2895480"/>
            <a:ext cx="2401200" cy="49608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995" name=""/>
          <p:cNvSpPr/>
          <p:nvPr/>
        </p:nvSpPr>
        <p:spPr>
          <a:xfrm>
            <a:off x="8077320" y="3352680"/>
            <a:ext cx="838080" cy="609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534520" y="182880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162920" y="1676520"/>
            <a:ext cx="685800" cy="5331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010280" y="3505320"/>
            <a:ext cx="685800" cy="5331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stCxn id="997" idx="2"/>
            <a:endCxn id="1000" idx="7"/>
          </p:cNvCxnSpPr>
          <p:nvPr/>
        </p:nvCxnSpPr>
        <p:spPr>
          <a:xfrm flipH="1">
            <a:off x="5635440" y="2228400"/>
            <a:ext cx="1870560" cy="429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83" idx="2"/>
            <a:endCxn id="1000" idx="1"/>
          </p:cNvCxnSpPr>
          <p:nvPr/>
        </p:nvCxnSpPr>
        <p:spPr>
          <a:xfrm flipV="1">
            <a:off x="3771720" y="2656800"/>
            <a:ext cx="1108080" cy="2386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983" idx="2"/>
            <a:endCxn id="1003" idx="1"/>
          </p:cNvCxnSpPr>
          <p:nvPr/>
        </p:nvCxnSpPr>
        <p:spPr>
          <a:xfrm>
            <a:off x="3772080" y="2895480"/>
            <a:ext cx="1054800" cy="5248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000" name=""/>
          <p:cNvSpPr/>
          <p:nvPr/>
        </p:nvSpPr>
        <p:spPr>
          <a:xfrm>
            <a:off x="4724280" y="2590920"/>
            <a:ext cx="1067040" cy="4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OS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4" name=""/>
          <p:cNvCxnSpPr>
            <a:stCxn id="1000" idx="5"/>
            <a:endCxn id="998" idx="0"/>
          </p:cNvCxnSpPr>
          <p:nvPr/>
        </p:nvCxnSpPr>
        <p:spPr>
          <a:xfrm>
            <a:off x="5635440" y="2980800"/>
            <a:ext cx="1718280" cy="505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05" name=""/>
          <p:cNvSpPr/>
          <p:nvPr/>
        </p:nvSpPr>
        <p:spPr>
          <a:xfrm>
            <a:off x="7848720" y="2209680"/>
            <a:ext cx="609480" cy="457200"/>
          </a:xfrm>
          <a:prstGeom prst="hexagon">
            <a:avLst>
              <a:gd name="adj" fmla="val 33327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6" name=""/>
          <p:cNvCxnSpPr>
            <a:stCxn id="1005" idx="2"/>
            <a:endCxn id="1007" idx="0"/>
          </p:cNvCxnSpPr>
          <p:nvPr/>
        </p:nvCxnSpPr>
        <p:spPr>
          <a:xfrm flipH="1">
            <a:off x="6324120" y="2666880"/>
            <a:ext cx="1829520" cy="9151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61" idx="0"/>
            <a:endCxn id="1003" idx="0"/>
          </p:cNvCxnSpPr>
          <p:nvPr/>
        </p:nvCxnSpPr>
        <p:spPr>
          <a:xfrm flipH="1">
            <a:off x="5257080" y="1047240"/>
            <a:ext cx="229320" cy="2305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09" name=""/>
          <p:cNvCxnSpPr>
            <a:stCxn id="960" idx="0"/>
            <a:endCxn id="1003" idx="0"/>
          </p:cNvCxnSpPr>
          <p:nvPr/>
        </p:nvCxnSpPr>
        <p:spPr>
          <a:xfrm flipH="1">
            <a:off x="5257080" y="1047240"/>
            <a:ext cx="762840" cy="2305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0" name=""/>
          <p:cNvCxnSpPr>
            <a:stCxn id="959" idx="0"/>
            <a:endCxn id="1003" idx="0"/>
          </p:cNvCxnSpPr>
          <p:nvPr/>
        </p:nvCxnSpPr>
        <p:spPr>
          <a:xfrm flipH="1">
            <a:off x="5257440" y="1047240"/>
            <a:ext cx="1334160" cy="2305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03" name=""/>
          <p:cNvSpPr/>
          <p:nvPr/>
        </p:nvSpPr>
        <p:spPr>
          <a:xfrm>
            <a:off x="4648320" y="3352680"/>
            <a:ext cx="1218960" cy="4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867280" y="3581280"/>
            <a:ext cx="91440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0 Manage prod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raries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2514600"/>
            <a:ext cx="114300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nowledge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59" idx="2"/>
            <a:endCxn id="1007" idx="1"/>
          </p:cNvCxnSpPr>
          <p:nvPr/>
        </p:nvCxnSpPr>
        <p:spPr>
          <a:xfrm flipH="1">
            <a:off x="6000480" y="2076120"/>
            <a:ext cx="591120" cy="1561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2" name=""/>
          <p:cNvCxnSpPr>
            <a:stCxn id="960" idx="2"/>
            <a:endCxn id="1007" idx="1"/>
          </p:cNvCxnSpPr>
          <p:nvPr/>
        </p:nvCxnSpPr>
        <p:spPr>
          <a:xfrm flipH="1">
            <a:off x="6000120" y="2076120"/>
            <a:ext cx="19800" cy="1561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3" name=""/>
          <p:cNvCxnSpPr>
            <a:stCxn id="961" idx="2"/>
            <a:endCxn id="1007" idx="1"/>
          </p:cNvCxnSpPr>
          <p:nvPr/>
        </p:nvCxnSpPr>
        <p:spPr>
          <a:xfrm>
            <a:off x="5486040" y="2076120"/>
            <a:ext cx="515160" cy="1561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4" name=""/>
          <p:cNvCxnSpPr>
            <a:stCxn id="963" idx="2"/>
            <a:endCxn id="985" idx="0"/>
          </p:cNvCxnSpPr>
          <p:nvPr/>
        </p:nvCxnSpPr>
        <p:spPr>
          <a:xfrm flipH="1">
            <a:off x="571320" y="1314360"/>
            <a:ext cx="800640" cy="1200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5" name=""/>
          <p:cNvCxnSpPr>
            <a:stCxn id="970" idx="2"/>
            <a:endCxn id="985" idx="0"/>
          </p:cNvCxnSpPr>
          <p:nvPr/>
        </p:nvCxnSpPr>
        <p:spPr>
          <a:xfrm flipH="1">
            <a:off x="571320" y="1904760"/>
            <a:ext cx="800640" cy="610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6" name=""/>
          <p:cNvCxnSpPr>
            <a:stCxn id="965" idx="0"/>
            <a:endCxn id="987" idx="0"/>
          </p:cNvCxnSpPr>
          <p:nvPr/>
        </p:nvCxnSpPr>
        <p:spPr>
          <a:xfrm flipH="1">
            <a:off x="875520" y="1047600"/>
            <a:ext cx="1258200" cy="21535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7" name=""/>
          <p:cNvCxnSpPr>
            <a:stCxn id="971" idx="2"/>
            <a:endCxn id="987" idx="0"/>
          </p:cNvCxnSpPr>
          <p:nvPr/>
        </p:nvCxnSpPr>
        <p:spPr>
          <a:xfrm flipH="1">
            <a:off x="875520" y="1905120"/>
            <a:ext cx="1258200" cy="12960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8" name=""/>
          <p:cNvCxnSpPr>
            <a:stCxn id="965" idx="2"/>
            <a:endCxn id="987" idx="0"/>
          </p:cNvCxnSpPr>
          <p:nvPr/>
        </p:nvCxnSpPr>
        <p:spPr>
          <a:xfrm flipH="1">
            <a:off x="875520" y="1314000"/>
            <a:ext cx="1258200" cy="18867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967" idx="0"/>
            <a:endCxn id="988" idx="0"/>
          </p:cNvCxnSpPr>
          <p:nvPr/>
        </p:nvCxnSpPr>
        <p:spPr>
          <a:xfrm flipH="1">
            <a:off x="1751760" y="1047600"/>
            <a:ext cx="1143720" cy="2534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963" idx="0"/>
            <a:endCxn id="985" idx="0"/>
          </p:cNvCxnSpPr>
          <p:nvPr/>
        </p:nvCxnSpPr>
        <p:spPr>
          <a:xfrm flipH="1">
            <a:off x="571320" y="1047240"/>
            <a:ext cx="800640" cy="14677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967" idx="2"/>
            <a:endCxn id="988" idx="0"/>
          </p:cNvCxnSpPr>
          <p:nvPr/>
        </p:nvCxnSpPr>
        <p:spPr>
          <a:xfrm flipH="1">
            <a:off x="1751760" y="1314000"/>
            <a:ext cx="1143720" cy="2267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2" name=""/>
          <p:cNvCxnSpPr>
            <a:stCxn id="972" idx="2"/>
            <a:endCxn id="988" idx="0"/>
          </p:cNvCxnSpPr>
          <p:nvPr/>
        </p:nvCxnSpPr>
        <p:spPr>
          <a:xfrm flipH="1">
            <a:off x="1751760" y="1905120"/>
            <a:ext cx="1143720" cy="167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3" name=""/>
          <p:cNvCxnSpPr>
            <a:stCxn id="969" idx="0"/>
            <a:endCxn id="989" idx="0"/>
          </p:cNvCxnSpPr>
          <p:nvPr/>
        </p:nvCxnSpPr>
        <p:spPr>
          <a:xfrm flipH="1">
            <a:off x="2857320" y="1047600"/>
            <a:ext cx="800640" cy="25344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4" name=""/>
          <p:cNvCxnSpPr>
            <a:stCxn id="973" idx="2"/>
            <a:endCxn id="989" idx="0"/>
          </p:cNvCxnSpPr>
          <p:nvPr/>
        </p:nvCxnSpPr>
        <p:spPr>
          <a:xfrm flipH="1">
            <a:off x="2857320" y="1905120"/>
            <a:ext cx="800640" cy="167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5" name=""/>
          <p:cNvCxnSpPr>
            <a:stCxn id="969" idx="2"/>
            <a:endCxn id="989" idx="0"/>
          </p:cNvCxnSpPr>
          <p:nvPr/>
        </p:nvCxnSpPr>
        <p:spPr>
          <a:xfrm flipH="1">
            <a:off x="2857320" y="1314000"/>
            <a:ext cx="800640" cy="2267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26" name=""/>
          <p:cNvSpPr/>
          <p:nvPr/>
        </p:nvSpPr>
        <p:spPr>
          <a:xfrm>
            <a:off x="3581280" y="3505320"/>
            <a:ext cx="1067040" cy="45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7" name=""/>
          <p:cNvCxnSpPr>
            <a:stCxn id="975" idx="2"/>
            <a:endCxn id="1026" idx="0"/>
          </p:cNvCxnSpPr>
          <p:nvPr/>
        </p:nvCxnSpPr>
        <p:spPr>
          <a:xfrm flipH="1">
            <a:off x="4114080" y="1904760"/>
            <a:ext cx="30564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8" name=""/>
          <p:cNvCxnSpPr>
            <a:stCxn id="974" idx="2"/>
            <a:endCxn id="1026" idx="0"/>
          </p:cNvCxnSpPr>
          <p:nvPr/>
        </p:nvCxnSpPr>
        <p:spPr>
          <a:xfrm flipH="1">
            <a:off x="4114080" y="1085400"/>
            <a:ext cx="305640" cy="242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9" name=""/>
          <p:cNvSpPr/>
          <p:nvPr/>
        </p:nvSpPr>
        <p:spPr>
          <a:xfrm>
            <a:off x="6172200" y="2666880"/>
            <a:ext cx="114300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manage main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05" idx="2"/>
            <a:endCxn id="1029" idx="7"/>
          </p:cNvCxnSpPr>
          <p:nvPr/>
        </p:nvCxnSpPr>
        <p:spPr>
          <a:xfrm flipH="1">
            <a:off x="7147800" y="2666520"/>
            <a:ext cx="1005480" cy="565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31" name=""/>
          <p:cNvCxnSpPr>
            <a:stCxn id="978" idx="1"/>
            <a:endCxn id="1029" idx="0"/>
          </p:cNvCxnSpPr>
          <p:nvPr/>
        </p:nvCxnSpPr>
        <p:spPr>
          <a:xfrm>
            <a:off x="3048120" y="1561680"/>
            <a:ext cx="3696480" cy="11055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32" name=""/>
          <p:cNvSpPr/>
          <p:nvPr/>
        </p:nvSpPr>
        <p:spPr>
          <a:xfrm>
            <a:off x="8001000" y="5334120"/>
            <a:ext cx="5335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467480" y="5334120"/>
            <a:ext cx="4572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934320" y="5334120"/>
            <a:ext cx="45720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14600" y="4724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4724280"/>
            <a:ext cx="30456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257800" y="4724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010280" y="4419720"/>
            <a:ext cx="152424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010280" y="4191120"/>
            <a:ext cx="1447920" cy="152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LOS 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19320" y="4724280"/>
            <a:ext cx="609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219320" y="5257800"/>
            <a:ext cx="609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19320" y="5791320"/>
            <a:ext cx="609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19520" y="502920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819520" y="5334120"/>
            <a:ext cx="60948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19520" y="563868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4724280"/>
            <a:ext cx="6098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95680" y="5105520"/>
            <a:ext cx="60984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5486400"/>
            <a:ext cx="6098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495680" y="5943600"/>
            <a:ext cx="6098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914400" y="4724280"/>
            <a:ext cx="304920" cy="152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905120" y="472428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5105520"/>
            <a:ext cx="60948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05120" y="548640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05120" y="594360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4724280"/>
            <a:ext cx="6098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5257800"/>
            <a:ext cx="6098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5791320"/>
            <a:ext cx="60984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0880" y="4724280"/>
            <a:ext cx="5335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880" y="5257800"/>
            <a:ext cx="5335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80880" y="5791320"/>
            <a:ext cx="5335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419112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Core libr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248520" y="48769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77120" y="5105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19520" y="472428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5" name=""/>
          <p:cNvCxnSpPr/>
          <p:nvPr/>
        </p:nvCxnSpPr>
        <p:spPr>
          <a:xfrm rot="5400000">
            <a:off x="1884240" y="3943080"/>
            <a:ext cx="2520" cy="1562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36" idx="0"/>
          </p:cNvCxnSpPr>
          <p:nvPr/>
        </p:nvCxnSpPr>
        <p:spPr>
          <a:xfrm rot="5400000">
            <a:off x="3503520" y="3885840"/>
            <a:ext cx="2520" cy="1677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37" idx="0"/>
            <a:endCxn id="1036" idx="0"/>
          </p:cNvCxnSpPr>
          <p:nvPr/>
        </p:nvCxnSpPr>
        <p:spPr>
          <a:xfrm rot="5400000">
            <a:off x="4875120" y="4190760"/>
            <a:ext cx="2520" cy="1067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8" name=""/>
          <p:cNvSpPr/>
          <p:nvPr/>
        </p:nvSpPr>
        <p:spPr>
          <a:xfrm>
            <a:off x="6248520" y="5181480"/>
            <a:ext cx="30456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16292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6960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822960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3818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19520" y="594360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4" name=""/>
          <p:cNvCxnSpPr>
            <a:stCxn id="985" idx="4"/>
            <a:endCxn id="1050" idx="0"/>
          </p:cNvCxnSpPr>
          <p:nvPr/>
        </p:nvCxnSpPr>
        <p:spPr>
          <a:xfrm>
            <a:off x="571320" y="2895480"/>
            <a:ext cx="495720" cy="18295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987" idx="4"/>
            <a:endCxn id="1035" idx="0"/>
          </p:cNvCxnSpPr>
          <p:nvPr/>
        </p:nvCxnSpPr>
        <p:spPr>
          <a:xfrm>
            <a:off x="876240" y="3580920"/>
            <a:ext cx="1791360" cy="11437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988" idx="5"/>
            <a:endCxn id="1036" idx="0"/>
          </p:cNvCxnSpPr>
          <p:nvPr/>
        </p:nvCxnSpPr>
        <p:spPr>
          <a:xfrm>
            <a:off x="2130120" y="3906360"/>
            <a:ext cx="2213640" cy="8182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989" idx="5"/>
            <a:endCxn id="1037" idx="0"/>
          </p:cNvCxnSpPr>
          <p:nvPr/>
        </p:nvCxnSpPr>
        <p:spPr>
          <a:xfrm>
            <a:off x="3208320" y="3906360"/>
            <a:ext cx="2202480" cy="8182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26" idx="5"/>
            <a:endCxn id="1068" idx="0"/>
          </p:cNvCxnSpPr>
          <p:nvPr/>
        </p:nvCxnSpPr>
        <p:spPr>
          <a:xfrm>
            <a:off x="4492800" y="3895560"/>
            <a:ext cx="1908720" cy="1286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79" name=""/>
          <p:cNvCxnSpPr>
            <a:stCxn id="1003" idx="4"/>
            <a:endCxn id="1069" idx="0"/>
          </p:cNvCxnSpPr>
          <p:nvPr/>
        </p:nvCxnSpPr>
        <p:spPr>
          <a:xfrm>
            <a:off x="5257800" y="3809880"/>
            <a:ext cx="1905840" cy="1524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0" name=""/>
          <p:cNvCxnSpPr>
            <a:stCxn id="1003" idx="4"/>
            <a:endCxn id="1070" idx="0"/>
          </p:cNvCxnSpPr>
          <p:nvPr/>
        </p:nvCxnSpPr>
        <p:spPr>
          <a:xfrm>
            <a:off x="5257440" y="3809880"/>
            <a:ext cx="2439000" cy="1524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1" name=""/>
          <p:cNvCxnSpPr>
            <a:stCxn id="1003" idx="4"/>
            <a:endCxn id="1032" idx="0"/>
          </p:cNvCxnSpPr>
          <p:nvPr/>
        </p:nvCxnSpPr>
        <p:spPr>
          <a:xfrm>
            <a:off x="5257440" y="3809520"/>
            <a:ext cx="3010680" cy="1505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stCxn id="1029" idx="4"/>
            <a:endCxn id="1083" idx="1"/>
          </p:cNvCxnSpPr>
          <p:nvPr/>
        </p:nvCxnSpPr>
        <p:spPr>
          <a:xfrm flipH="1">
            <a:off x="4952160" y="3047760"/>
            <a:ext cx="1791720" cy="33915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4" name=""/>
          <p:cNvCxnSpPr>
            <a:stCxn id="1007" idx="4"/>
            <a:endCxn id="1032" idx="2"/>
          </p:cNvCxnSpPr>
          <p:nvPr/>
        </p:nvCxnSpPr>
        <p:spPr>
          <a:xfrm>
            <a:off x="6324480" y="3962520"/>
            <a:ext cx="1944000" cy="2458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5" name=""/>
          <p:cNvCxnSpPr>
            <a:stCxn id="1007" idx="4"/>
            <a:endCxn id="1033" idx="2"/>
          </p:cNvCxnSpPr>
          <p:nvPr/>
        </p:nvCxnSpPr>
        <p:spPr>
          <a:xfrm>
            <a:off x="6324480" y="3962520"/>
            <a:ext cx="1372320" cy="2458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6" name=""/>
          <p:cNvCxnSpPr>
            <a:stCxn id="1007" idx="4"/>
            <a:endCxn id="1034" idx="2"/>
          </p:cNvCxnSpPr>
          <p:nvPr/>
        </p:nvCxnSpPr>
        <p:spPr>
          <a:xfrm>
            <a:off x="6324120" y="3962520"/>
            <a:ext cx="839160" cy="2458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087" name=""/>
          <p:cNvSpPr/>
          <p:nvPr/>
        </p:nvSpPr>
        <p:spPr>
          <a:xfrm>
            <a:off x="1752480" y="2362320"/>
            <a:ext cx="114300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odif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e library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8" name=""/>
          <p:cNvCxnSpPr>
            <a:stCxn id="955" idx="2"/>
            <a:endCxn id="1087" idx="0"/>
          </p:cNvCxnSpPr>
          <p:nvPr/>
        </p:nvCxnSpPr>
        <p:spPr>
          <a:xfrm flipH="1">
            <a:off x="2323440" y="2088720"/>
            <a:ext cx="610200" cy="2739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stCxn id="1087" idx="4"/>
            <a:endCxn id="952" idx="0"/>
          </p:cNvCxnSpPr>
          <p:nvPr/>
        </p:nvCxnSpPr>
        <p:spPr>
          <a:xfrm>
            <a:off x="2323800" y="2742840"/>
            <a:ext cx="1181880" cy="14295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90" name=""/>
          <p:cNvCxnSpPr>
            <a:stCxn id="983" idx="1"/>
            <a:endCxn id="1087" idx="6"/>
          </p:cNvCxnSpPr>
          <p:nvPr/>
        </p:nvCxnSpPr>
        <p:spPr>
          <a:xfrm flipH="1" flipV="1">
            <a:off x="2895120" y="2552760"/>
            <a:ext cx="534240" cy="7668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91" name=""/>
          <p:cNvCxnSpPr>
            <a:stCxn id="983" idx="2"/>
            <a:endCxn id="1026" idx="1"/>
          </p:cNvCxnSpPr>
          <p:nvPr/>
        </p:nvCxnSpPr>
        <p:spPr>
          <a:xfrm flipH="1">
            <a:off x="3736440" y="2895120"/>
            <a:ext cx="36000" cy="6771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92" name=""/>
          <p:cNvCxnSpPr>
            <a:stCxn id="965" idx="2"/>
            <a:endCxn id="977" idx="0"/>
          </p:cNvCxnSpPr>
          <p:nvPr/>
        </p:nvCxnSpPr>
        <p:spPr>
          <a:xfrm>
            <a:off x="2133360" y="1314000"/>
            <a:ext cx="533880" cy="134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93" name=""/>
          <p:cNvSpPr/>
          <p:nvPr/>
        </p:nvSpPr>
        <p:spPr>
          <a:xfrm>
            <a:off x="3581280" y="28954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543800" y="34290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924680" y="266688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86200" y="32767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886200" y="3200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0773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7696080" y="327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9608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858000" y="609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34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8991720" y="6094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952880" y="914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3868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1722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294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781680" y="838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0880" y="6324480"/>
            <a:ext cx="129564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905120" y="6324480"/>
            <a:ext cx="129528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276720" y="63244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91120" y="63244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52880" y="63244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6324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RAS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0040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76520" y="6477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00600" y="7621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43800" y="21337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62720" y="502920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62720" y="5334120"/>
            <a:ext cx="60948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562720" y="563868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472428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2720" y="5943600"/>
            <a:ext cx="60948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666880" y="5181480"/>
            <a:ext cx="518184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" y="380880"/>
            <a:ext cx="8458200" cy="243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62320" y="1447920"/>
            <a:ext cx="457200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80880" y="533520"/>
            <a:ext cx="18288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33520" y="838080"/>
            <a:ext cx="30456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38080" y="83808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143000" y="83808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447920" y="838080"/>
            <a:ext cx="30456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86400" y="17524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715000" y="17524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172200" y="17524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943600" y="17524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33520" y="3124080"/>
            <a:ext cx="13716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 or 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590920" y="2971800"/>
            <a:ext cx="685800" cy="533520"/>
          </a:xfrm>
          <a:prstGeom prst="hexagon">
            <a:avLst>
              <a:gd name="adj" fmla="val 3213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chnolog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362320" y="1447920"/>
            <a:ext cx="1676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included 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33520" y="609480"/>
            <a:ext cx="148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TELOS core libr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57400" y="1143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647712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1" name=""/>
          <p:cNvCxnSpPr>
            <a:stCxn id="1136" idx="1"/>
            <a:endCxn id="1135" idx="6"/>
          </p:cNvCxnSpPr>
          <p:nvPr/>
        </p:nvCxnSpPr>
        <p:spPr>
          <a:xfrm flipH="1">
            <a:off x="1904400" y="3238200"/>
            <a:ext cx="686520" cy="1530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6400800" y="182880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486400" y="2286000"/>
            <a:ext cx="1143000" cy="39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i  integ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438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72400" y="1447920"/>
            <a:ext cx="6094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010280" y="1447920"/>
            <a:ext cx="6098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52880" y="53352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use and LKMS construction and preparation-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495680" y="3276720"/>
            <a:ext cx="12956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apt to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629400" y="2971800"/>
            <a:ext cx="685800" cy="533520"/>
          </a:xfrm>
          <a:prstGeom prst="hexagon">
            <a:avLst>
              <a:gd name="adj" fmla="val 3213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1" name=""/>
          <p:cNvCxnSpPr>
            <a:stCxn id="1152" idx="2"/>
            <a:endCxn id="1149" idx="1"/>
          </p:cNvCxnSpPr>
          <p:nvPr/>
        </p:nvCxnSpPr>
        <p:spPr>
          <a:xfrm>
            <a:off x="3467160" y="2615760"/>
            <a:ext cx="1218240" cy="7167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3" name=""/>
          <p:cNvCxnSpPr>
            <a:stCxn id="1150" idx="1"/>
            <a:endCxn id="1149" idx="6"/>
          </p:cNvCxnSpPr>
          <p:nvPr/>
        </p:nvCxnSpPr>
        <p:spPr>
          <a:xfrm flipH="1">
            <a:off x="5790960" y="3238200"/>
            <a:ext cx="838800" cy="2293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54" name=""/>
          <p:cNvCxnSpPr/>
          <p:nvPr/>
        </p:nvCxnSpPr>
        <p:spPr>
          <a:xfrm rot="5400000">
            <a:off x="5675400" y="16380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5" name=""/>
          <p:cNvCxnSpPr/>
          <p:nvPr/>
        </p:nvCxnSpPr>
        <p:spPr>
          <a:xfrm rot="5400000">
            <a:off x="5904000" y="16380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6" name=""/>
          <p:cNvCxnSpPr/>
          <p:nvPr/>
        </p:nvCxnSpPr>
        <p:spPr>
          <a:xfrm rot="5400000">
            <a:off x="6132600" y="16380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7" name=""/>
          <p:cNvSpPr/>
          <p:nvPr/>
        </p:nvSpPr>
        <p:spPr>
          <a:xfrm>
            <a:off x="533520" y="2438280"/>
            <a:ext cx="14475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52480" y="1219320"/>
            <a:ext cx="228600" cy="1218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9" name=""/>
          <p:cNvCxnSpPr>
            <a:stCxn id="1157" idx="2"/>
            <a:endCxn id="1135" idx="1"/>
          </p:cNvCxnSpPr>
          <p:nvPr/>
        </p:nvCxnSpPr>
        <p:spPr>
          <a:xfrm flipH="1">
            <a:off x="734400" y="2666880"/>
            <a:ext cx="523080" cy="53568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160" name=""/>
          <p:cNvCxnSpPr>
            <a:stCxn id="1149" idx="3"/>
            <a:endCxn id="1161" idx="0"/>
          </p:cNvCxnSpPr>
          <p:nvPr/>
        </p:nvCxnSpPr>
        <p:spPr>
          <a:xfrm flipH="1">
            <a:off x="3466800" y="3602160"/>
            <a:ext cx="1218240" cy="18086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1162" name=""/>
          <p:cNvSpPr/>
          <p:nvPr/>
        </p:nvSpPr>
        <p:spPr>
          <a:xfrm>
            <a:off x="71629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848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8077320" y="990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791320" y="54864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54864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77120" y="54864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248520" y="548640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705720" y="556272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91320" y="6019920"/>
            <a:ext cx="1143000" cy="39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r rem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895480" y="16765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24080" y="16765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81280" y="16765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352680" y="16765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09880" y="175248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895480" y="2209680"/>
            <a:ext cx="11430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s sa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6" name=""/>
          <p:cNvCxnSpPr>
            <a:stCxn id="1149" idx="7"/>
            <a:endCxn id="1143" idx="2"/>
          </p:cNvCxnSpPr>
          <p:nvPr/>
        </p:nvCxnSpPr>
        <p:spPr>
          <a:xfrm flipV="1">
            <a:off x="5602320" y="2691720"/>
            <a:ext cx="456480" cy="640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35" idx="7"/>
            <a:endCxn id="1152" idx="2"/>
          </p:cNvCxnSpPr>
          <p:nvPr/>
        </p:nvCxnSpPr>
        <p:spPr>
          <a:xfrm flipV="1">
            <a:off x="1703160" y="2615400"/>
            <a:ext cx="1764360" cy="586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8" name=""/>
          <p:cNvCxnSpPr>
            <a:stCxn id="1135" idx="4"/>
            <a:endCxn id="1161" idx="0"/>
          </p:cNvCxnSpPr>
          <p:nvPr/>
        </p:nvCxnSpPr>
        <p:spPr>
          <a:xfrm>
            <a:off x="1219320" y="3657600"/>
            <a:ext cx="2248560" cy="17532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79" name=""/>
          <p:cNvSpPr/>
          <p:nvPr/>
        </p:nvSpPr>
        <p:spPr>
          <a:xfrm>
            <a:off x="2895480" y="54100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24080" y="54100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54100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5410080"/>
            <a:ext cx="22860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09880" y="548640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895480" y="5943600"/>
            <a:ext cx="11430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e ex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4" name=""/>
          <p:cNvCxnSpPr>
            <a:stCxn id="1166" idx="0"/>
            <a:endCxn id="1165" idx="0"/>
          </p:cNvCxnSpPr>
          <p:nvPr/>
        </p:nvCxnSpPr>
        <p:spPr>
          <a:xfrm rot="5400000">
            <a:off x="6018120" y="53726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"/>
          <p:cNvCxnSpPr>
            <a:stCxn id="1168" idx="0"/>
            <a:endCxn id="1166" idx="0"/>
          </p:cNvCxnSpPr>
          <p:nvPr/>
        </p:nvCxnSpPr>
        <p:spPr>
          <a:xfrm rot="5400000">
            <a:off x="6246720" y="53726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"/>
          <p:cNvCxnSpPr>
            <a:stCxn id="1167" idx="0"/>
            <a:endCxn id="1168" idx="0"/>
          </p:cNvCxnSpPr>
          <p:nvPr/>
        </p:nvCxnSpPr>
        <p:spPr>
          <a:xfrm rot="5400000">
            <a:off x="6475320" y="537264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"/>
          <p:cNvSpPr/>
          <p:nvPr/>
        </p:nvSpPr>
        <p:spPr>
          <a:xfrm>
            <a:off x="449568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2428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8148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95288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410080" y="426708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95680" y="4724280"/>
            <a:ext cx="1143000" cy="39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p LKM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895480" y="1676520"/>
            <a:ext cx="11430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86400" y="1752480"/>
            <a:ext cx="11430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895480" y="5410080"/>
            <a:ext cx="11430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91320" y="5486400"/>
            <a:ext cx="11430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5680" y="4191120"/>
            <a:ext cx="1143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8" name=""/>
          <p:cNvCxnSpPr>
            <a:stCxn id="1149" idx="5"/>
            <a:endCxn id="1196" idx="0"/>
          </p:cNvCxnSpPr>
          <p:nvPr/>
        </p:nvCxnSpPr>
        <p:spPr>
          <a:xfrm>
            <a:off x="5602320" y="3601800"/>
            <a:ext cx="761040" cy="1865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199" name=""/>
          <p:cNvSpPr/>
          <p:nvPr/>
        </p:nvSpPr>
        <p:spPr>
          <a:xfrm>
            <a:off x="7314480" y="5791320"/>
            <a:ext cx="3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k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150320" y="6248520"/>
            <a:ext cx="6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stCxn id="1170" idx="3"/>
            <a:endCxn id="1199" idx="1"/>
          </p:cNvCxnSpPr>
          <p:nvPr/>
        </p:nvCxnSpPr>
        <p:spPr>
          <a:xfrm flipV="1">
            <a:off x="6934320" y="5913000"/>
            <a:ext cx="38160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2" name=""/>
          <p:cNvCxnSpPr>
            <a:stCxn id="1170" idx="3"/>
            <a:endCxn id="1200" idx="1"/>
          </p:cNvCxnSpPr>
          <p:nvPr/>
        </p:nvCxnSpPr>
        <p:spPr>
          <a:xfrm>
            <a:off x="6934320" y="6222960"/>
            <a:ext cx="2181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3" name=""/>
          <p:cNvSpPr/>
          <p:nvPr/>
        </p:nvSpPr>
        <p:spPr>
          <a:xfrm>
            <a:off x="6172200" y="4952880"/>
            <a:ext cx="14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ivered L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1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9907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4479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2193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676520" y="4267080"/>
            <a:ext cx="2286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62120" y="4724280"/>
            <a:ext cx="11430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c LKMS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62120" y="4191120"/>
            <a:ext cx="1143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135" idx="3"/>
            <a:endCxn id="1210" idx="0"/>
          </p:cNvCxnSpPr>
          <p:nvPr/>
        </p:nvCxnSpPr>
        <p:spPr>
          <a:xfrm>
            <a:off x="735120" y="3579480"/>
            <a:ext cx="598680" cy="592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212" name=""/>
          <p:cNvCxnSpPr>
            <a:stCxn id="1149" idx="4"/>
            <a:endCxn id="1197" idx="0"/>
          </p:cNvCxnSpPr>
          <p:nvPr/>
        </p:nvCxnSpPr>
        <p:spPr>
          <a:xfrm flipH="1">
            <a:off x="5067360" y="3657240"/>
            <a:ext cx="76680" cy="515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3" name=""/>
          <p:cNvSpPr/>
          <p:nvPr/>
        </p:nvSpPr>
        <p:spPr>
          <a:xfrm>
            <a:off x="7086600" y="5486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4" name=""/>
          <p:cNvCxnSpPr>
            <a:stCxn id="1213" idx="0"/>
          </p:cNvCxnSpPr>
          <p:nvPr/>
        </p:nvCxnSpPr>
        <p:spPr>
          <a:xfrm flipV="1">
            <a:off x="8915040" y="837720"/>
            <a:ext cx="1080" cy="464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5" name=""/>
          <p:cNvSpPr/>
          <p:nvPr/>
        </p:nvSpPr>
        <p:spPr>
          <a:xfrm>
            <a:off x="8381880" y="838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676520" y="914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600200" y="4114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4120" y="4114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733920" y="5257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629400" y="53341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09880" y="16002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324480" y="1600200"/>
            <a:ext cx="38124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352680" y="2971800"/>
            <a:ext cx="685800" cy="533520"/>
          </a:xfrm>
          <a:prstGeom prst="hexagon">
            <a:avLst>
              <a:gd name="adj" fmla="val 3213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276720" y="3733920"/>
            <a:ext cx="8380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5" name=""/>
          <p:cNvCxnSpPr>
            <a:stCxn id="1223" idx="2"/>
            <a:endCxn id="1224" idx="0"/>
          </p:cNvCxnSpPr>
          <p:nvPr/>
        </p:nvCxnSpPr>
        <p:spPr>
          <a:xfrm>
            <a:off x="3695400" y="3504960"/>
            <a:ext cx="1080" cy="2293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24" idx="2"/>
            <a:endCxn id="1135" idx="5"/>
          </p:cNvCxnSpPr>
          <p:nvPr/>
        </p:nvCxnSpPr>
        <p:spPr>
          <a:xfrm flipH="1" flipV="1">
            <a:off x="1703160" y="3579120"/>
            <a:ext cx="15739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228600" y="4267080"/>
            <a:ext cx="5029200" cy="2590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410080" y="5257800"/>
            <a:ext cx="289584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066680" y="4876920"/>
            <a:ext cx="4038840" cy="1600200"/>
          </a:xfrm>
          <a:prstGeom prst="rect">
            <a:avLst/>
          </a:prstGeom>
          <a:solidFill>
            <a:srgbClr val="ccffcc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143000" y="51055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905120" y="510552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666880" y="51055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9000" y="51055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91120" y="510552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cli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28600" y="380880"/>
            <a:ext cx="8458200" cy="243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362320" y="1447920"/>
            <a:ext cx="38098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533520"/>
            <a:ext cx="18288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520" y="838080"/>
            <a:ext cx="30456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8080" y="83808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43000" y="838080"/>
            <a:ext cx="30492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447920" y="838080"/>
            <a:ext cx="30456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8006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0292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864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2578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295280" y="2971800"/>
            <a:ext cx="16002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s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 or modify LK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352680" y="2895480"/>
            <a:ext cx="685800" cy="533520"/>
          </a:xfrm>
          <a:prstGeom prst="hexagon">
            <a:avLst>
              <a:gd name="adj" fmla="val 3213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echnolog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2320" y="1447920"/>
            <a:ext cx="1676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included LKM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609480"/>
            <a:ext cx="148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TELOS core librar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915400" y="7621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8152920" y="5562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57400" y="1143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7913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4" name=""/>
          <p:cNvCxnSpPr>
            <a:stCxn id="1247" idx="2"/>
            <a:endCxn id="1246" idx="6"/>
          </p:cNvCxnSpPr>
          <p:nvPr/>
        </p:nvCxnSpPr>
        <p:spPr>
          <a:xfrm flipH="1" flipV="1">
            <a:off x="2894760" y="3161880"/>
            <a:ext cx="801000" cy="26712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55" name=""/>
          <p:cNvSpPr/>
          <p:nvPr/>
        </p:nvSpPr>
        <p:spPr>
          <a:xfrm>
            <a:off x="8381880" y="762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15000" y="182880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00600" y="2286000"/>
            <a:ext cx="1143000" cy="39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i  integ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in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38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67480" y="1447920"/>
            <a:ext cx="91440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S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400800" y="1447920"/>
            <a:ext cx="83808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 LK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952880" y="53352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 TELOS Kernel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6095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b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use and LKMS construction and preparation-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505320" y="34290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705720" y="2971800"/>
            <a:ext cx="129528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apt to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153280" y="2971800"/>
            <a:ext cx="685800" cy="457200"/>
          </a:xfrm>
          <a:prstGeom prst="hexagon">
            <a:avLst>
              <a:gd name="adj" fmla="val 3750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305920" y="34290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7" name=""/>
          <p:cNvCxnSpPr>
            <a:stCxn id="1268" idx="2"/>
            <a:endCxn id="1269" idx="1"/>
          </p:cNvCxnSpPr>
          <p:nvPr/>
        </p:nvCxnSpPr>
        <p:spPr>
          <a:xfrm>
            <a:off x="3771720" y="2692080"/>
            <a:ext cx="2316600" cy="770760"/>
          </a:xfrm>
          <a:prstGeom prst="straightConnector1">
            <a:avLst/>
          </a:prstGeom>
          <a:ln w="1908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0" name=""/>
          <p:cNvCxnSpPr>
            <a:stCxn id="1266" idx="0"/>
            <a:endCxn id="1264" idx="7"/>
          </p:cNvCxnSpPr>
          <p:nvPr/>
        </p:nvCxnSpPr>
        <p:spPr>
          <a:xfrm flipH="1" flipV="1">
            <a:off x="7811280" y="3015360"/>
            <a:ext cx="685080" cy="4136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71" name=""/>
          <p:cNvSpPr/>
          <p:nvPr/>
        </p:nvSpPr>
        <p:spPr>
          <a:xfrm>
            <a:off x="85345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2" name=""/>
          <p:cNvCxnSpPr/>
          <p:nvPr/>
        </p:nvCxnSpPr>
        <p:spPr>
          <a:xfrm rot="5400000">
            <a:off x="4989600" y="16380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3" name=""/>
          <p:cNvCxnSpPr/>
          <p:nvPr/>
        </p:nvCxnSpPr>
        <p:spPr>
          <a:xfrm rot="5400000">
            <a:off x="5218200" y="16380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/>
          <p:nvPr/>
        </p:nvCxnSpPr>
        <p:spPr>
          <a:xfrm rot="5400000">
            <a:off x="5446800" y="1638000"/>
            <a:ext cx="252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533520" y="2438280"/>
            <a:ext cx="144756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1219320"/>
            <a:ext cx="228600" cy="1218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7" name=""/>
          <p:cNvCxnSpPr>
            <a:stCxn id="1275" idx="2"/>
            <a:endCxn id="1246" idx="0"/>
          </p:cNvCxnSpPr>
          <p:nvPr/>
        </p:nvCxnSpPr>
        <p:spPr>
          <a:xfrm>
            <a:off x="1257480" y="2666520"/>
            <a:ext cx="838800" cy="305640"/>
          </a:xfrm>
          <a:prstGeom prst="straightConnector1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278" name=""/>
          <p:cNvSpPr/>
          <p:nvPr/>
        </p:nvSpPr>
        <p:spPr>
          <a:xfrm>
            <a:off x="36576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9" name=""/>
          <p:cNvCxnSpPr>
            <a:stCxn id="1269" idx="3"/>
            <a:endCxn id="1280" idx="0"/>
          </p:cNvCxnSpPr>
          <p:nvPr/>
        </p:nvCxnSpPr>
        <p:spPr>
          <a:xfrm>
            <a:off x="6087960" y="3623760"/>
            <a:ext cx="46800" cy="19393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1281" name=""/>
          <p:cNvSpPr/>
          <p:nvPr/>
        </p:nvSpPr>
        <p:spPr>
          <a:xfrm>
            <a:off x="914400" y="3733920"/>
            <a:ext cx="99072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 organ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ources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3886200"/>
            <a:ext cx="10666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 organ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gregates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19520" y="3733920"/>
            <a:ext cx="10666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organ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4" name=""/>
          <p:cNvCxnSpPr>
            <a:stCxn id="1246" idx="4"/>
            <a:endCxn id="1281" idx="0"/>
          </p:cNvCxnSpPr>
          <p:nvPr/>
        </p:nvCxnSpPr>
        <p:spPr>
          <a:xfrm flipH="1">
            <a:off x="1409040" y="3352320"/>
            <a:ext cx="68652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5" name=""/>
          <p:cNvCxnSpPr>
            <a:stCxn id="1246" idx="4"/>
            <a:endCxn id="1282" idx="0"/>
          </p:cNvCxnSpPr>
          <p:nvPr/>
        </p:nvCxnSpPr>
        <p:spPr>
          <a:xfrm>
            <a:off x="2095560" y="3352680"/>
            <a:ext cx="3434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6" name=""/>
          <p:cNvCxnSpPr>
            <a:stCxn id="1246" idx="4"/>
            <a:endCxn id="1283" idx="1"/>
          </p:cNvCxnSpPr>
          <p:nvPr/>
        </p:nvCxnSpPr>
        <p:spPr>
          <a:xfrm>
            <a:off x="2095200" y="3352320"/>
            <a:ext cx="880200" cy="43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7" name=""/>
          <p:cNvCxnSpPr>
            <a:stCxn id="1246" idx="4"/>
            <a:endCxn id="1288" idx="1"/>
          </p:cNvCxnSpPr>
          <p:nvPr/>
        </p:nvCxnSpPr>
        <p:spPr>
          <a:xfrm>
            <a:off x="2095200" y="3352680"/>
            <a:ext cx="1794600" cy="66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9" name=""/>
          <p:cNvSpPr/>
          <p:nvPr/>
        </p:nvSpPr>
        <p:spPr>
          <a:xfrm>
            <a:off x="0" y="3886200"/>
            <a:ext cx="9144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 organiz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nowledge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143000" y="5943600"/>
            <a:ext cx="380988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143000" y="53341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143000" y="55627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refer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905120" y="533412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905120" y="556272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666880" y="53341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666880" y="55627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429000" y="53341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429000" y="5562720"/>
            <a:ext cx="76212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43000" y="6172200"/>
            <a:ext cx="76212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05120" y="6172200"/>
            <a:ext cx="7617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66880" y="6172200"/>
            <a:ext cx="76212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429000" y="6172200"/>
            <a:ext cx="76212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91120" y="5334120"/>
            <a:ext cx="761760" cy="228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man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91120" y="6172200"/>
            <a:ext cx="76176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3880" y="59436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38280" y="59436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200400" y="59436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8" name=""/>
          <p:cNvCxnSpPr>
            <a:stCxn id="1296" idx="2"/>
            <a:endCxn id="1306" idx="0"/>
          </p:cNvCxnSpPr>
          <p:nvPr/>
        </p:nvCxnSpPr>
        <p:spPr>
          <a:xfrm flipH="1">
            <a:off x="2818800" y="5810400"/>
            <a:ext cx="229320" cy="133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09" name=""/>
          <p:cNvSpPr/>
          <p:nvPr/>
        </p:nvSpPr>
        <p:spPr>
          <a:xfrm>
            <a:off x="3962520" y="5943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RAS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191120" y="5562720"/>
            <a:ext cx="76176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"/>
          <p:cNvCxnSpPr>
            <a:stCxn id="1294" idx="2"/>
            <a:endCxn id="1306" idx="0"/>
          </p:cNvCxnSpPr>
          <p:nvPr/>
        </p:nvCxnSpPr>
        <p:spPr>
          <a:xfrm>
            <a:off x="2286000" y="5810400"/>
            <a:ext cx="534240" cy="133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304920" y="57913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c 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238" idx="2"/>
            <a:endCxn id="1289" idx="0"/>
          </p:cNvCxnSpPr>
          <p:nvPr/>
        </p:nvCxnSpPr>
        <p:spPr>
          <a:xfrm flipH="1">
            <a:off x="456480" y="2438280"/>
            <a:ext cx="229320" cy="1448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239" idx="2"/>
            <a:endCxn id="1281" idx="1"/>
          </p:cNvCxnSpPr>
          <p:nvPr/>
        </p:nvCxnSpPr>
        <p:spPr>
          <a:xfrm>
            <a:off x="990360" y="2437920"/>
            <a:ext cx="68760" cy="1351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275" idx="0"/>
            <a:endCxn id="1282" idx="1"/>
          </p:cNvCxnSpPr>
          <p:nvPr/>
        </p:nvCxnSpPr>
        <p:spPr>
          <a:xfrm>
            <a:off x="1257120" y="2438280"/>
            <a:ext cx="803880" cy="150408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241" idx="2"/>
            <a:endCxn id="1283" idx="0"/>
          </p:cNvCxnSpPr>
          <p:nvPr/>
        </p:nvCxnSpPr>
        <p:spPr>
          <a:xfrm>
            <a:off x="1600200" y="2437920"/>
            <a:ext cx="1753200" cy="1296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7" name=""/>
          <p:cNvCxnSpPr>
            <a:stCxn id="1289" idx="4"/>
            <a:endCxn id="1318" idx="0"/>
          </p:cNvCxnSpPr>
          <p:nvPr/>
        </p:nvCxnSpPr>
        <p:spPr>
          <a:xfrm>
            <a:off x="456840" y="4267080"/>
            <a:ext cx="1067400" cy="1533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9" name=""/>
          <p:cNvCxnSpPr>
            <a:stCxn id="1281" idx="4"/>
            <a:endCxn id="1320" idx="0"/>
          </p:cNvCxnSpPr>
          <p:nvPr/>
        </p:nvCxnSpPr>
        <p:spPr>
          <a:xfrm>
            <a:off x="1409760" y="4114440"/>
            <a:ext cx="876960" cy="305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21" name=""/>
          <p:cNvCxnSpPr>
            <a:stCxn id="1282" idx="4"/>
            <a:endCxn id="1322" idx="0"/>
          </p:cNvCxnSpPr>
          <p:nvPr/>
        </p:nvCxnSpPr>
        <p:spPr>
          <a:xfrm>
            <a:off x="2438280" y="4267080"/>
            <a:ext cx="610560" cy="15336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23" name=""/>
          <p:cNvCxnSpPr>
            <a:stCxn id="1283" idx="4"/>
            <a:endCxn id="1324" idx="0"/>
          </p:cNvCxnSpPr>
          <p:nvPr/>
        </p:nvCxnSpPr>
        <p:spPr>
          <a:xfrm>
            <a:off x="3352680" y="4114440"/>
            <a:ext cx="457920" cy="3056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25" name=""/>
          <p:cNvCxnSpPr>
            <a:stCxn id="1288" idx="4"/>
            <a:endCxn id="1326" idx="0"/>
          </p:cNvCxnSpPr>
          <p:nvPr/>
        </p:nvCxnSpPr>
        <p:spPr>
          <a:xfrm>
            <a:off x="4266720" y="4343400"/>
            <a:ext cx="30564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27" name=""/>
          <p:cNvSpPr/>
          <p:nvPr/>
        </p:nvSpPr>
        <p:spPr>
          <a:xfrm>
            <a:off x="4572000" y="2971800"/>
            <a:ext cx="83808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 Mod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8" name=""/>
          <p:cNvCxnSpPr>
            <a:stCxn id="1263" idx="0"/>
            <a:endCxn id="1327" idx="3"/>
          </p:cNvCxnSpPr>
          <p:nvPr/>
        </p:nvCxnSpPr>
        <p:spPr>
          <a:xfrm flipV="1">
            <a:off x="3695760" y="3166560"/>
            <a:ext cx="999000" cy="262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29" name=""/>
          <p:cNvCxnSpPr>
            <a:stCxn id="1246" idx="4"/>
            <a:endCxn id="1330" idx="1"/>
          </p:cNvCxnSpPr>
          <p:nvPr/>
        </p:nvCxnSpPr>
        <p:spPr>
          <a:xfrm>
            <a:off x="2095560" y="3352680"/>
            <a:ext cx="2697480" cy="426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1" name=""/>
          <p:cNvCxnSpPr>
            <a:stCxn id="1268" idx="2"/>
            <a:endCxn id="1332" idx="1"/>
          </p:cNvCxnSpPr>
          <p:nvPr/>
        </p:nvCxnSpPr>
        <p:spPr>
          <a:xfrm>
            <a:off x="3772080" y="2692080"/>
            <a:ext cx="530640" cy="69444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33" name=""/>
          <p:cNvCxnSpPr>
            <a:stCxn id="1332" idx="3"/>
            <a:endCxn id="1322" idx="2"/>
          </p:cNvCxnSpPr>
          <p:nvPr/>
        </p:nvCxnSpPr>
        <p:spPr>
          <a:xfrm flipH="1">
            <a:off x="3047400" y="3548160"/>
            <a:ext cx="1254600" cy="110088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34" name=""/>
          <p:cNvCxnSpPr>
            <a:stCxn id="1246" idx="4"/>
            <a:endCxn id="1289" idx="7"/>
          </p:cNvCxnSpPr>
          <p:nvPr/>
        </p:nvCxnSpPr>
        <p:spPr>
          <a:xfrm flipH="1">
            <a:off x="780480" y="3352680"/>
            <a:ext cx="1315080" cy="58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8" name=""/>
          <p:cNvSpPr/>
          <p:nvPr/>
        </p:nvSpPr>
        <p:spPr>
          <a:xfrm>
            <a:off x="3733920" y="3962520"/>
            <a:ext cx="10666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 organ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5" name=""/>
          <p:cNvCxnSpPr>
            <a:stCxn id="1276" idx="2"/>
            <a:endCxn id="1288" idx="0"/>
          </p:cNvCxnSpPr>
          <p:nvPr/>
        </p:nvCxnSpPr>
        <p:spPr>
          <a:xfrm>
            <a:off x="1866600" y="2438280"/>
            <a:ext cx="2400840" cy="1524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36" name=""/>
          <p:cNvSpPr/>
          <p:nvPr/>
        </p:nvSpPr>
        <p:spPr>
          <a:xfrm>
            <a:off x="67816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848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8077320" y="990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0160" y="5105520"/>
            <a:ext cx="3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k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03480" y="5334120"/>
            <a:ext cx="6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01028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23888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69608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46748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924680" y="563868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010280" y="6095880"/>
            <a:ext cx="114300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r remote heav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2004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8862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657600" y="1752480"/>
            <a:ext cx="228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1828800"/>
            <a:ext cx="228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200400" y="2286000"/>
            <a:ext cx="11430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s sa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2" name=""/>
          <p:cNvCxnSpPr>
            <a:stCxn id="1353" idx="7"/>
            <a:endCxn id="1257" idx="2"/>
          </p:cNvCxnSpPr>
          <p:nvPr/>
        </p:nvCxnSpPr>
        <p:spPr>
          <a:xfrm flipH="1" flipV="1">
            <a:off x="5371920" y="2692080"/>
            <a:ext cx="3170880" cy="13039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54" name=""/>
          <p:cNvSpPr/>
          <p:nvPr/>
        </p:nvSpPr>
        <p:spPr>
          <a:xfrm>
            <a:off x="5029200" y="3352680"/>
            <a:ext cx="76212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s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stCxn id="1246" idx="4"/>
            <a:endCxn id="1354" idx="2"/>
          </p:cNvCxnSpPr>
          <p:nvPr/>
        </p:nvCxnSpPr>
        <p:spPr>
          <a:xfrm>
            <a:off x="2095200" y="3352680"/>
            <a:ext cx="29343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stCxn id="1354" idx="0"/>
            <a:endCxn id="1268" idx="2"/>
          </p:cNvCxnSpPr>
          <p:nvPr/>
        </p:nvCxnSpPr>
        <p:spPr>
          <a:xfrm flipH="1" flipV="1">
            <a:off x="3771720" y="2692440"/>
            <a:ext cx="1638720" cy="66060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354" idx="4"/>
            <a:endCxn id="1280" idx="0"/>
          </p:cNvCxnSpPr>
          <p:nvPr/>
        </p:nvCxnSpPr>
        <p:spPr>
          <a:xfrm>
            <a:off x="5409720" y="3581280"/>
            <a:ext cx="724680" cy="1982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556272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79132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24852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019920" y="5562720"/>
            <a:ext cx="22860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477120" y="5638680"/>
            <a:ext cx="22860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562720" y="6095880"/>
            <a:ext cx="11430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e ex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K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3" name=""/>
          <p:cNvCxnSpPr>
            <a:stCxn id="1342" idx="0"/>
            <a:endCxn id="1341" idx="0"/>
          </p:cNvCxnSpPr>
          <p:nvPr/>
        </p:nvCxnSpPr>
        <p:spPr>
          <a:xfrm rot="5400000">
            <a:off x="723744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stCxn id="1344" idx="0"/>
            <a:endCxn id="1342" idx="0"/>
          </p:cNvCxnSpPr>
          <p:nvPr/>
        </p:nvCxnSpPr>
        <p:spPr>
          <a:xfrm rot="5400000">
            <a:off x="746604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stCxn id="1343" idx="0"/>
            <a:endCxn id="1344" idx="0"/>
          </p:cNvCxnSpPr>
          <p:nvPr/>
        </p:nvCxnSpPr>
        <p:spPr>
          <a:xfrm rot="5400000">
            <a:off x="7694640" y="5448960"/>
            <a:ext cx="2160" cy="229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280" idx="0"/>
            <a:endCxn id="1332" idx="4"/>
          </p:cNvCxnSpPr>
          <p:nvPr/>
        </p:nvCxnSpPr>
        <p:spPr>
          <a:xfrm flipH="1" flipV="1">
            <a:off x="4571280" y="3580920"/>
            <a:ext cx="1562760" cy="1982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32" name=""/>
          <p:cNvSpPr/>
          <p:nvPr/>
        </p:nvSpPr>
        <p:spPr>
          <a:xfrm>
            <a:off x="4191120" y="3352680"/>
            <a:ext cx="76176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stCxn id="1327" idx="4"/>
            <a:endCxn id="1332" idx="0"/>
          </p:cNvCxnSpPr>
          <p:nvPr/>
        </p:nvCxnSpPr>
        <p:spPr>
          <a:xfrm flipH="1">
            <a:off x="4571640" y="3200040"/>
            <a:ext cx="419760" cy="153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8" name=""/>
          <p:cNvCxnSpPr>
            <a:stCxn id="1327" idx="2"/>
            <a:endCxn id="1246" idx="7"/>
          </p:cNvCxnSpPr>
          <p:nvPr/>
        </p:nvCxnSpPr>
        <p:spPr>
          <a:xfrm flipH="1" flipV="1">
            <a:off x="2660040" y="3026880"/>
            <a:ext cx="1911960" cy="59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3657600" y="3886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43600" y="3429000"/>
            <a:ext cx="99072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 open prep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0" name=""/>
          <p:cNvCxnSpPr>
            <a:stCxn id="1264" idx="4"/>
            <a:endCxn id="1269" idx="7"/>
          </p:cNvCxnSpPr>
          <p:nvPr/>
        </p:nvCxnSpPr>
        <p:spPr>
          <a:xfrm flipH="1">
            <a:off x="6789240" y="3276720"/>
            <a:ext cx="56448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269" idx="4"/>
            <a:endCxn id="1372" idx="0"/>
          </p:cNvCxnSpPr>
          <p:nvPr/>
        </p:nvCxnSpPr>
        <p:spPr>
          <a:xfrm>
            <a:off x="6438960" y="3657240"/>
            <a:ext cx="381600" cy="5151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73" name=""/>
          <p:cNvSpPr/>
          <p:nvPr/>
        </p:nvSpPr>
        <p:spPr>
          <a:xfrm>
            <a:off x="62485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4771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9343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4191120"/>
            <a:ext cx="2286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162920" y="4267080"/>
            <a:ext cx="2286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248520" y="4724280"/>
            <a:ext cx="1143000" cy="39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p fat LKMS 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200400" y="1752480"/>
            <a:ext cx="11430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00600" y="1752480"/>
            <a:ext cx="11430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2720" y="5562720"/>
            <a:ext cx="11430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010280" y="5562720"/>
            <a:ext cx="114300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48520" y="4191120"/>
            <a:ext cx="11430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81680" y="3657600"/>
            <a:ext cx="99072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 prep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696080" y="3962520"/>
            <a:ext cx="99072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 activ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4" name=""/>
          <p:cNvCxnSpPr>
            <a:stCxn id="1264" idx="4"/>
            <a:endCxn id="1383" idx="0"/>
          </p:cNvCxnSpPr>
          <p:nvPr/>
        </p:nvCxnSpPr>
        <p:spPr>
          <a:xfrm flipH="1">
            <a:off x="7277040" y="3276720"/>
            <a:ext cx="766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5" name=""/>
          <p:cNvCxnSpPr>
            <a:stCxn id="1264" idx="4"/>
            <a:endCxn id="1353" idx="1"/>
          </p:cNvCxnSpPr>
          <p:nvPr/>
        </p:nvCxnSpPr>
        <p:spPr>
          <a:xfrm>
            <a:off x="7353360" y="3276360"/>
            <a:ext cx="48816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6" name=""/>
          <p:cNvCxnSpPr>
            <a:stCxn id="1372" idx="0"/>
            <a:endCxn id="1383" idx="4"/>
          </p:cNvCxnSpPr>
          <p:nvPr/>
        </p:nvCxnSpPr>
        <p:spPr>
          <a:xfrm flipV="1">
            <a:off x="6819840" y="3885840"/>
            <a:ext cx="457920" cy="286560"/>
          </a:xfrm>
          <a:prstGeom prst="straightConnector1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7" name=""/>
          <p:cNvCxnSpPr>
            <a:stCxn id="1372" idx="0"/>
            <a:endCxn id="1353" idx="2"/>
          </p:cNvCxnSpPr>
          <p:nvPr/>
        </p:nvCxnSpPr>
        <p:spPr>
          <a:xfrm flipV="1">
            <a:off x="6819840" y="4075920"/>
            <a:ext cx="876960" cy="961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88" name=""/>
          <p:cNvCxnSpPr>
            <a:stCxn id="1353" idx="5"/>
            <a:endCxn id="1382" idx="0"/>
          </p:cNvCxnSpPr>
          <p:nvPr/>
        </p:nvCxnSpPr>
        <p:spPr>
          <a:xfrm flipH="1">
            <a:off x="7581600" y="4157640"/>
            <a:ext cx="961200" cy="1386720"/>
          </a:xfrm>
          <a:prstGeom prst="straightConnector1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89" name=""/>
          <p:cNvSpPr/>
          <p:nvPr/>
        </p:nvSpPr>
        <p:spPr>
          <a:xfrm>
            <a:off x="8533800" y="5867280"/>
            <a:ext cx="31932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k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369280" y="6324480"/>
            <a:ext cx="6238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1" name=""/>
          <p:cNvCxnSpPr>
            <a:stCxn id="1346" idx="3"/>
            <a:endCxn id="1389" idx="1"/>
          </p:cNvCxnSpPr>
          <p:nvPr/>
        </p:nvCxnSpPr>
        <p:spPr>
          <a:xfrm flipV="1">
            <a:off x="8152920" y="5989320"/>
            <a:ext cx="38196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2" name=""/>
          <p:cNvCxnSpPr>
            <a:stCxn id="1346" idx="3"/>
            <a:endCxn id="1390" idx="1"/>
          </p:cNvCxnSpPr>
          <p:nvPr/>
        </p:nvCxnSpPr>
        <p:spPr>
          <a:xfrm>
            <a:off x="8153280" y="6299280"/>
            <a:ext cx="2181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3" name=""/>
          <p:cNvSpPr/>
          <p:nvPr/>
        </p:nvSpPr>
        <p:spPr>
          <a:xfrm>
            <a:off x="746748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52880" y="57913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391520" y="5029200"/>
            <a:ext cx="1447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ivered LK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76520" y="914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876920" y="54864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00800" y="5410080"/>
            <a:ext cx="380880" cy="304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848720" y="5334120"/>
            <a:ext cx="38088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086600" y="4114800"/>
            <a:ext cx="380880" cy="30492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638680" y="16765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038480" y="1676520"/>
            <a:ext cx="381240" cy="3045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66680" y="4648320"/>
            <a:ext cx="4038840" cy="22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structure decl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66680" y="6477120"/>
            <a:ext cx="4038840" cy="22860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global aggregate manipul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177280" y="4876920"/>
            <a:ext cx="100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KMS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62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91404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143000" y="441972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05120" y="441972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666880" y="441972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429000" y="441972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191120" y="441972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 p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648320" y="3733920"/>
            <a:ext cx="9903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 Note, trac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ceiv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6320" y="2895480"/>
            <a:ext cx="685800" cy="533520"/>
          </a:xfrm>
          <a:prstGeom prst="hexagon">
            <a:avLst>
              <a:gd name="adj" fmla="val 32136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ngine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04920" y="3505320"/>
            <a:ext cx="6858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0" name=""/>
          <p:cNvCxnSpPr>
            <a:stCxn id="1408" idx="2"/>
            <a:endCxn id="1409" idx="0"/>
          </p:cNvCxnSpPr>
          <p:nvPr/>
        </p:nvCxnSpPr>
        <p:spPr>
          <a:xfrm>
            <a:off x="418680" y="3429000"/>
            <a:ext cx="229320" cy="766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1" name=""/>
          <p:cNvCxnSpPr>
            <a:stCxn id="1409" idx="7"/>
            <a:endCxn id="1246" idx="3"/>
          </p:cNvCxnSpPr>
          <p:nvPr/>
        </p:nvCxnSpPr>
        <p:spPr>
          <a:xfrm flipV="1">
            <a:off x="890280" y="3296880"/>
            <a:ext cx="64044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</cp:lastModifiedBy>
  <dcterms:modified xsi:type="dcterms:W3CDTF">2004-10-20T16:24:47Z</dcterms:modified>
  <cp:revision>424</cp:revision>
  <dc:subject/>
  <dc:title>PowerPoint Presentation</dc:title>
</cp:coreProperties>
</file>