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0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50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50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a50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a50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a50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09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50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50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a50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a50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a50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a50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a50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S conceptual framework</a:t>
            </a:r>
            <a:endParaRPr b="0" lang="en-US" sz="4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040" y="1241280"/>
            <a:ext cx="80773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TELOS behavior and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use: services casc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- actor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- kernel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use: aggregation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- aggregation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use: facilitation cas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demonstration : an integrative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- demonstration ch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:   Cascade genesis: the learning facilitation spi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:   Conclusion: TELO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3640" y="6031080"/>
            <a:ext cx="343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an Ro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52280" y="2743200"/>
            <a:ext cx="8686800" cy="243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LOS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2120" y="17524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57200" y="1676520"/>
            <a:ext cx="7391520" cy="1752480"/>
            <a:chOff x="457200" y="1676520"/>
            <a:chExt cx="7391520" cy="1752480"/>
          </a:xfrm>
        </p:grpSpPr>
        <p:sp>
          <p:nvSpPr>
            <p:cNvPr id="879" name=""/>
            <p:cNvSpPr/>
            <p:nvPr/>
          </p:nvSpPr>
          <p:spPr>
            <a:xfrm>
              <a:off x="457200" y="1676520"/>
              <a:ext cx="7391520" cy="1752480"/>
            </a:xfrm>
            <a:prstGeom prst="rect">
              <a:avLst/>
            </a:prstGeom>
            <a:solidFill>
              <a:srgbClr val="00ff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19920" y="2286000"/>
              <a:ext cx="152388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43400" y="2286000"/>
              <a:ext cx="152388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90920" y="2286000"/>
              <a:ext cx="1523880" cy="99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5800" y="1752480"/>
              <a:ext cx="1752480" cy="152424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120" y="1981080"/>
              <a:ext cx="30456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66680" y="1981080"/>
              <a:ext cx="30492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71600" y="1981080"/>
              <a:ext cx="30492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76520" y="1981080"/>
              <a:ext cx="30456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90920" y="1905120"/>
              <a:ext cx="495288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 TELOS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68680" y="2362320"/>
              <a:ext cx="106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LKMS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97840" y="236232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LKMA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2920" y="2362320"/>
              <a:ext cx="102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LKSP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15000" y="167652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 TELOS 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1080" y="1981080"/>
              <a:ext cx="30492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2120" y="2971800"/>
              <a:ext cx="152388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Core systems 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2120" y="1752480"/>
              <a:ext cx="160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re libr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52280" y="380880"/>
            <a:ext cx="8686800" cy="1504800"/>
            <a:chOff x="152280" y="380880"/>
            <a:chExt cx="8686800" cy="1504800"/>
          </a:xfrm>
        </p:grpSpPr>
        <p:cxnSp>
          <p:nvCxnSpPr>
            <p:cNvPr id="897" name=""/>
            <p:cNvCxnSpPr>
              <a:endCxn id="898" idx="4"/>
            </p:cNvCxnSpPr>
            <p:nvPr/>
          </p:nvCxnSpPr>
          <p:spPr>
            <a:xfrm flipH="1" flipV="1">
              <a:off x="3200040" y="837720"/>
              <a:ext cx="1867680" cy="1048320"/>
            </a:xfrm>
            <a:prstGeom prst="straightConnector1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</p:cxnSp>
        <p:cxnSp>
          <p:nvCxnSpPr>
            <p:cNvPr id="899" name=""/>
            <p:cNvCxnSpPr>
              <a:endCxn id="900" idx="4"/>
            </p:cNvCxnSpPr>
            <p:nvPr/>
          </p:nvCxnSpPr>
          <p:spPr>
            <a:xfrm flipV="1">
              <a:off x="5067360" y="990000"/>
              <a:ext cx="1410480" cy="896040"/>
            </a:xfrm>
            <a:prstGeom prst="straightConnector1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</p:cxnSp>
        <p:sp>
          <p:nvSpPr>
            <p:cNvPr id="901" name=""/>
            <p:cNvSpPr/>
            <p:nvPr/>
          </p:nvSpPr>
          <p:spPr>
            <a:xfrm>
              <a:off x="152280" y="380880"/>
              <a:ext cx="8686800" cy="1143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81280" y="914400"/>
              <a:ext cx="76212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 Exter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66880" y="457200"/>
              <a:ext cx="1067040" cy="38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 Asks/delive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2320" y="91440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4" name=""/>
            <p:cNvCxnSpPr>
              <a:stCxn id="898" idx="5"/>
              <a:endCxn id="902" idx="0"/>
            </p:cNvCxnSpPr>
            <p:nvPr/>
          </p:nvCxnSpPr>
          <p:spPr>
            <a:xfrm>
              <a:off x="3578040" y="782640"/>
              <a:ext cx="384840" cy="1324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05" name=""/>
            <p:cNvCxnSpPr>
              <a:stCxn id="903" idx="3"/>
              <a:endCxn id="898" idx="4"/>
            </p:cNvCxnSpPr>
            <p:nvPr/>
          </p:nvCxnSpPr>
          <p:spPr>
            <a:xfrm flipV="1">
              <a:off x="2895120" y="837360"/>
              <a:ext cx="305640" cy="3056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06" name=""/>
            <p:cNvSpPr/>
            <p:nvPr/>
          </p:nvSpPr>
          <p:spPr>
            <a:xfrm>
              <a:off x="4876920" y="914400"/>
              <a:ext cx="83808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 TE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rvice 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02560" y="92556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8" name=""/>
            <p:cNvCxnSpPr>
              <a:stCxn id="900" idx="3"/>
              <a:endCxn id="906" idx="3"/>
            </p:cNvCxnSpPr>
            <p:nvPr/>
          </p:nvCxnSpPr>
          <p:spPr>
            <a:xfrm flipH="1">
              <a:off x="5714280" y="923400"/>
              <a:ext cx="384840" cy="21996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09" name=""/>
            <p:cNvCxnSpPr>
              <a:stCxn id="907" idx="1"/>
              <a:endCxn id="900" idx="4"/>
            </p:cNvCxnSpPr>
            <p:nvPr/>
          </p:nvCxnSpPr>
          <p:spPr>
            <a:xfrm flipH="1" flipV="1">
              <a:off x="6476760" y="990360"/>
              <a:ext cx="326160" cy="16416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00" name=""/>
            <p:cNvSpPr/>
            <p:nvPr/>
          </p:nvSpPr>
          <p:spPr>
            <a:xfrm>
              <a:off x="5943600" y="533520"/>
              <a:ext cx="106668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 Ask/deliver 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3440" y="762120"/>
              <a:ext cx="159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Distribution 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28600" y="5334120"/>
            <a:ext cx="8686800" cy="1371600"/>
            <a:chOff x="228600" y="5334120"/>
            <a:chExt cx="8686800" cy="1371600"/>
          </a:xfrm>
        </p:grpSpPr>
        <p:sp>
          <p:nvSpPr>
            <p:cNvPr id="912" name=""/>
            <p:cNvSpPr/>
            <p:nvPr/>
          </p:nvSpPr>
          <p:spPr>
            <a:xfrm>
              <a:off x="228600" y="5334120"/>
              <a:ext cx="8686800" cy="13716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5715000"/>
              <a:ext cx="6858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 Com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81080" y="5715000"/>
              <a:ext cx="533520" cy="457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86200" y="5715000"/>
              <a:ext cx="76212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 Prep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52680" y="5715000"/>
              <a:ext cx="4572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10080" y="5715000"/>
              <a:ext cx="685800" cy="457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plo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24280" y="5715000"/>
              <a:ext cx="609840" cy="457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172200" y="5715000"/>
              <a:ext cx="53352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43000" y="5715000"/>
              <a:ext cx="762120" cy="457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 Prepa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ggreg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9480" y="5715000"/>
              <a:ext cx="457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921" idx="3"/>
              <a:endCxn id="920" idx="2"/>
            </p:cNvCxnSpPr>
            <p:nvPr/>
          </p:nvCxnSpPr>
          <p:spPr>
            <a:xfrm>
              <a:off x="106668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20" idx="6"/>
              <a:endCxn id="914" idx="1"/>
            </p:cNvCxnSpPr>
            <p:nvPr/>
          </p:nvCxnSpPr>
          <p:spPr>
            <a:xfrm>
              <a:off x="190476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4" idx="3"/>
              <a:endCxn id="913" idx="2"/>
            </p:cNvCxnSpPr>
            <p:nvPr/>
          </p:nvCxnSpPr>
          <p:spPr>
            <a:xfrm>
              <a:off x="251460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3" idx="6"/>
              <a:endCxn id="916" idx="1"/>
            </p:cNvCxnSpPr>
            <p:nvPr/>
          </p:nvCxnSpPr>
          <p:spPr>
            <a:xfrm>
              <a:off x="327636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16" idx="3"/>
              <a:endCxn id="915" idx="2"/>
            </p:cNvCxnSpPr>
            <p:nvPr/>
          </p:nvCxnSpPr>
          <p:spPr>
            <a:xfrm>
              <a:off x="380988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15" idx="6"/>
              <a:endCxn id="918" idx="1"/>
            </p:cNvCxnSpPr>
            <p:nvPr/>
          </p:nvCxnSpPr>
          <p:spPr>
            <a:xfrm>
              <a:off x="464796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8" idx="3"/>
              <a:endCxn id="917" idx="2"/>
            </p:cNvCxnSpPr>
            <p:nvPr/>
          </p:nvCxnSpPr>
          <p:spPr>
            <a:xfrm>
              <a:off x="533376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9" name=""/>
            <p:cNvCxnSpPr>
              <a:stCxn id="917" idx="6"/>
              <a:endCxn id="919" idx="1"/>
            </p:cNvCxnSpPr>
            <p:nvPr/>
          </p:nvCxnSpPr>
          <p:spPr>
            <a:xfrm>
              <a:off x="609588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0" name=""/>
            <p:cNvSpPr/>
            <p:nvPr/>
          </p:nvSpPr>
          <p:spPr>
            <a:xfrm>
              <a:off x="6934320" y="5715000"/>
              <a:ext cx="76176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aly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72400" y="5715000"/>
              <a:ext cx="60948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po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19" idx="3"/>
              <a:endCxn id="930" idx="2"/>
            </p:cNvCxnSpPr>
            <p:nvPr/>
          </p:nvCxnSpPr>
          <p:spPr>
            <a:xfrm>
              <a:off x="6705360" y="594324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30" idx="6"/>
              <a:endCxn id="931" idx="1"/>
            </p:cNvCxnSpPr>
            <p:nvPr/>
          </p:nvCxnSpPr>
          <p:spPr>
            <a:xfrm>
              <a:off x="7696080" y="5943240"/>
              <a:ext cx="7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4" name=""/>
            <p:cNvSpPr/>
            <p:nvPr/>
          </p:nvSpPr>
          <p:spPr>
            <a:xfrm>
              <a:off x="5715000" y="6248520"/>
              <a:ext cx="6858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plo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5" name=""/>
            <p:cNvCxnSpPr>
              <a:stCxn id="931" idx="2"/>
              <a:endCxn id="934" idx="6"/>
            </p:cNvCxnSpPr>
            <p:nvPr/>
          </p:nvCxnSpPr>
          <p:spPr>
            <a:xfrm flipH="1">
              <a:off x="6400080" y="6171840"/>
              <a:ext cx="16772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6" name=""/>
            <p:cNvCxnSpPr>
              <a:stCxn id="934" idx="2"/>
              <a:endCxn id="917" idx="4"/>
            </p:cNvCxnSpPr>
            <p:nvPr/>
          </p:nvCxnSpPr>
          <p:spPr>
            <a:xfrm flipV="1">
              <a:off x="5715000" y="6171480"/>
              <a:ext cx="38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7" name=""/>
            <p:cNvCxnSpPr>
              <a:stCxn id="934" idx="2"/>
              <a:endCxn id="913" idx="4"/>
            </p:cNvCxnSpPr>
            <p:nvPr/>
          </p:nvCxnSpPr>
          <p:spPr>
            <a:xfrm flipH="1" flipV="1">
              <a:off x="2933280" y="6171480"/>
              <a:ext cx="2782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8" name=""/>
            <p:cNvSpPr/>
            <p:nvPr/>
          </p:nvSpPr>
          <p:spPr>
            <a:xfrm>
              <a:off x="766800" y="6248520"/>
              <a:ext cx="15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 Aggregation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5800" y="2666880"/>
            <a:ext cx="8229600" cy="2667240"/>
            <a:chOff x="685800" y="2666880"/>
            <a:chExt cx="8229600" cy="2667240"/>
          </a:xfrm>
        </p:grpSpPr>
        <p:sp>
          <p:nvSpPr>
            <p:cNvPr id="940" name=""/>
            <p:cNvSpPr/>
            <p:nvPr/>
          </p:nvSpPr>
          <p:spPr>
            <a:xfrm>
              <a:off x="1981080" y="4191120"/>
              <a:ext cx="990720" cy="380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 Use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pose 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57600" y="4191120"/>
              <a:ext cx="1066680" cy="380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 Use 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pose 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638680" y="4191120"/>
              <a:ext cx="1143000" cy="38088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 Use 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Compose LKS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4191120"/>
              <a:ext cx="990360" cy="380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xtend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5800" y="358128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ngine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3880" y="358128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chnolog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00400" y="358128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sig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05720" y="358128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acilit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57800" y="358128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ear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9" name=""/>
            <p:cNvCxnSpPr>
              <a:endCxn id="940" idx="0"/>
            </p:cNvCxnSpPr>
            <p:nvPr/>
          </p:nvCxnSpPr>
          <p:spPr>
            <a:xfrm>
              <a:off x="1562040" y="3308400"/>
              <a:ext cx="915120" cy="8834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0" name=""/>
            <p:cNvCxnSpPr>
              <a:stCxn id="940" idx="6"/>
              <a:endCxn id="951" idx="2"/>
            </p:cNvCxnSpPr>
            <p:nvPr/>
          </p:nvCxnSpPr>
          <p:spPr>
            <a:xfrm flipV="1">
              <a:off x="2971440" y="3199680"/>
              <a:ext cx="343800" cy="11818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2" name=""/>
            <p:cNvCxnSpPr>
              <a:stCxn id="951" idx="2"/>
              <a:endCxn id="941" idx="0"/>
            </p:cNvCxnSpPr>
            <p:nvPr/>
          </p:nvCxnSpPr>
          <p:spPr>
            <a:xfrm>
              <a:off x="3314880" y="3200400"/>
              <a:ext cx="876960" cy="9914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41" idx="7"/>
              <a:endCxn id="954" idx="2"/>
            </p:cNvCxnSpPr>
            <p:nvPr/>
          </p:nvCxnSpPr>
          <p:spPr>
            <a:xfrm flipV="1">
              <a:off x="4568400" y="3200040"/>
              <a:ext cx="499320" cy="10468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3" idx="7"/>
            </p:cNvCxnSpPr>
            <p:nvPr/>
          </p:nvCxnSpPr>
          <p:spPr>
            <a:xfrm flipH="1" flipV="1">
              <a:off x="1561680" y="3308040"/>
              <a:ext cx="46800" cy="9388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54" idx="2"/>
              <a:endCxn id="942" idx="0"/>
            </p:cNvCxnSpPr>
            <p:nvPr/>
          </p:nvCxnSpPr>
          <p:spPr>
            <a:xfrm>
              <a:off x="5067000" y="3200400"/>
              <a:ext cx="1143720" cy="9914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7" name=""/>
            <p:cNvCxnSpPr>
              <a:stCxn id="942" idx="7"/>
              <a:endCxn id="958" idx="2"/>
            </p:cNvCxnSpPr>
            <p:nvPr/>
          </p:nvCxnSpPr>
          <p:spPr>
            <a:xfrm flipV="1">
              <a:off x="6615000" y="3225240"/>
              <a:ext cx="129240" cy="102132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40" idx="6"/>
              <a:endCxn id="960" idx="0"/>
            </p:cNvCxnSpPr>
            <p:nvPr/>
          </p:nvCxnSpPr>
          <p:spPr>
            <a:xfrm>
              <a:off x="2971440" y="4381560"/>
              <a:ext cx="343800" cy="3434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61" name=""/>
            <p:cNvCxnSpPr>
              <a:stCxn id="941" idx="5"/>
              <a:endCxn id="962" idx="0"/>
            </p:cNvCxnSpPr>
            <p:nvPr/>
          </p:nvCxnSpPr>
          <p:spPr>
            <a:xfrm>
              <a:off x="4568760" y="4516200"/>
              <a:ext cx="651600" cy="2084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42" idx="5"/>
              <a:endCxn id="964" idx="0"/>
            </p:cNvCxnSpPr>
            <p:nvPr/>
          </p:nvCxnSpPr>
          <p:spPr>
            <a:xfrm>
              <a:off x="6614640" y="4516560"/>
              <a:ext cx="281880" cy="1324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65" name=""/>
            <p:cNvCxnSpPr>
              <a:stCxn id="960" idx="0"/>
              <a:endCxn id="941" idx="4"/>
            </p:cNvCxnSpPr>
            <p:nvPr/>
          </p:nvCxnSpPr>
          <p:spPr>
            <a:xfrm flipV="1">
              <a:off x="3314880" y="4571280"/>
              <a:ext cx="876960" cy="1530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966" name=""/>
            <p:cNvCxnSpPr>
              <a:stCxn id="962" idx="0"/>
              <a:endCxn id="942" idx="4"/>
            </p:cNvCxnSpPr>
            <p:nvPr/>
          </p:nvCxnSpPr>
          <p:spPr>
            <a:xfrm flipV="1">
              <a:off x="5219640" y="4571280"/>
              <a:ext cx="991440" cy="1530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960" name=""/>
            <p:cNvSpPr/>
            <p:nvPr/>
          </p:nvSpPr>
          <p:spPr>
            <a:xfrm>
              <a:off x="2743200" y="4724280"/>
              <a:ext cx="1143000" cy="254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 Delivered 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48320" y="4724280"/>
              <a:ext cx="1143000" cy="24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 Delivered 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4480" y="4648320"/>
              <a:ext cx="1143000" cy="24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 delivered LK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2971800"/>
              <a:ext cx="11430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 included 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95680" y="2971800"/>
              <a:ext cx="11430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 included 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72200" y="2971800"/>
              <a:ext cx="1143000" cy="24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 included LK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7" name=""/>
            <p:cNvCxnSpPr>
              <a:stCxn id="945" idx="2"/>
              <a:endCxn id="940" idx="1"/>
            </p:cNvCxnSpPr>
            <p:nvPr/>
          </p:nvCxnSpPr>
          <p:spPr>
            <a:xfrm>
              <a:off x="1790280" y="4038480"/>
              <a:ext cx="335880" cy="20880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968" name=""/>
            <p:cNvCxnSpPr>
              <a:stCxn id="946" idx="2"/>
              <a:endCxn id="941" idx="1"/>
            </p:cNvCxnSpPr>
            <p:nvPr/>
          </p:nvCxnSpPr>
          <p:spPr>
            <a:xfrm>
              <a:off x="3466800" y="4038480"/>
              <a:ext cx="346680" cy="20880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969" name=""/>
            <p:cNvCxnSpPr>
              <a:stCxn id="948" idx="2"/>
              <a:endCxn id="942" idx="1"/>
            </p:cNvCxnSpPr>
            <p:nvPr/>
          </p:nvCxnSpPr>
          <p:spPr>
            <a:xfrm>
              <a:off x="5524560" y="4038480"/>
              <a:ext cx="281520" cy="20880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970" name=""/>
            <p:cNvCxnSpPr>
              <a:stCxn id="944" idx="2"/>
              <a:endCxn id="943" idx="0"/>
            </p:cNvCxnSpPr>
            <p:nvPr/>
          </p:nvCxnSpPr>
          <p:spPr>
            <a:xfrm>
              <a:off x="952200" y="4038480"/>
              <a:ext cx="305640" cy="15336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71" name=""/>
            <p:cNvSpPr/>
            <p:nvPr/>
          </p:nvSpPr>
          <p:spPr>
            <a:xfrm>
              <a:off x="7848720" y="358128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43800" y="4191120"/>
              <a:ext cx="838080" cy="380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 Administ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"/>
            <p:cNvCxnSpPr>
              <a:stCxn id="972" idx="2"/>
              <a:endCxn id="958" idx="3"/>
            </p:cNvCxnSpPr>
            <p:nvPr/>
          </p:nvCxnSpPr>
          <p:spPr>
            <a:xfrm flipH="1" flipV="1">
              <a:off x="7314480" y="3098160"/>
              <a:ext cx="229320" cy="12834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4" name=""/>
            <p:cNvCxnSpPr>
              <a:stCxn id="972" idx="2"/>
              <a:endCxn id="954" idx="3"/>
            </p:cNvCxnSpPr>
            <p:nvPr/>
          </p:nvCxnSpPr>
          <p:spPr>
            <a:xfrm flipH="1" flipV="1">
              <a:off x="5638320" y="3085920"/>
              <a:ext cx="1905840" cy="12960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5" name=""/>
            <p:cNvCxnSpPr>
              <a:stCxn id="972" idx="2"/>
              <a:endCxn id="951" idx="3"/>
            </p:cNvCxnSpPr>
            <p:nvPr/>
          </p:nvCxnSpPr>
          <p:spPr>
            <a:xfrm flipH="1" flipV="1">
              <a:off x="3885840" y="3085920"/>
              <a:ext cx="3658320" cy="12960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6" name=""/>
            <p:cNvCxnSpPr>
              <a:stCxn id="971" idx="2"/>
              <a:endCxn id="972" idx="0"/>
            </p:cNvCxnSpPr>
            <p:nvPr/>
          </p:nvCxnSpPr>
          <p:spPr>
            <a:xfrm flipH="1">
              <a:off x="7962480" y="4038480"/>
              <a:ext cx="153360" cy="15336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77" name=""/>
            <p:cNvSpPr/>
            <p:nvPr/>
          </p:nvSpPr>
          <p:spPr>
            <a:xfrm>
              <a:off x="762120" y="2971800"/>
              <a:ext cx="152388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Core systems 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8" name=""/>
            <p:cNvCxnSpPr>
              <a:stCxn id="972" idx="2"/>
              <a:endCxn id="977" idx="3"/>
            </p:cNvCxnSpPr>
            <p:nvPr/>
          </p:nvCxnSpPr>
          <p:spPr>
            <a:xfrm flipH="1" flipV="1">
              <a:off x="2285280" y="3085920"/>
              <a:ext cx="5258520" cy="1296000"/>
            </a:xfrm>
            <a:prstGeom prst="straightConnector1">
              <a:avLst/>
            </a:prstGeom>
            <a:ln w="1908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9" name=""/>
            <p:cNvCxnSpPr>
              <a:stCxn id="947" idx="2"/>
              <a:endCxn id="942" idx="7"/>
            </p:cNvCxnSpPr>
            <p:nvPr/>
          </p:nvCxnSpPr>
          <p:spPr>
            <a:xfrm flipH="1">
              <a:off x="6614280" y="4038480"/>
              <a:ext cx="358200" cy="20880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980" name=""/>
            <p:cNvSpPr/>
            <p:nvPr/>
          </p:nvSpPr>
          <p:spPr>
            <a:xfrm>
              <a:off x="8001000" y="2666880"/>
              <a:ext cx="91440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L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1" name=""/>
            <p:cNvCxnSpPr>
              <a:stCxn id="980" idx="1"/>
              <a:endCxn id="958" idx="3"/>
            </p:cNvCxnSpPr>
            <p:nvPr/>
          </p:nvCxnSpPr>
          <p:spPr>
            <a:xfrm flipH="1">
              <a:off x="7314480" y="2857680"/>
              <a:ext cx="68652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80" idx="1"/>
              <a:endCxn id="964" idx="3"/>
            </p:cNvCxnSpPr>
            <p:nvPr/>
          </p:nvCxnSpPr>
          <p:spPr>
            <a:xfrm flipH="1">
              <a:off x="7467120" y="2857680"/>
              <a:ext cx="534240" cy="191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3" name=""/>
            <p:cNvSpPr/>
            <p:nvPr/>
          </p:nvSpPr>
          <p:spPr>
            <a:xfrm>
              <a:off x="822240" y="4648320"/>
              <a:ext cx="15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 Facilitating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4" name=""/>
            <p:cNvCxnSpPr>
              <a:stCxn id="940" idx="4"/>
            </p:cNvCxnSpPr>
            <p:nvPr/>
          </p:nvCxnSpPr>
          <p:spPr>
            <a:xfrm>
              <a:off x="2476080" y="4571640"/>
              <a:ext cx="20962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5" name=""/>
            <p:cNvCxnSpPr>
              <a:stCxn id="941" idx="4"/>
            </p:cNvCxnSpPr>
            <p:nvPr/>
          </p:nvCxnSpPr>
          <p:spPr>
            <a:xfrm>
              <a:off x="4191120" y="4571640"/>
              <a:ext cx="381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6" name=""/>
            <p:cNvCxnSpPr>
              <a:stCxn id="942" idx="4"/>
            </p:cNvCxnSpPr>
            <p:nvPr/>
          </p:nvCxnSpPr>
          <p:spPr>
            <a:xfrm flipH="1">
              <a:off x="4571280" y="4571640"/>
              <a:ext cx="1639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troduction: TELOS behavior and use</a:t>
            </a:r>
            <a:endParaRPr b="0" lang="en-US" sz="2000" spc="-1" strike="noStrike">
              <a:solidFill>
                <a:srgbClr val="7a5094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914400"/>
            <a:ext cx="1752840" cy="3048120"/>
            <a:chOff x="152280" y="914400"/>
            <a:chExt cx="1752840" cy="3048120"/>
          </a:xfrm>
        </p:grpSpPr>
        <p:sp>
          <p:nvSpPr>
            <p:cNvPr id="83" name=""/>
            <p:cNvSpPr/>
            <p:nvPr/>
          </p:nvSpPr>
          <p:spPr>
            <a:xfrm>
              <a:off x="762120" y="2743200"/>
              <a:ext cx="7617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3505320"/>
              <a:ext cx="7621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91440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43000" y="3505320"/>
              <a:ext cx="7621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35812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9320" y="35812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" y="1294920"/>
            <a:ext cx="1143000" cy="2191320"/>
            <a:chOff x="228600" y="1294920"/>
            <a:chExt cx="1143000" cy="2191320"/>
          </a:xfrm>
        </p:grpSpPr>
        <p:sp>
          <p:nvSpPr>
            <p:cNvPr id="90" name=""/>
            <p:cNvSpPr/>
            <p:nvPr/>
          </p:nvSpPr>
          <p:spPr>
            <a:xfrm>
              <a:off x="914400" y="22096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1676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1" idx="0"/>
            </p:cNvCxnSpPr>
            <p:nvPr/>
          </p:nvCxnSpPr>
          <p:spPr>
            <a:xfrm flipH="1">
              <a:off x="571320" y="1294920"/>
              <a:ext cx="41976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91" idx="5"/>
              <a:endCxn id="90" idx="0"/>
            </p:cNvCxnSpPr>
            <p:nvPr/>
          </p:nvCxnSpPr>
          <p:spPr>
            <a:xfrm>
              <a:off x="813960" y="2001600"/>
              <a:ext cx="329040" cy="208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1" idx="4"/>
            </p:cNvCxnSpPr>
            <p:nvPr/>
          </p:nvCxnSpPr>
          <p:spPr>
            <a:xfrm>
              <a:off x="571320" y="2057400"/>
              <a:ext cx="1911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H="1">
              <a:off x="532800" y="2971440"/>
              <a:ext cx="229320" cy="51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6" name=""/>
          <p:cNvGrpSpPr/>
          <p:nvPr/>
        </p:nvGrpSpPr>
        <p:grpSpPr>
          <a:xfrm>
            <a:off x="990360" y="1294920"/>
            <a:ext cx="1295640" cy="2191320"/>
            <a:chOff x="990360" y="1294920"/>
            <a:chExt cx="1295640" cy="2191320"/>
          </a:xfrm>
        </p:grpSpPr>
        <p:sp>
          <p:nvSpPr>
            <p:cNvPr id="97" name=""/>
            <p:cNvSpPr/>
            <p:nvPr/>
          </p:nvSpPr>
          <p:spPr>
            <a:xfrm>
              <a:off x="1371600" y="1676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"/>
            <p:cNvCxnSpPr>
              <a:endCxn id="97" idx="0"/>
            </p:cNvCxnSpPr>
            <p:nvPr/>
          </p:nvCxnSpPr>
          <p:spPr>
            <a:xfrm>
              <a:off x="990360" y="1294920"/>
              <a:ext cx="7246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>
              <a:off x="1523520" y="2971440"/>
              <a:ext cx="1080" cy="51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7" idx="4"/>
            </p:cNvCxnSpPr>
            <p:nvPr/>
          </p:nvCxnSpPr>
          <p:spPr>
            <a:xfrm flipH="1">
              <a:off x="1523520" y="2057400"/>
              <a:ext cx="1915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1828800" y="22096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97" idx="4"/>
              <a:endCxn id="101" idx="0"/>
            </p:cNvCxnSpPr>
            <p:nvPr/>
          </p:nvCxnSpPr>
          <p:spPr>
            <a:xfrm>
              <a:off x="1714680" y="2057040"/>
              <a:ext cx="3434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860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5994" h="21600">
                <a:moveTo>
                  <a:pt x="179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5994" h="21600">
                <a:moveTo>
                  <a:pt x="15421" y="8224"/>
                </a:moveTo>
                <a:lnTo>
                  <a:pt x="19285" y="8224"/>
                </a:lnTo>
                <a:lnTo>
                  <a:pt x="19285" y="15221"/>
                </a:lnTo>
                <a:lnTo>
                  <a:pt x="20573" y="15221"/>
                </a:lnTo>
                <a:lnTo>
                  <a:pt x="20573" y="16144"/>
                </a:lnTo>
                <a:lnTo>
                  <a:pt x="15421" y="16144"/>
                </a:lnTo>
                <a:lnTo>
                  <a:pt x="15421" y="15221"/>
                </a:lnTo>
                <a:lnTo>
                  <a:pt x="16709" y="15221"/>
                </a:lnTo>
                <a:lnTo>
                  <a:pt x="16709" y="9129"/>
                </a:lnTo>
                <a:lnTo>
                  <a:pt x="15421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114300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5994" h="21600">
                <a:moveTo>
                  <a:pt x="179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5994" h="21600">
                <a:moveTo>
                  <a:pt x="15421" y="8224"/>
                </a:moveTo>
                <a:lnTo>
                  <a:pt x="19285" y="8224"/>
                </a:lnTo>
                <a:lnTo>
                  <a:pt x="19285" y="15221"/>
                </a:lnTo>
                <a:lnTo>
                  <a:pt x="20573" y="15221"/>
                </a:lnTo>
                <a:lnTo>
                  <a:pt x="20573" y="16144"/>
                </a:lnTo>
                <a:lnTo>
                  <a:pt x="15421" y="16144"/>
                </a:lnTo>
                <a:lnTo>
                  <a:pt x="15421" y="15221"/>
                </a:lnTo>
                <a:lnTo>
                  <a:pt x="16709" y="15221"/>
                </a:lnTo>
                <a:lnTo>
                  <a:pt x="16709" y="9129"/>
                </a:lnTo>
                <a:lnTo>
                  <a:pt x="15421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800" y="5335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1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3885480"/>
            <a:ext cx="1295280" cy="1600920"/>
            <a:chOff x="228600" y="3885480"/>
            <a:chExt cx="1295280" cy="1600920"/>
          </a:xfrm>
        </p:grpSpPr>
        <p:sp>
          <p:nvSpPr>
            <p:cNvPr id="107" name=""/>
            <p:cNvSpPr/>
            <p:nvPr/>
          </p:nvSpPr>
          <p:spPr>
            <a:xfrm>
              <a:off x="990720" y="51055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44956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4495680"/>
              <a:ext cx="457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8" idx="0"/>
            </p:cNvCxnSpPr>
            <p:nvPr/>
          </p:nvCxnSpPr>
          <p:spPr>
            <a:xfrm flipH="1" flipV="1">
              <a:off x="456480" y="3885480"/>
              <a:ext cx="7246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8" idx="2"/>
            </p:cNvCxnSpPr>
            <p:nvPr/>
          </p:nvCxnSpPr>
          <p:spPr>
            <a:xfrm flipV="1">
              <a:off x="685440" y="4685760"/>
              <a:ext cx="153000" cy="3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7" idx="0"/>
              <a:endCxn id="108" idx="4"/>
            </p:cNvCxnSpPr>
            <p:nvPr/>
          </p:nvCxnSpPr>
          <p:spPr>
            <a:xfrm flipH="1" flipV="1">
              <a:off x="1180800" y="4876200"/>
              <a:ext cx="388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8" idx="0"/>
              <a:endCxn id="88" idx="2"/>
            </p:cNvCxnSpPr>
            <p:nvPr/>
          </p:nvCxnSpPr>
          <p:spPr>
            <a:xfrm flipV="1">
              <a:off x="1180800" y="3885480"/>
              <a:ext cx="2671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4" name=""/>
          <p:cNvGrpSpPr/>
          <p:nvPr/>
        </p:nvGrpSpPr>
        <p:grpSpPr>
          <a:xfrm>
            <a:off x="2822040" y="457200"/>
            <a:ext cx="2512080" cy="3505320"/>
            <a:chOff x="2822040" y="457200"/>
            <a:chExt cx="2512080" cy="3505320"/>
          </a:xfrm>
        </p:grpSpPr>
        <p:sp>
          <p:nvSpPr>
            <p:cNvPr id="115" name=""/>
            <p:cNvSpPr/>
            <p:nvPr/>
          </p:nvSpPr>
          <p:spPr>
            <a:xfrm>
              <a:off x="3809880" y="3200400"/>
              <a:ext cx="152424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7621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520" y="3352680"/>
              <a:ext cx="129528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34290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4290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2040" y="45720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VEL 2 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819520" y="1142640"/>
            <a:ext cx="2133360" cy="2210400"/>
            <a:chOff x="2819520" y="1142640"/>
            <a:chExt cx="2133360" cy="2210400"/>
          </a:xfrm>
        </p:grpSpPr>
        <p:sp>
          <p:nvSpPr>
            <p:cNvPr id="122" name=""/>
            <p:cNvSpPr/>
            <p:nvPr/>
          </p:nvSpPr>
          <p:spPr>
            <a:xfrm>
              <a:off x="3048120" y="2590920"/>
              <a:ext cx="76176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520" y="14479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33920" y="20574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endCxn id="124" idx="0"/>
            </p:cNvCxnSpPr>
            <p:nvPr/>
          </p:nvCxnSpPr>
          <p:spPr>
            <a:xfrm flipH="1">
              <a:off x="3161520" y="1142640"/>
              <a:ext cx="724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24" idx="5"/>
              <a:endCxn id="123" idx="1"/>
            </p:cNvCxnSpPr>
            <p:nvPr/>
          </p:nvCxnSpPr>
          <p:spPr>
            <a:xfrm>
              <a:off x="3404880" y="1773360"/>
              <a:ext cx="176760" cy="43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4" idx="4"/>
              <a:endCxn id="122" idx="0"/>
            </p:cNvCxnSpPr>
            <p:nvPr/>
          </p:nvCxnSpPr>
          <p:spPr>
            <a:xfrm>
              <a:off x="3161880" y="1828440"/>
              <a:ext cx="2671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0"/>
            </p:cNvCxnSpPr>
            <p:nvPr/>
          </p:nvCxnSpPr>
          <p:spPr>
            <a:xfrm>
              <a:off x="3428640" y="2590920"/>
              <a:ext cx="11818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267080" y="20574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85840" y="1142640"/>
            <a:ext cx="1067040" cy="914400"/>
            <a:chOff x="3885840" y="1142640"/>
            <a:chExt cx="1067040" cy="914400"/>
          </a:xfrm>
        </p:grpSpPr>
        <p:sp>
          <p:nvSpPr>
            <p:cNvPr id="132" name=""/>
            <p:cNvSpPr/>
            <p:nvPr/>
          </p:nvSpPr>
          <p:spPr>
            <a:xfrm>
              <a:off x="4267080" y="14479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endCxn id="132" idx="4"/>
            </p:cNvCxnSpPr>
            <p:nvPr/>
          </p:nvCxnSpPr>
          <p:spPr>
            <a:xfrm flipV="1">
              <a:off x="3962160" y="1828080"/>
              <a:ext cx="6483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endCxn id="132" idx="0"/>
            </p:cNvCxnSpPr>
            <p:nvPr/>
          </p:nvCxnSpPr>
          <p:spPr>
            <a:xfrm>
              <a:off x="3885840" y="1142640"/>
              <a:ext cx="724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endCxn id="132" idx="4"/>
            </p:cNvCxnSpPr>
            <p:nvPr/>
          </p:nvCxnSpPr>
          <p:spPr>
            <a:xfrm flipV="1">
              <a:off x="4495680" y="1828080"/>
              <a:ext cx="1152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2666880" y="3047400"/>
            <a:ext cx="2667240" cy="2210400"/>
            <a:chOff x="2666880" y="3047400"/>
            <a:chExt cx="2667240" cy="2210400"/>
          </a:xfrm>
        </p:grpSpPr>
        <p:sp>
          <p:nvSpPr>
            <p:cNvPr id="137" name=""/>
            <p:cNvSpPr/>
            <p:nvPr/>
          </p:nvSpPr>
          <p:spPr>
            <a:xfrm>
              <a:off x="3657600" y="48769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3581280"/>
              <a:ext cx="6858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41911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6576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3400" y="41911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4800600"/>
              <a:ext cx="457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3" name=""/>
            <p:cNvCxnSpPr>
              <a:stCxn id="139" idx="0"/>
            </p:cNvCxnSpPr>
            <p:nvPr/>
          </p:nvCxnSpPr>
          <p:spPr>
            <a:xfrm flipH="1" flipV="1">
              <a:off x="3428280" y="3047400"/>
              <a:ext cx="34380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endCxn id="140" idx="0"/>
            </p:cNvCxnSpPr>
            <p:nvPr/>
          </p:nvCxnSpPr>
          <p:spPr>
            <a:xfrm flipH="1">
              <a:off x="2971440" y="3047760"/>
              <a:ext cx="4579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9" idx="6"/>
              <a:endCxn id="141" idx="2"/>
            </p:cNvCxnSpPr>
            <p:nvPr/>
          </p:nvCxnSpPr>
          <p:spPr>
            <a:xfrm>
              <a:off x="4114440" y="43812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1" idx="0"/>
            </p:cNvCxnSpPr>
            <p:nvPr/>
          </p:nvCxnSpPr>
          <p:spPr>
            <a:xfrm flipH="1" flipV="1">
              <a:off x="4610160" y="3809160"/>
              <a:ext cx="766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37" idx="0"/>
              <a:endCxn id="139" idx="4"/>
            </p:cNvCxnSpPr>
            <p:nvPr/>
          </p:nvCxnSpPr>
          <p:spPr>
            <a:xfrm flipH="1" flipV="1">
              <a:off x="3771360" y="4571280"/>
              <a:ext cx="1148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37" idx="0"/>
              <a:endCxn id="141" idx="3"/>
            </p:cNvCxnSpPr>
            <p:nvPr/>
          </p:nvCxnSpPr>
          <p:spPr>
            <a:xfrm flipV="1">
              <a:off x="3886200" y="4515840"/>
              <a:ext cx="55800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42" idx="0"/>
              <a:endCxn id="141" idx="4"/>
            </p:cNvCxnSpPr>
            <p:nvPr/>
          </p:nvCxnSpPr>
          <p:spPr>
            <a:xfrm flipH="1" flipV="1">
              <a:off x="4686120" y="4571280"/>
              <a:ext cx="4197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"/>
            <p:cNvSpPr/>
            <p:nvPr/>
          </p:nvSpPr>
          <p:spPr>
            <a:xfrm>
              <a:off x="2666880" y="4191120"/>
              <a:ext cx="6858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42670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endCxn id="151" idx="0"/>
            </p:cNvCxnSpPr>
            <p:nvPr/>
          </p:nvCxnSpPr>
          <p:spPr>
            <a:xfrm flipH="1">
              <a:off x="2971440" y="3048120"/>
              <a:ext cx="457920" cy="12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" name=""/>
          <p:cNvGrpSpPr/>
          <p:nvPr/>
        </p:nvGrpSpPr>
        <p:grpSpPr>
          <a:xfrm>
            <a:off x="4343400" y="5257080"/>
            <a:ext cx="762480" cy="1372320"/>
            <a:chOff x="4343400" y="5257080"/>
            <a:chExt cx="762480" cy="1372320"/>
          </a:xfrm>
        </p:grpSpPr>
        <p:sp>
          <p:nvSpPr>
            <p:cNvPr id="154" name=""/>
            <p:cNvSpPr/>
            <p:nvPr/>
          </p:nvSpPr>
          <p:spPr>
            <a:xfrm>
              <a:off x="4343400" y="55627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62485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5" idx="0"/>
              <a:endCxn id="154" idx="4"/>
            </p:cNvCxnSpPr>
            <p:nvPr/>
          </p:nvCxnSpPr>
          <p:spPr>
            <a:xfrm flipH="1" flipV="1">
              <a:off x="4685760" y="5942880"/>
              <a:ext cx="385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0"/>
            </p:cNvCxnSpPr>
            <p:nvPr/>
          </p:nvCxnSpPr>
          <p:spPr>
            <a:xfrm flipV="1">
              <a:off x="4686480" y="5257080"/>
              <a:ext cx="4197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8" name=""/>
          <p:cNvSpPr/>
          <p:nvPr/>
        </p:nvSpPr>
        <p:spPr>
          <a:xfrm>
            <a:off x="31240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392" h="21600">
                <a:moveTo>
                  <a:pt x="161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392" h="21600">
                <a:moveTo>
                  <a:pt x="13619" y="8224"/>
                </a:moveTo>
                <a:lnTo>
                  <a:pt x="17484" y="8224"/>
                </a:lnTo>
                <a:lnTo>
                  <a:pt x="17484" y="15221"/>
                </a:lnTo>
                <a:lnTo>
                  <a:pt x="18772" y="15221"/>
                </a:lnTo>
                <a:lnTo>
                  <a:pt x="18772" y="16144"/>
                </a:lnTo>
                <a:lnTo>
                  <a:pt x="13619" y="16144"/>
                </a:lnTo>
                <a:lnTo>
                  <a:pt x="13619" y="15221"/>
                </a:lnTo>
                <a:lnTo>
                  <a:pt x="14908" y="15221"/>
                </a:lnTo>
                <a:lnTo>
                  <a:pt x="14908" y="9129"/>
                </a:lnTo>
                <a:lnTo>
                  <a:pt x="13619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943600" y="457200"/>
            <a:ext cx="2819520" cy="6172200"/>
            <a:chOff x="5943600" y="457200"/>
            <a:chExt cx="2819520" cy="6172200"/>
          </a:xfrm>
        </p:grpSpPr>
        <p:sp>
          <p:nvSpPr>
            <p:cNvPr id="160" name=""/>
            <p:cNvSpPr/>
            <p:nvPr/>
          </p:nvSpPr>
          <p:spPr>
            <a:xfrm>
              <a:off x="7086600" y="3200400"/>
              <a:ext cx="1523880" cy="76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4480" y="2590920"/>
              <a:ext cx="76212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0" y="1981080"/>
              <a:ext cx="13716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720" y="48769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43600" y="3581280"/>
              <a:ext cx="6858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7621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4479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14479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41911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20574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3352680"/>
              <a:ext cx="129564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4290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19920" y="36576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41911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05920" y="4800600"/>
              <a:ext cx="45720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55627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86600" y="62485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65" idx="2"/>
              <a:endCxn id="166" idx="0"/>
            </p:cNvCxnSpPr>
            <p:nvPr/>
          </p:nvCxnSpPr>
          <p:spPr>
            <a:xfrm flipH="1">
              <a:off x="6438240" y="1142640"/>
              <a:ext cx="724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66" idx="5"/>
              <a:endCxn id="162" idx="1"/>
            </p:cNvCxnSpPr>
            <p:nvPr/>
          </p:nvCxnSpPr>
          <p:spPr>
            <a:xfrm>
              <a:off x="6681600" y="1773360"/>
              <a:ext cx="176760" cy="43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9" idx="0"/>
              <a:endCxn id="167" idx="4"/>
            </p:cNvCxnSpPr>
            <p:nvPr/>
          </p:nvCxnSpPr>
          <p:spPr>
            <a:xfrm flipV="1">
              <a:off x="7238880" y="1828080"/>
              <a:ext cx="6483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65" idx="2"/>
              <a:endCxn id="167" idx="0"/>
            </p:cNvCxnSpPr>
            <p:nvPr/>
          </p:nvCxnSpPr>
          <p:spPr>
            <a:xfrm>
              <a:off x="7162560" y="1142640"/>
              <a:ext cx="7246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66" idx="4"/>
              <a:endCxn id="161" idx="0"/>
            </p:cNvCxnSpPr>
            <p:nvPr/>
          </p:nvCxnSpPr>
          <p:spPr>
            <a:xfrm>
              <a:off x="6438600" y="1828440"/>
              <a:ext cx="2671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61" idx="0"/>
              <a:endCxn id="170" idx="0"/>
            </p:cNvCxnSpPr>
            <p:nvPr/>
          </p:nvCxnSpPr>
          <p:spPr>
            <a:xfrm>
              <a:off x="6705360" y="2590920"/>
              <a:ext cx="11818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68" idx="0"/>
              <a:endCxn id="161" idx="2"/>
            </p:cNvCxnSpPr>
            <p:nvPr/>
          </p:nvCxnSpPr>
          <p:spPr>
            <a:xfrm flipH="1" flipV="1">
              <a:off x="6705360" y="3047400"/>
              <a:ext cx="34344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61" idx="2"/>
              <a:endCxn id="172" idx="0"/>
            </p:cNvCxnSpPr>
            <p:nvPr/>
          </p:nvCxnSpPr>
          <p:spPr>
            <a:xfrm flipH="1">
              <a:off x="6248160" y="3047760"/>
              <a:ext cx="45792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68" idx="6"/>
              <a:endCxn id="173" idx="2"/>
            </p:cNvCxnSpPr>
            <p:nvPr/>
          </p:nvCxnSpPr>
          <p:spPr>
            <a:xfrm>
              <a:off x="7391160" y="438120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73" idx="0"/>
              <a:endCxn id="170" idx="2"/>
            </p:cNvCxnSpPr>
            <p:nvPr/>
          </p:nvCxnSpPr>
          <p:spPr>
            <a:xfrm flipH="1" flipV="1">
              <a:off x="7886160" y="3809160"/>
              <a:ext cx="766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63" idx="0"/>
              <a:endCxn id="168" idx="4"/>
            </p:cNvCxnSpPr>
            <p:nvPr/>
          </p:nvCxnSpPr>
          <p:spPr>
            <a:xfrm flipV="1">
              <a:off x="6933960" y="4571280"/>
              <a:ext cx="1148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63" idx="0"/>
              <a:endCxn id="173" idx="3"/>
            </p:cNvCxnSpPr>
            <p:nvPr/>
          </p:nvCxnSpPr>
          <p:spPr>
            <a:xfrm flipV="1">
              <a:off x="6934320" y="4515840"/>
              <a:ext cx="78624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76" idx="0"/>
              <a:endCxn id="175" idx="4"/>
            </p:cNvCxnSpPr>
            <p:nvPr/>
          </p:nvCxnSpPr>
          <p:spPr>
            <a:xfrm flipV="1">
              <a:off x="7314840" y="5942880"/>
              <a:ext cx="648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75" idx="0"/>
              <a:endCxn id="174" idx="2"/>
            </p:cNvCxnSpPr>
            <p:nvPr/>
          </p:nvCxnSpPr>
          <p:spPr>
            <a:xfrm flipV="1">
              <a:off x="7962840" y="5257080"/>
              <a:ext cx="5724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74" idx="0"/>
              <a:endCxn id="173" idx="4"/>
            </p:cNvCxnSpPr>
            <p:nvPr/>
          </p:nvCxnSpPr>
          <p:spPr>
            <a:xfrm flipH="1" flipV="1">
              <a:off x="7962480" y="4571280"/>
              <a:ext cx="5724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7543800" y="20574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2" idx="0"/>
              <a:endCxn id="167" idx="4"/>
            </p:cNvCxnSpPr>
            <p:nvPr/>
          </p:nvCxnSpPr>
          <p:spPr>
            <a:xfrm flipV="1">
              <a:off x="7772400" y="1828080"/>
              <a:ext cx="1152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924680" y="342900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191120"/>
              <a:ext cx="6858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920" y="4267080"/>
              <a:ext cx="4572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61" idx="2"/>
              <a:endCxn id="196" idx="0"/>
            </p:cNvCxnSpPr>
            <p:nvPr/>
          </p:nvCxnSpPr>
          <p:spPr>
            <a:xfrm flipH="1">
              <a:off x="6248160" y="3048120"/>
              <a:ext cx="457920" cy="12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6098400" y="45720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VEL 3 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467480" y="762120"/>
            <a:ext cx="990720" cy="685800"/>
            <a:chOff x="7467480" y="762120"/>
            <a:chExt cx="990720" cy="685800"/>
          </a:xfrm>
        </p:grpSpPr>
        <p:sp>
          <p:nvSpPr>
            <p:cNvPr id="200" name=""/>
            <p:cNvSpPr/>
            <p:nvPr/>
          </p:nvSpPr>
          <p:spPr>
            <a:xfrm>
              <a:off x="8001000" y="7621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762120"/>
              <a:ext cx="457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2"/>
            </p:cNvCxnSpPr>
            <p:nvPr/>
          </p:nvCxnSpPr>
          <p:spPr>
            <a:xfrm>
              <a:off x="7696080" y="1066320"/>
              <a:ext cx="19152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200" idx="2"/>
            </p:cNvCxnSpPr>
            <p:nvPr/>
          </p:nvCxnSpPr>
          <p:spPr>
            <a:xfrm flipH="1">
              <a:off x="7886520" y="1142640"/>
              <a:ext cx="3434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4" name=""/>
          <p:cNvGrpSpPr/>
          <p:nvPr/>
        </p:nvGrpSpPr>
        <p:grpSpPr>
          <a:xfrm>
            <a:off x="7238880" y="4571280"/>
            <a:ext cx="990720" cy="686520"/>
            <a:chOff x="7238880" y="4571280"/>
            <a:chExt cx="990720" cy="686520"/>
          </a:xfrm>
        </p:grpSpPr>
        <p:sp>
          <p:nvSpPr>
            <p:cNvPr id="205" name=""/>
            <p:cNvSpPr/>
            <p:nvPr/>
          </p:nvSpPr>
          <p:spPr>
            <a:xfrm>
              <a:off x="7772400" y="48769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38880" y="4952880"/>
              <a:ext cx="457200" cy="30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6" idx="0"/>
            </p:cNvCxnSpPr>
            <p:nvPr/>
          </p:nvCxnSpPr>
          <p:spPr>
            <a:xfrm flipV="1">
              <a:off x="7467480" y="4571640"/>
              <a:ext cx="496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205" idx="0"/>
            </p:cNvCxnSpPr>
            <p:nvPr/>
          </p:nvCxnSpPr>
          <p:spPr>
            <a:xfrm flipH="1" flipV="1">
              <a:off x="7962480" y="4571280"/>
              <a:ext cx="38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7620120" y="5942880"/>
            <a:ext cx="1066680" cy="686520"/>
            <a:chOff x="7620120" y="5942880"/>
            <a:chExt cx="1066680" cy="686520"/>
          </a:xfrm>
        </p:grpSpPr>
        <p:sp>
          <p:nvSpPr>
            <p:cNvPr id="210" name=""/>
            <p:cNvSpPr/>
            <p:nvPr/>
          </p:nvSpPr>
          <p:spPr>
            <a:xfrm>
              <a:off x="8229600" y="6248520"/>
              <a:ext cx="457200" cy="380880"/>
            </a:xfrm>
            <a:prstGeom prst="hexagon">
              <a:avLst>
                <a:gd name="adj" fmla="val 30009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20120" y="6248520"/>
              <a:ext cx="457200" cy="30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211" idx="0"/>
            </p:cNvCxnSpPr>
            <p:nvPr/>
          </p:nvCxnSpPr>
          <p:spPr>
            <a:xfrm flipV="1">
              <a:off x="7848360" y="5942880"/>
              <a:ext cx="1148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10" idx="0"/>
            </p:cNvCxnSpPr>
            <p:nvPr/>
          </p:nvCxnSpPr>
          <p:spPr>
            <a:xfrm flipH="1" flipV="1">
              <a:off x="7962480" y="5942880"/>
              <a:ext cx="496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4" name=""/>
          <p:cNvSpPr/>
          <p:nvPr/>
        </p:nvSpPr>
        <p:spPr>
          <a:xfrm>
            <a:off x="609588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Acto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2280" y="380880"/>
            <a:ext cx="8382240" cy="6019920"/>
            <a:chOff x="152280" y="380880"/>
            <a:chExt cx="8382240" cy="6019920"/>
          </a:xfrm>
        </p:grpSpPr>
        <p:sp>
          <p:nvSpPr>
            <p:cNvPr id="217" name=""/>
            <p:cNvSpPr/>
            <p:nvPr/>
          </p:nvSpPr>
          <p:spPr>
            <a:xfrm>
              <a:off x="152280" y="2057400"/>
              <a:ext cx="7010640" cy="2362320"/>
            </a:xfrm>
            <a:prstGeom prst="rect">
              <a:avLst/>
            </a:prstGeom>
            <a:solidFill>
              <a:srgbClr val="00ff00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6000" y="2895480"/>
              <a:ext cx="4572000" cy="137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76920" y="457200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endCxn id="221" idx="6"/>
            </p:cNvCxnSpPr>
            <p:nvPr/>
          </p:nvCxnSpPr>
          <p:spPr>
            <a:xfrm flipH="1" flipV="1">
              <a:off x="4571640" y="4876200"/>
              <a:ext cx="572400" cy="143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438280" y="914400"/>
              <a:ext cx="83844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Extern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76520" y="380880"/>
              <a:ext cx="1143000" cy="381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9907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8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"/>
            <p:cNvCxnSpPr>
              <a:endCxn id="223" idx="4"/>
            </p:cNvCxnSpPr>
            <p:nvPr/>
          </p:nvCxnSpPr>
          <p:spPr>
            <a:xfrm flipV="1">
              <a:off x="2095200" y="761760"/>
              <a:ext cx="153000" cy="67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>
              <a:stCxn id="223" idx="5"/>
              <a:endCxn id="222" idx="0"/>
            </p:cNvCxnSpPr>
            <p:nvPr/>
          </p:nvCxnSpPr>
          <p:spPr>
            <a:xfrm>
              <a:off x="2652480" y="706320"/>
              <a:ext cx="205560" cy="20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3048120" y="4648320"/>
              <a:ext cx="152388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operat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2438280"/>
              <a:ext cx="30492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2438280"/>
              <a:ext cx="30456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6680" y="2438280"/>
              <a:ext cx="30492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2438280"/>
              <a:ext cx="304920" cy="152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962520"/>
              <a:ext cx="11430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tegrated 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9200" y="2514600"/>
              <a:ext cx="198108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LOS 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76520" y="2971800"/>
              <a:ext cx="30456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3962520"/>
              <a:ext cx="152388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re systems 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4648320"/>
              <a:ext cx="129528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4" idx="2"/>
              <a:endCxn id="235" idx="0"/>
            </p:cNvCxnSpPr>
            <p:nvPr/>
          </p:nvCxnSpPr>
          <p:spPr>
            <a:xfrm flipH="1">
              <a:off x="875520" y="4191120"/>
              <a:ext cx="34380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7" name=""/>
            <p:cNvSpPr/>
            <p:nvPr/>
          </p:nvSpPr>
          <p:spPr>
            <a:xfrm>
              <a:off x="7848720" y="1143000"/>
              <a:ext cx="685800" cy="53352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 TE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457200"/>
              <a:ext cx="990360" cy="457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5200" y="106668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art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>
              <a:stCxn id="239" idx="2"/>
              <a:endCxn id="238" idx="4"/>
            </p:cNvCxnSpPr>
            <p:nvPr/>
          </p:nvCxnSpPr>
          <p:spPr>
            <a:xfrm flipV="1">
              <a:off x="7543440" y="913680"/>
              <a:ext cx="3438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1" name=""/>
            <p:cNvCxnSpPr>
              <a:stCxn id="238" idx="4"/>
              <a:endCxn id="237" idx="0"/>
            </p:cNvCxnSpPr>
            <p:nvPr/>
          </p:nvCxnSpPr>
          <p:spPr>
            <a:xfrm>
              <a:off x="7886880" y="914400"/>
              <a:ext cx="305280" cy="210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2" name=""/>
            <p:cNvCxnSpPr>
              <a:stCxn id="221" idx="0"/>
              <a:endCxn id="231" idx="3"/>
            </p:cNvCxnSpPr>
            <p:nvPr/>
          </p:nvCxnSpPr>
          <p:spPr>
            <a:xfrm flipH="1" flipV="1">
              <a:off x="3580560" y="4076280"/>
              <a:ext cx="22932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3" name=""/>
            <p:cNvCxnSpPr>
              <a:stCxn id="221" idx="4"/>
            </p:cNvCxnSpPr>
            <p:nvPr/>
          </p:nvCxnSpPr>
          <p:spPr>
            <a:xfrm flipH="1">
              <a:off x="3656880" y="5105160"/>
              <a:ext cx="15300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2514600" y="5410080"/>
              <a:ext cx="1143000" cy="24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livered 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8280" y="342900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6880" y="342900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24080" y="342900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342900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41080" y="2895480"/>
              <a:ext cx="110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duct libr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3581280"/>
              <a:ext cx="22860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8280" y="3962520"/>
              <a:ext cx="11430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tegrated produ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endCxn id="251" idx="3"/>
            </p:cNvCxnSpPr>
            <p:nvPr/>
          </p:nvCxnSpPr>
          <p:spPr>
            <a:xfrm flipH="1" flipV="1">
              <a:off x="3580560" y="4076280"/>
              <a:ext cx="22932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1600200" y="2133720"/>
              <a:ext cx="533520" cy="533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 M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563868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3200" y="563868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563868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1800" y="5638680"/>
              <a:ext cx="22860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29000" y="5638680"/>
              <a:ext cx="22860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981080" y="304560"/>
            <a:ext cx="7010640" cy="6401160"/>
            <a:chOff x="1981080" y="304560"/>
            <a:chExt cx="7010640" cy="6401160"/>
          </a:xfrm>
        </p:grpSpPr>
        <p:sp>
          <p:nvSpPr>
            <p:cNvPr id="260" name=""/>
            <p:cNvSpPr/>
            <p:nvPr/>
          </p:nvSpPr>
          <p:spPr>
            <a:xfrm>
              <a:off x="3352680" y="3049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991720" y="304920"/>
              <a:ext cx="0" cy="64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0920" y="670572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352680" y="304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4120" y="5181480"/>
              <a:ext cx="365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6400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7400" y="1905120"/>
              <a:ext cx="69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7400" y="1752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0" y="2133720"/>
              <a:ext cx="4724280" cy="3045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 TELOS Kernel:   Agent  coordination+ User connection + Object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28195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429000" y="28191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458200" y="3045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96080" y="17524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0280" y="22860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00200" y="685800"/>
            <a:ext cx="7086600" cy="5867280"/>
            <a:chOff x="1600200" y="685800"/>
            <a:chExt cx="7086600" cy="5867280"/>
          </a:xfrm>
        </p:grpSpPr>
        <p:sp>
          <p:nvSpPr>
            <p:cNvPr id="277" name=""/>
            <p:cNvSpPr/>
            <p:nvPr/>
          </p:nvSpPr>
          <p:spPr>
            <a:xfrm>
              <a:off x="4952880" y="5029200"/>
              <a:ext cx="38124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5120" y="1447920"/>
              <a:ext cx="38088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8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1520" y="1523880"/>
              <a:ext cx="30456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52680" y="6248520"/>
              <a:ext cx="38124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2666880"/>
              <a:ext cx="38088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05920" y="914400"/>
              <a:ext cx="38088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685800"/>
              <a:ext cx="38124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720" y="3276720"/>
              <a:ext cx="38088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Kerne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9880" y="1523880"/>
            <a:ext cx="1219320" cy="3886200"/>
            <a:chOff x="3809880" y="1523880"/>
            <a:chExt cx="1219320" cy="3886200"/>
          </a:xfrm>
        </p:grpSpPr>
        <p:sp>
          <p:nvSpPr>
            <p:cNvPr id="287" name=""/>
            <p:cNvSpPr/>
            <p:nvPr/>
          </p:nvSpPr>
          <p:spPr>
            <a:xfrm>
              <a:off x="3809880" y="1523880"/>
              <a:ext cx="1219320" cy="388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2004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Servic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160020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bject (system)</a:t>
              </a: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724280"/>
              <a:ext cx="9144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connec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52280" y="3581280"/>
            <a:ext cx="3809880" cy="1409400"/>
            <a:chOff x="152280" y="3581280"/>
            <a:chExt cx="3809880" cy="1409400"/>
          </a:xfrm>
        </p:grpSpPr>
        <p:sp>
          <p:nvSpPr>
            <p:cNvPr id="292" name=""/>
            <p:cNvSpPr/>
            <p:nvPr/>
          </p:nvSpPr>
          <p:spPr>
            <a:xfrm>
              <a:off x="1600200" y="3581280"/>
              <a:ext cx="380880" cy="30492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(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3880" y="388620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4267080"/>
              <a:ext cx="609840" cy="6098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(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4495680"/>
              <a:ext cx="8384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1 Obta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r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3"/>
              <a:endCxn id="295" idx="2"/>
            </p:cNvCxnSpPr>
            <p:nvPr/>
          </p:nvCxnSpPr>
          <p:spPr>
            <a:xfrm>
              <a:off x="762120" y="4572000"/>
              <a:ext cx="305280" cy="11520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5" idx="0"/>
              <a:endCxn id="293" idx="0"/>
            </p:cNvCxnSpPr>
            <p:nvPr/>
          </p:nvCxnSpPr>
          <p:spPr>
            <a:xfrm flipV="1">
              <a:off x="1486080" y="3885480"/>
              <a:ext cx="305280" cy="61020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endCxn id="295" idx="4"/>
            </p:cNvCxnSpPr>
            <p:nvPr/>
          </p:nvCxnSpPr>
          <p:spPr>
            <a:xfrm flipH="1" flipV="1">
              <a:off x="1485360" y="4876200"/>
              <a:ext cx="2477160" cy="1148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299" name=""/>
          <p:cNvGrpSpPr/>
          <p:nvPr/>
        </p:nvGrpSpPr>
        <p:grpSpPr>
          <a:xfrm>
            <a:off x="1790640" y="3466440"/>
            <a:ext cx="2171880" cy="800640"/>
            <a:chOff x="1790640" y="3466440"/>
            <a:chExt cx="2171880" cy="800640"/>
          </a:xfrm>
        </p:grpSpPr>
        <p:sp>
          <p:nvSpPr>
            <p:cNvPr id="300" name=""/>
            <p:cNvSpPr/>
            <p:nvPr/>
          </p:nvSpPr>
          <p:spPr>
            <a:xfrm>
              <a:off x="2286000" y="403848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4 Decl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endCxn id="300" idx="2"/>
            </p:cNvCxnSpPr>
            <p:nvPr/>
          </p:nvCxnSpPr>
          <p:spPr>
            <a:xfrm>
              <a:off x="1790640" y="3885840"/>
              <a:ext cx="49608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300" idx="6"/>
            </p:cNvCxnSpPr>
            <p:nvPr/>
          </p:nvCxnSpPr>
          <p:spPr>
            <a:xfrm flipV="1">
              <a:off x="3200040" y="3466440"/>
              <a:ext cx="76284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4876920" y="3733920"/>
            <a:ext cx="3809880" cy="1257120"/>
            <a:chOff x="4876920" y="3733920"/>
            <a:chExt cx="3809880" cy="1257120"/>
          </a:xfrm>
        </p:grpSpPr>
        <p:sp>
          <p:nvSpPr>
            <p:cNvPr id="304" name=""/>
            <p:cNvSpPr/>
            <p:nvPr/>
          </p:nvSpPr>
          <p:spPr>
            <a:xfrm>
              <a:off x="6477120" y="403848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77320" y="434340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2920" y="41148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bt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"/>
            <p:cNvCxnSpPr>
              <a:stCxn id="305" idx="0"/>
              <a:endCxn id="306" idx="6"/>
            </p:cNvCxnSpPr>
            <p:nvPr/>
          </p:nvCxnSpPr>
          <p:spPr>
            <a:xfrm flipH="1" flipV="1">
              <a:off x="8076960" y="4304880"/>
              <a:ext cx="305280" cy="3888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306" idx="2"/>
              <a:endCxn id="309" idx="2"/>
            </p:cNvCxnSpPr>
            <p:nvPr/>
          </p:nvCxnSpPr>
          <p:spPr>
            <a:xfrm flipH="1" flipV="1">
              <a:off x="6743520" y="4038120"/>
              <a:ext cx="419760" cy="26712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9" name=""/>
            <p:cNvSpPr/>
            <p:nvPr/>
          </p:nvSpPr>
          <p:spPr>
            <a:xfrm>
              <a:off x="6553080" y="3733920"/>
              <a:ext cx="38124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(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0" name=""/>
            <p:cNvCxnSpPr>
              <a:endCxn id="306" idx="4"/>
            </p:cNvCxnSpPr>
            <p:nvPr/>
          </p:nvCxnSpPr>
          <p:spPr>
            <a:xfrm flipV="1">
              <a:off x="4876920" y="4495320"/>
              <a:ext cx="2743920" cy="4960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311" name=""/>
          <p:cNvGrpSpPr/>
          <p:nvPr/>
        </p:nvGrpSpPr>
        <p:grpSpPr>
          <a:xfrm>
            <a:off x="7620120" y="1828800"/>
            <a:ext cx="1143000" cy="2514600"/>
            <a:chOff x="7620120" y="1828800"/>
            <a:chExt cx="1143000" cy="2514600"/>
          </a:xfrm>
        </p:grpSpPr>
        <p:sp>
          <p:nvSpPr>
            <p:cNvPr id="312" name=""/>
            <p:cNvSpPr/>
            <p:nvPr/>
          </p:nvSpPr>
          <p:spPr>
            <a:xfrm>
              <a:off x="8001000" y="1828800"/>
              <a:ext cx="76212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0120" y="3048120"/>
              <a:ext cx="99036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4" name=""/>
            <p:cNvCxnSpPr>
              <a:endCxn id="313" idx="4"/>
            </p:cNvCxnSpPr>
            <p:nvPr/>
          </p:nvCxnSpPr>
          <p:spPr>
            <a:xfrm flipH="1" flipV="1">
              <a:off x="8115120" y="3504960"/>
              <a:ext cx="267120" cy="838800"/>
            </a:xfrm>
            <a:prstGeom prst="straightConnector1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3" idx="0"/>
              <a:endCxn id="312" idx="2"/>
            </p:cNvCxnSpPr>
            <p:nvPr/>
          </p:nvCxnSpPr>
          <p:spPr>
            <a:xfrm flipV="1">
              <a:off x="8115480" y="2437920"/>
              <a:ext cx="267120" cy="61056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4876560" y="1866600"/>
            <a:ext cx="3124080" cy="1562400"/>
            <a:chOff x="4876560" y="1866600"/>
            <a:chExt cx="3124080" cy="1562400"/>
          </a:xfrm>
        </p:grpSpPr>
        <p:sp>
          <p:nvSpPr>
            <p:cNvPr id="317" name=""/>
            <p:cNvSpPr/>
            <p:nvPr/>
          </p:nvSpPr>
          <p:spPr>
            <a:xfrm>
              <a:off x="6553080" y="2895480"/>
              <a:ext cx="53352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38124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(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20" idx="3"/>
              <a:endCxn id="318" idx="2"/>
            </p:cNvCxnSpPr>
            <p:nvPr/>
          </p:nvCxnSpPr>
          <p:spPr>
            <a:xfrm flipH="1">
              <a:off x="6743520" y="2459160"/>
              <a:ext cx="313200" cy="43704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6934320" y="2133720"/>
              <a:ext cx="8380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bt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" name=""/>
            <p:cNvCxnSpPr>
              <a:endCxn id="320" idx="6"/>
            </p:cNvCxnSpPr>
            <p:nvPr/>
          </p:nvCxnSpPr>
          <p:spPr>
            <a:xfrm flipH="1">
              <a:off x="7771680" y="2133360"/>
              <a:ext cx="229320" cy="19116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endCxn id="320" idx="0"/>
            </p:cNvCxnSpPr>
            <p:nvPr/>
          </p:nvCxnSpPr>
          <p:spPr>
            <a:xfrm>
              <a:off x="4876560" y="1866600"/>
              <a:ext cx="2477160" cy="2671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323" name=""/>
          <p:cNvGrpSpPr/>
          <p:nvPr/>
        </p:nvGrpSpPr>
        <p:grpSpPr>
          <a:xfrm>
            <a:off x="1790640" y="3466440"/>
            <a:ext cx="4953240" cy="1639080"/>
            <a:chOff x="1790640" y="3466440"/>
            <a:chExt cx="4953240" cy="1639080"/>
          </a:xfrm>
        </p:grpSpPr>
        <p:sp>
          <p:nvSpPr>
            <p:cNvPr id="324" name=""/>
            <p:cNvSpPr/>
            <p:nvPr/>
          </p:nvSpPr>
          <p:spPr>
            <a:xfrm>
              <a:off x="2362320" y="365760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5 Del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" name=""/>
            <p:cNvCxnSpPr>
              <a:endCxn id="324" idx="2"/>
            </p:cNvCxnSpPr>
            <p:nvPr/>
          </p:nvCxnSpPr>
          <p:spPr>
            <a:xfrm flipV="1">
              <a:off x="1790640" y="3771360"/>
              <a:ext cx="57240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4" idx="6"/>
            </p:cNvCxnSpPr>
            <p:nvPr/>
          </p:nvCxnSpPr>
          <p:spPr>
            <a:xfrm flipV="1">
              <a:off x="3200040" y="3466440"/>
              <a:ext cx="7628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endCxn id="328" idx="6"/>
            </p:cNvCxnSpPr>
            <p:nvPr/>
          </p:nvCxnSpPr>
          <p:spPr>
            <a:xfrm flipH="1">
              <a:off x="6171840" y="4038480"/>
              <a:ext cx="572400" cy="9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3962520" y="41148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.11 conn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endCxn id="329" idx="0"/>
            </p:cNvCxnSpPr>
            <p:nvPr/>
          </p:nvCxnSpPr>
          <p:spPr>
            <a:xfrm>
              <a:off x="4419360" y="373392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8" name=""/>
            <p:cNvSpPr/>
            <p:nvPr/>
          </p:nvSpPr>
          <p:spPr>
            <a:xfrm>
              <a:off x="5257800" y="487692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2 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8" idx="2"/>
            </p:cNvCxnSpPr>
            <p:nvPr/>
          </p:nvCxnSpPr>
          <p:spPr>
            <a:xfrm flipH="1" flipV="1">
              <a:off x="4419360" y="3733560"/>
              <a:ext cx="838800" cy="12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/>
            <p:nvPr/>
          </p:nvCxnSpPr>
          <p:spPr>
            <a:xfrm>
              <a:off x="4419720" y="3733920"/>
              <a:ext cx="83880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5257800" y="449568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3Rece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4" name=""/>
            <p:cNvCxnSpPr>
              <a:endCxn id="333" idx="6"/>
            </p:cNvCxnSpPr>
            <p:nvPr/>
          </p:nvCxnSpPr>
          <p:spPr>
            <a:xfrm flipH="1">
              <a:off x="6095880" y="4038480"/>
              <a:ext cx="648360" cy="57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1790640" y="2286000"/>
            <a:ext cx="4953240" cy="2590920"/>
            <a:chOff x="1790640" y="2286000"/>
            <a:chExt cx="4953240" cy="2590920"/>
          </a:xfrm>
        </p:grpSpPr>
        <p:sp>
          <p:nvSpPr>
            <p:cNvPr id="336" name=""/>
            <p:cNvSpPr/>
            <p:nvPr/>
          </p:nvSpPr>
          <p:spPr>
            <a:xfrm>
              <a:off x="2286000" y="464832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2 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endCxn id="336" idx="2"/>
            </p:cNvCxnSpPr>
            <p:nvPr/>
          </p:nvCxnSpPr>
          <p:spPr>
            <a:xfrm>
              <a:off x="1790640" y="3886200"/>
              <a:ext cx="49608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"/>
            <p:cNvCxnSpPr>
              <a:stCxn id="336" idx="6"/>
            </p:cNvCxnSpPr>
            <p:nvPr/>
          </p:nvCxnSpPr>
          <p:spPr>
            <a:xfrm flipV="1">
              <a:off x="3200040" y="3733560"/>
              <a:ext cx="1220040" cy="102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"/>
            <p:cNvCxnSpPr>
              <a:endCxn id="340" idx="2"/>
            </p:cNvCxnSpPr>
            <p:nvPr/>
          </p:nvCxnSpPr>
          <p:spPr>
            <a:xfrm flipV="1">
              <a:off x="4419720" y="2400120"/>
              <a:ext cx="83880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41" name=""/>
            <p:cNvCxnSpPr>
              <a:endCxn id="340" idx="6"/>
            </p:cNvCxnSpPr>
            <p:nvPr/>
          </p:nvCxnSpPr>
          <p:spPr>
            <a:xfrm flipH="1" flipV="1">
              <a:off x="6095880" y="2399760"/>
              <a:ext cx="648360" cy="49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286000" y="434340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3Rece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endCxn id="342" idx="2"/>
            </p:cNvCxnSpPr>
            <p:nvPr/>
          </p:nvCxnSpPr>
          <p:spPr>
            <a:xfrm>
              <a:off x="1790640" y="3886200"/>
              <a:ext cx="496080" cy="57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44" name=""/>
            <p:cNvCxnSpPr>
              <a:stCxn id="342" idx="6"/>
            </p:cNvCxnSpPr>
            <p:nvPr/>
          </p:nvCxnSpPr>
          <p:spPr>
            <a:xfrm flipV="1">
              <a:off x="3123720" y="3733200"/>
              <a:ext cx="1296360" cy="72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5257800" y="228600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10 Del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52280" y="1828800"/>
            <a:ext cx="3810240" cy="1828800"/>
            <a:chOff x="152280" y="1828800"/>
            <a:chExt cx="3810240" cy="1828800"/>
          </a:xfrm>
        </p:grpSpPr>
        <p:sp>
          <p:nvSpPr>
            <p:cNvPr id="346" name=""/>
            <p:cNvSpPr/>
            <p:nvPr/>
          </p:nvSpPr>
          <p:spPr>
            <a:xfrm>
              <a:off x="1600200" y="2590920"/>
              <a:ext cx="380880" cy="3045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3880" y="2895480"/>
              <a:ext cx="60984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80" y="1828800"/>
              <a:ext cx="762120" cy="762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280" y="3200400"/>
              <a:ext cx="99072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0" name=""/>
            <p:cNvCxnSpPr>
              <a:stCxn id="349" idx="0"/>
              <a:endCxn id="348" idx="2"/>
            </p:cNvCxnSpPr>
            <p:nvPr/>
          </p:nvCxnSpPr>
          <p:spPr>
            <a:xfrm flipH="1" flipV="1">
              <a:off x="532800" y="2590200"/>
              <a:ext cx="114840" cy="61020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48" idx="3"/>
              <a:endCxn id="352" idx="2"/>
            </p:cNvCxnSpPr>
            <p:nvPr/>
          </p:nvCxnSpPr>
          <p:spPr>
            <a:xfrm flipV="1">
              <a:off x="914040" y="2171160"/>
              <a:ext cx="229320" cy="3852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352" name=""/>
            <p:cNvSpPr/>
            <p:nvPr/>
          </p:nvSpPr>
          <p:spPr>
            <a:xfrm>
              <a:off x="1143000" y="1981080"/>
              <a:ext cx="76212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6 Obt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3" name=""/>
            <p:cNvCxnSpPr>
              <a:stCxn id="352" idx="4"/>
              <a:endCxn id="347" idx="0"/>
            </p:cNvCxnSpPr>
            <p:nvPr/>
          </p:nvCxnSpPr>
          <p:spPr>
            <a:xfrm>
              <a:off x="1523520" y="2361960"/>
              <a:ext cx="305640" cy="533880"/>
            </a:xfrm>
            <a:prstGeom prst="straightConnector1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endCxn id="352" idx="0"/>
            </p:cNvCxnSpPr>
            <p:nvPr/>
          </p:nvCxnSpPr>
          <p:spPr>
            <a:xfrm flipH="1">
              <a:off x="1523880" y="1866600"/>
              <a:ext cx="2439000" cy="11484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355" name=""/>
          <p:cNvGrpSpPr/>
          <p:nvPr/>
        </p:nvGrpSpPr>
        <p:grpSpPr>
          <a:xfrm>
            <a:off x="1828800" y="2133720"/>
            <a:ext cx="4915080" cy="2286000"/>
            <a:chOff x="1828800" y="2133720"/>
            <a:chExt cx="4915080" cy="2286000"/>
          </a:xfrm>
        </p:grpSpPr>
        <p:sp>
          <p:nvSpPr>
            <p:cNvPr id="356" name=""/>
            <p:cNvSpPr/>
            <p:nvPr/>
          </p:nvSpPr>
          <p:spPr>
            <a:xfrm>
              <a:off x="2286000" y="213372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10 Del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0" y="281952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8 Rece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0" y="320040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7 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9" name=""/>
            <p:cNvCxnSpPr>
              <a:endCxn id="358" idx="1"/>
            </p:cNvCxnSpPr>
            <p:nvPr/>
          </p:nvCxnSpPr>
          <p:spPr>
            <a:xfrm>
              <a:off x="1828800" y="2895480"/>
              <a:ext cx="580320" cy="33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endCxn id="357" idx="2"/>
            </p:cNvCxnSpPr>
            <p:nvPr/>
          </p:nvCxnSpPr>
          <p:spPr>
            <a:xfrm>
              <a:off x="1828800" y="2895480"/>
              <a:ext cx="45792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61" name=""/>
            <p:cNvCxnSpPr>
              <a:endCxn id="356" idx="3"/>
            </p:cNvCxnSpPr>
            <p:nvPr/>
          </p:nvCxnSpPr>
          <p:spPr>
            <a:xfrm flipV="1">
              <a:off x="1828800" y="2328480"/>
              <a:ext cx="580320" cy="56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6"/>
            </p:cNvCxnSpPr>
            <p:nvPr/>
          </p:nvCxnSpPr>
          <p:spPr>
            <a:xfrm>
              <a:off x="3123720" y="3314520"/>
              <a:ext cx="83916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3" name=""/>
            <p:cNvCxnSpPr>
              <a:stCxn id="357" idx="6"/>
            </p:cNvCxnSpPr>
            <p:nvPr/>
          </p:nvCxnSpPr>
          <p:spPr>
            <a:xfrm>
              <a:off x="3200040" y="2933640"/>
              <a:ext cx="76284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64" name=""/>
            <p:cNvCxnSpPr>
              <a:stCxn id="356" idx="6"/>
            </p:cNvCxnSpPr>
            <p:nvPr/>
          </p:nvCxnSpPr>
          <p:spPr>
            <a:xfrm>
              <a:off x="3123720" y="2247840"/>
              <a:ext cx="1296360" cy="9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5" name=""/>
            <p:cNvSpPr/>
            <p:nvPr/>
          </p:nvSpPr>
          <p:spPr>
            <a:xfrm>
              <a:off x="2286000" y="251460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9 Decl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endCxn id="365" idx="3"/>
            </p:cNvCxnSpPr>
            <p:nvPr/>
          </p:nvCxnSpPr>
          <p:spPr>
            <a:xfrm flipV="1">
              <a:off x="1828800" y="2709360"/>
              <a:ext cx="58032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67" name=""/>
            <p:cNvCxnSpPr>
              <a:stCxn id="365" idx="6"/>
            </p:cNvCxnSpPr>
            <p:nvPr/>
          </p:nvCxnSpPr>
          <p:spPr>
            <a:xfrm>
              <a:off x="3123720" y="2628720"/>
              <a:ext cx="12963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endCxn id="369" idx="2"/>
            </p:cNvCxnSpPr>
            <p:nvPr/>
          </p:nvCxnSpPr>
          <p:spPr>
            <a:xfrm>
              <a:off x="4876920" y="346680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70" name=""/>
            <p:cNvCxnSpPr>
              <a:endCxn id="371" idx="2"/>
            </p:cNvCxnSpPr>
            <p:nvPr/>
          </p:nvCxnSpPr>
          <p:spPr>
            <a:xfrm>
              <a:off x="4876920" y="3467160"/>
              <a:ext cx="38160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372" name=""/>
            <p:cNvCxnSpPr>
              <a:endCxn id="373" idx="2"/>
            </p:cNvCxnSpPr>
            <p:nvPr/>
          </p:nvCxnSpPr>
          <p:spPr>
            <a:xfrm flipV="1">
              <a:off x="4876920" y="3085920"/>
              <a:ext cx="38160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endCxn id="369" idx="6"/>
            </p:cNvCxnSpPr>
            <p:nvPr/>
          </p:nvCxnSpPr>
          <p:spPr>
            <a:xfrm flipH="1">
              <a:off x="6095880" y="2895480"/>
              <a:ext cx="648360" cy="57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endCxn id="376" idx="6"/>
            </p:cNvCxnSpPr>
            <p:nvPr/>
          </p:nvCxnSpPr>
          <p:spPr>
            <a:xfrm flipH="1" flipV="1">
              <a:off x="6171840" y="3923640"/>
              <a:ext cx="57240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5334120" y="380988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5 Deli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57800" y="419112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4 Decl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57800" y="2971800"/>
              <a:ext cx="9144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8 Rece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7800" y="335268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7 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endCxn id="373" idx="6"/>
            </p:cNvCxnSpPr>
            <p:nvPr/>
          </p:nvCxnSpPr>
          <p:spPr>
            <a:xfrm flipH="1">
              <a:off x="6171840" y="2895480"/>
              <a:ext cx="57240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endCxn id="371" idx="6"/>
            </p:cNvCxnSpPr>
            <p:nvPr/>
          </p:nvCxnSpPr>
          <p:spPr>
            <a:xfrm flipH="1">
              <a:off x="6171840" y="4038120"/>
              <a:ext cx="57240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>
              <a:stCxn id="376" idx="2"/>
            </p:cNvCxnSpPr>
            <p:nvPr/>
          </p:nvCxnSpPr>
          <p:spPr>
            <a:xfrm flipH="1" flipV="1">
              <a:off x="4876560" y="3466800"/>
              <a:ext cx="4579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0" name=""/>
          <p:cNvGrpSpPr/>
          <p:nvPr/>
        </p:nvGrpSpPr>
        <p:grpSpPr>
          <a:xfrm>
            <a:off x="228600" y="380880"/>
            <a:ext cx="7543800" cy="1447920"/>
            <a:chOff x="228600" y="380880"/>
            <a:chExt cx="7543800" cy="1447920"/>
          </a:xfrm>
        </p:grpSpPr>
        <p:sp>
          <p:nvSpPr>
            <p:cNvPr id="381" name=""/>
            <p:cNvSpPr/>
            <p:nvPr/>
          </p:nvSpPr>
          <p:spPr>
            <a:xfrm>
              <a:off x="228600" y="380880"/>
              <a:ext cx="685800" cy="5335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par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80880"/>
              <a:ext cx="68580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52480" y="380880"/>
              <a:ext cx="68580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14600" y="38088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6720" y="380880"/>
              <a:ext cx="685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4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38480" y="380880"/>
              <a:ext cx="685800" cy="533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K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0600" y="380880"/>
              <a:ext cx="685800" cy="533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5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m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K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24480" y="380880"/>
              <a:ext cx="68580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es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endCxn id="381" idx="2"/>
            </p:cNvCxnSpPr>
            <p:nvPr/>
          </p:nvCxnSpPr>
          <p:spPr>
            <a:xfrm flipV="1">
              <a:off x="533520" y="914040"/>
              <a:ext cx="3888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endCxn id="382" idx="2"/>
            </p:cNvCxnSpPr>
            <p:nvPr/>
          </p:nvCxnSpPr>
          <p:spPr>
            <a:xfrm flipV="1">
              <a:off x="533520" y="914040"/>
              <a:ext cx="8006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1" name=""/>
            <p:cNvCxnSpPr>
              <a:endCxn id="383" idx="2"/>
            </p:cNvCxnSpPr>
            <p:nvPr/>
          </p:nvCxnSpPr>
          <p:spPr>
            <a:xfrm flipV="1">
              <a:off x="533160" y="914040"/>
              <a:ext cx="15627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2" name=""/>
            <p:cNvCxnSpPr>
              <a:endCxn id="384" idx="2"/>
            </p:cNvCxnSpPr>
            <p:nvPr/>
          </p:nvCxnSpPr>
          <p:spPr>
            <a:xfrm flipV="1">
              <a:off x="533520" y="914040"/>
              <a:ext cx="232488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3" name=""/>
            <p:cNvCxnSpPr>
              <a:endCxn id="385" idx="2"/>
            </p:cNvCxnSpPr>
            <p:nvPr/>
          </p:nvCxnSpPr>
          <p:spPr>
            <a:xfrm flipV="1">
              <a:off x="533520" y="914040"/>
              <a:ext cx="30866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4" name=""/>
            <p:cNvCxnSpPr>
              <a:endCxn id="386" idx="2"/>
            </p:cNvCxnSpPr>
            <p:nvPr/>
          </p:nvCxnSpPr>
          <p:spPr>
            <a:xfrm flipV="1">
              <a:off x="533160" y="914040"/>
              <a:ext cx="38487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5" name=""/>
            <p:cNvCxnSpPr>
              <a:endCxn id="387" idx="2"/>
            </p:cNvCxnSpPr>
            <p:nvPr/>
          </p:nvCxnSpPr>
          <p:spPr>
            <a:xfrm flipV="1">
              <a:off x="533520" y="914040"/>
              <a:ext cx="461088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6" name=""/>
            <p:cNvCxnSpPr>
              <a:endCxn id="388" idx="2"/>
            </p:cNvCxnSpPr>
            <p:nvPr/>
          </p:nvCxnSpPr>
          <p:spPr>
            <a:xfrm flipV="1">
              <a:off x="533160" y="914040"/>
              <a:ext cx="613476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7" name=""/>
            <p:cNvSpPr/>
            <p:nvPr/>
          </p:nvSpPr>
          <p:spPr>
            <a:xfrm>
              <a:off x="5562720" y="380880"/>
              <a:ext cx="685800" cy="5335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TE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0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8" name=""/>
            <p:cNvCxnSpPr>
              <a:endCxn id="397" idx="2"/>
            </p:cNvCxnSpPr>
            <p:nvPr/>
          </p:nvCxnSpPr>
          <p:spPr>
            <a:xfrm flipV="1">
              <a:off x="533520" y="914040"/>
              <a:ext cx="537264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99" name=""/>
            <p:cNvSpPr/>
            <p:nvPr/>
          </p:nvSpPr>
          <p:spPr>
            <a:xfrm>
              <a:off x="7086600" y="380880"/>
              <a:ext cx="68580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7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endCxn id="399" idx="2"/>
            </p:cNvCxnSpPr>
            <p:nvPr/>
          </p:nvCxnSpPr>
          <p:spPr>
            <a:xfrm flipV="1">
              <a:off x="533520" y="914040"/>
              <a:ext cx="689688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01" name=""/>
          <p:cNvGrpSpPr/>
          <p:nvPr/>
        </p:nvGrpSpPr>
        <p:grpSpPr>
          <a:xfrm>
            <a:off x="152280" y="4876920"/>
            <a:ext cx="7848720" cy="1828800"/>
            <a:chOff x="152280" y="4876920"/>
            <a:chExt cx="7848720" cy="1828800"/>
          </a:xfrm>
        </p:grpSpPr>
        <p:sp>
          <p:nvSpPr>
            <p:cNvPr id="402" name=""/>
            <p:cNvSpPr/>
            <p:nvPr/>
          </p:nvSpPr>
          <p:spPr>
            <a:xfrm>
              <a:off x="15228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gine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624852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chnologi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7160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sig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8108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acilit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624852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ar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040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8" name=""/>
            <p:cNvCxnSpPr>
              <a:endCxn id="402" idx="0"/>
            </p:cNvCxnSpPr>
            <p:nvPr/>
          </p:nvCxnSpPr>
          <p:spPr>
            <a:xfrm flipH="1">
              <a:off x="418680" y="4876920"/>
              <a:ext cx="3888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endCxn id="403" idx="0"/>
            </p:cNvCxnSpPr>
            <p:nvPr/>
          </p:nvCxnSpPr>
          <p:spPr>
            <a:xfrm>
              <a:off x="457200" y="4876920"/>
              <a:ext cx="57240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0" name=""/>
            <p:cNvCxnSpPr>
              <a:endCxn id="404" idx="0"/>
            </p:cNvCxnSpPr>
            <p:nvPr/>
          </p:nvCxnSpPr>
          <p:spPr>
            <a:xfrm>
              <a:off x="456840" y="4876920"/>
              <a:ext cx="118188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1" name=""/>
            <p:cNvCxnSpPr>
              <a:endCxn id="405" idx="0"/>
            </p:cNvCxnSpPr>
            <p:nvPr/>
          </p:nvCxnSpPr>
          <p:spPr>
            <a:xfrm>
              <a:off x="457200" y="4876920"/>
              <a:ext cx="179136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endCxn id="406" idx="0"/>
            </p:cNvCxnSpPr>
            <p:nvPr/>
          </p:nvCxnSpPr>
          <p:spPr>
            <a:xfrm>
              <a:off x="457200" y="4876920"/>
              <a:ext cx="240120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3" name=""/>
            <p:cNvCxnSpPr>
              <a:endCxn id="407" idx="0"/>
            </p:cNvCxnSpPr>
            <p:nvPr/>
          </p:nvCxnSpPr>
          <p:spPr>
            <a:xfrm>
              <a:off x="456840" y="4876920"/>
              <a:ext cx="301068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14" name=""/>
            <p:cNvSpPr/>
            <p:nvPr/>
          </p:nvSpPr>
          <p:spPr>
            <a:xfrm>
              <a:off x="571500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ues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tic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ues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748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7" name=""/>
            <p:cNvCxnSpPr>
              <a:endCxn id="414" idx="0"/>
            </p:cNvCxnSpPr>
            <p:nvPr/>
          </p:nvCxnSpPr>
          <p:spPr>
            <a:xfrm>
              <a:off x="457200" y="4876920"/>
              <a:ext cx="552528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8" name=""/>
            <p:cNvCxnSpPr>
              <a:endCxn id="415" idx="0"/>
            </p:cNvCxnSpPr>
            <p:nvPr/>
          </p:nvCxnSpPr>
          <p:spPr>
            <a:xfrm>
              <a:off x="456840" y="4876920"/>
              <a:ext cx="666828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9" name=""/>
            <p:cNvCxnSpPr>
              <a:endCxn id="416" idx="0"/>
            </p:cNvCxnSpPr>
            <p:nvPr/>
          </p:nvCxnSpPr>
          <p:spPr>
            <a:xfrm>
              <a:off x="457200" y="4876920"/>
              <a:ext cx="727776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0" name=""/>
            <p:cNvSpPr/>
            <p:nvPr/>
          </p:nvSpPr>
          <p:spPr>
            <a:xfrm>
              <a:off x="6248520" y="624852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rtic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1" name=""/>
            <p:cNvCxnSpPr>
              <a:endCxn id="420" idx="0"/>
            </p:cNvCxnSpPr>
            <p:nvPr/>
          </p:nvCxnSpPr>
          <p:spPr>
            <a:xfrm>
              <a:off x="457200" y="4876920"/>
              <a:ext cx="6058800" cy="137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2" name=""/>
            <p:cNvSpPr/>
            <p:nvPr/>
          </p:nvSpPr>
          <p:spPr>
            <a:xfrm>
              <a:off x="380988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6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19720" y="6248520"/>
              <a:ext cx="533160" cy="457200"/>
            </a:xfrm>
            <a:prstGeom prst="hexagon">
              <a:avLst>
                <a:gd name="adj" fmla="val 29154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6c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6248520"/>
              <a:ext cx="533520" cy="457200"/>
            </a:xfrm>
            <a:prstGeom prst="hexagon">
              <a:avLst>
                <a:gd name="adj" fmla="val 29173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K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419360" y="5410080"/>
            <a:ext cx="4343760" cy="609840"/>
            <a:chOff x="4419360" y="5410080"/>
            <a:chExt cx="4343760" cy="609840"/>
          </a:xfrm>
        </p:grpSpPr>
        <p:sp>
          <p:nvSpPr>
            <p:cNvPr id="426" name=""/>
            <p:cNvSpPr/>
            <p:nvPr/>
          </p:nvSpPr>
          <p:spPr>
            <a:xfrm>
              <a:off x="5257800" y="5562720"/>
              <a:ext cx="10666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5562720"/>
              <a:ext cx="10666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utonomo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K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6080" y="5562720"/>
              <a:ext cx="106704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eavy LK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" name=""/>
            <p:cNvCxnSpPr>
              <a:endCxn id="426" idx="0"/>
            </p:cNvCxnSpPr>
            <p:nvPr/>
          </p:nvCxnSpPr>
          <p:spPr>
            <a:xfrm>
              <a:off x="4419720" y="5410080"/>
              <a:ext cx="137232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endCxn id="427" idx="0"/>
            </p:cNvCxnSpPr>
            <p:nvPr/>
          </p:nvCxnSpPr>
          <p:spPr>
            <a:xfrm>
              <a:off x="4419720" y="5410080"/>
              <a:ext cx="25912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endCxn id="428" idx="0"/>
            </p:cNvCxnSpPr>
            <p:nvPr/>
          </p:nvCxnSpPr>
          <p:spPr>
            <a:xfrm>
              <a:off x="4419360" y="5410080"/>
              <a:ext cx="381060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32" name="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19360" y="2666880"/>
            <a:ext cx="2324520" cy="533880"/>
            <a:chOff x="4419360" y="2666880"/>
            <a:chExt cx="2324520" cy="533880"/>
          </a:xfrm>
        </p:grpSpPr>
        <p:sp>
          <p:nvSpPr>
            <p:cNvPr id="434" name=""/>
            <p:cNvSpPr/>
            <p:nvPr/>
          </p:nvSpPr>
          <p:spPr>
            <a:xfrm>
              <a:off x="5257800" y="2666880"/>
              <a:ext cx="83808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6.9 Decl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5" name=""/>
            <p:cNvCxnSpPr>
              <a:endCxn id="434" idx="6"/>
            </p:cNvCxnSpPr>
            <p:nvPr/>
          </p:nvCxnSpPr>
          <p:spPr>
            <a:xfrm flipH="1" flipV="1">
              <a:off x="6095880" y="2780640"/>
              <a:ext cx="648360" cy="11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6" name=""/>
            <p:cNvCxnSpPr>
              <a:stCxn id="434" idx="2"/>
              <a:endCxn id="288" idx="0"/>
            </p:cNvCxnSpPr>
            <p:nvPr/>
          </p:nvCxnSpPr>
          <p:spPr>
            <a:xfrm flipH="1">
              <a:off x="4419360" y="2781360"/>
              <a:ext cx="83880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43040" y="144360"/>
            <a:ext cx="8229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Aggreg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11360" y="851040"/>
            <a:ext cx="4216320" cy="1203120"/>
            <a:chOff x="711360" y="851040"/>
            <a:chExt cx="4216320" cy="1203120"/>
          </a:xfrm>
        </p:grpSpPr>
        <p:sp>
          <p:nvSpPr>
            <p:cNvPr id="439" name=""/>
            <p:cNvSpPr/>
            <p:nvPr/>
          </p:nvSpPr>
          <p:spPr>
            <a:xfrm>
              <a:off x="711360" y="855720"/>
              <a:ext cx="4216320" cy="1198440"/>
            </a:xfrm>
            <a:prstGeom prst="roundRect">
              <a:avLst>
                <a:gd name="adj" fmla="val 16667"/>
              </a:avLst>
            </a:prstGeom>
            <a:solidFill>
              <a:srgbClr val="e2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049640" y="1190880"/>
              <a:ext cx="711360" cy="399960"/>
              <a:chOff x="4049640" y="1190880"/>
              <a:chExt cx="711360" cy="399960"/>
            </a:xfrm>
          </p:grpSpPr>
          <p:sp>
            <p:nvSpPr>
              <p:cNvPr id="441" name=""/>
              <p:cNvSpPr/>
              <p:nvPr/>
            </p:nvSpPr>
            <p:spPr>
              <a:xfrm>
                <a:off x="4049640" y="1190880"/>
                <a:ext cx="711360" cy="399960"/>
              </a:xfrm>
              <a:prstGeom prst="rect">
                <a:avLst/>
              </a:prstGeom>
              <a:solidFill>
                <a:srgbClr val="00ff80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118760" y="1276560"/>
                <a:ext cx="584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150920" y="1181160"/>
              <a:ext cx="260280" cy="353880"/>
              <a:chOff x="1150920" y="1181160"/>
              <a:chExt cx="260280" cy="353880"/>
            </a:xfrm>
          </p:grpSpPr>
          <p:sp>
            <p:nvSpPr>
              <p:cNvPr id="444" name=""/>
              <p:cNvSpPr/>
              <p:nvPr/>
            </p:nvSpPr>
            <p:spPr>
              <a:xfrm>
                <a:off x="1222560" y="1181160"/>
                <a:ext cx="122040" cy="118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81240" y="1297080"/>
                <a:ext cx="14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85840" y="1328760"/>
                <a:ext cx="1904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50920" y="1406520"/>
                <a:ext cx="260280" cy="1285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941760" y="1616040"/>
              <a:ext cx="755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mpo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Facili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25560" y="1260720"/>
              <a:ext cx="487440" cy="25236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14440" y="1576440"/>
              <a:ext cx="1416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epa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mposi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32080" y="1393920"/>
              <a:ext cx="792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44760" y="1443240"/>
              <a:ext cx="1076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480" y="851040"/>
              <a:ext cx="28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Arial"/>
                </a:rPr>
                <a:t>Phase 1 – Prepare Com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92280" y="1576440"/>
            <a:ext cx="4265640" cy="3128400"/>
            <a:chOff x="692280" y="1576440"/>
            <a:chExt cx="4265640" cy="3128400"/>
          </a:xfrm>
        </p:grpSpPr>
        <p:sp>
          <p:nvSpPr>
            <p:cNvPr id="455" name=""/>
            <p:cNvSpPr/>
            <p:nvPr/>
          </p:nvSpPr>
          <p:spPr>
            <a:xfrm>
              <a:off x="692280" y="2198520"/>
              <a:ext cx="4265640" cy="2506320"/>
            </a:xfrm>
            <a:prstGeom prst="roundRect">
              <a:avLst>
                <a:gd name="adj" fmla="val 16667"/>
              </a:avLst>
            </a:prstGeom>
            <a:solidFill>
              <a:srgbClr val="e2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213000" y="4205160"/>
              <a:ext cx="895320" cy="480600"/>
              <a:chOff x="3213000" y="4205160"/>
              <a:chExt cx="895320" cy="480600"/>
            </a:xfrm>
          </p:grpSpPr>
          <p:sp>
            <p:nvSpPr>
              <p:cNvPr id="457" name=""/>
              <p:cNvSpPr/>
              <p:nvPr/>
            </p:nvSpPr>
            <p:spPr>
              <a:xfrm>
                <a:off x="3213000" y="4205160"/>
                <a:ext cx="895320" cy="480600"/>
              </a:xfrm>
              <a:prstGeom prst="rect">
                <a:avLst/>
              </a:prstGeom>
              <a:solidFill>
                <a:srgbClr val="00ff80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94000" y="4249440"/>
                <a:ext cx="78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ffffff"/>
                    </a:solidFill>
                    <a:latin typeface="Arial"/>
                  </a:rPr>
                  <a:t>Aggreg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81120" y="4441320"/>
                <a:ext cx="57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873080" y="3206520"/>
              <a:ext cx="482760" cy="24876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42400" y="3512880"/>
              <a:ext cx="662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Define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3960" y="3484440"/>
              <a:ext cx="487440" cy="25200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63640" y="3720960"/>
              <a:ext cx="805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nnect 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95760" y="3520800"/>
              <a:ext cx="484200" cy="24876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68680" y="3806640"/>
              <a:ext cx="851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KSC lay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67080" y="2931840"/>
              <a:ext cx="484200" cy="24732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57720" y="320652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2527200"/>
              <a:ext cx="487440" cy="25200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98000" y="2854080"/>
              <a:ext cx="816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Compo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ggre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960720" y="4146120"/>
              <a:ext cx="87480" cy="1440"/>
            </a:xfrm>
            <a:prstGeom prst="line">
              <a:avLst/>
            </a:prstGeom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226040" y="4163760"/>
              <a:ext cx="60120" cy="64800"/>
            </a:xfrm>
            <a:prstGeom prst="line">
              <a:avLst/>
            </a:prstGeom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190520" y="2449080"/>
              <a:ext cx="262080" cy="352080"/>
              <a:chOff x="1190520" y="2449080"/>
              <a:chExt cx="262080" cy="35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1265400" y="2449080"/>
                <a:ext cx="117360" cy="115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22280" y="2563200"/>
                <a:ext cx="180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27240" y="2594880"/>
                <a:ext cx="189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90520" y="2672640"/>
                <a:ext cx="262080" cy="1285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992520" y="287316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2327400" y="2766240"/>
              <a:ext cx="81252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057480" y="3184200"/>
              <a:ext cx="41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>
              <a:off x="3606480" y="3285720"/>
              <a:ext cx="17316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3504960" y="2685960"/>
              <a:ext cx="93492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381480" y="1576440"/>
              <a:ext cx="1108080" cy="87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74920" y="2655720"/>
              <a:ext cx="1482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stCxn id="467" idx="2"/>
              <a:endCxn id="457" idx="3"/>
            </p:cNvCxnSpPr>
            <p:nvPr/>
          </p:nvCxnSpPr>
          <p:spPr>
            <a:xfrm rot="5400000">
              <a:off x="3791880" y="3704760"/>
              <a:ext cx="1057680" cy="42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5" name=""/>
            <p:cNvSpPr/>
            <p:nvPr/>
          </p:nvSpPr>
          <p:spPr>
            <a:xfrm>
              <a:off x="796320" y="218268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 – Comp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25400" y="4446720"/>
            <a:ext cx="4254480" cy="1999440"/>
            <a:chOff x="725400" y="4446720"/>
            <a:chExt cx="4254480" cy="1999440"/>
          </a:xfrm>
        </p:grpSpPr>
        <p:sp>
          <p:nvSpPr>
            <p:cNvPr id="487" name=""/>
            <p:cNvSpPr/>
            <p:nvPr/>
          </p:nvSpPr>
          <p:spPr>
            <a:xfrm>
              <a:off x="725400" y="4751640"/>
              <a:ext cx="4254480" cy="1692000"/>
            </a:xfrm>
            <a:prstGeom prst="roundRect">
              <a:avLst>
                <a:gd name="adj" fmla="val 16667"/>
              </a:avLst>
            </a:prstGeom>
            <a:solidFill>
              <a:srgbClr val="e2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006800" y="4945320"/>
              <a:ext cx="924120" cy="469800"/>
              <a:chOff x="4006800" y="4945320"/>
              <a:chExt cx="924120" cy="469800"/>
            </a:xfrm>
          </p:grpSpPr>
          <p:sp>
            <p:nvSpPr>
              <p:cNvPr id="489" name=""/>
              <p:cNvSpPr/>
              <p:nvPr/>
            </p:nvSpPr>
            <p:spPr>
              <a:xfrm>
                <a:off x="4006800" y="4945320"/>
                <a:ext cx="924120" cy="469800"/>
              </a:xfrm>
              <a:prstGeom prst="rect">
                <a:avLst/>
              </a:prstGeom>
              <a:solidFill>
                <a:srgbClr val="00ff80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75200" y="4957920"/>
                <a:ext cx="755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ffffff"/>
                    </a:solidFill>
                    <a:latin typeface="Arial"/>
                  </a:rPr>
                  <a:t>Aggreg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84200" y="518040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stan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125880" y="5608800"/>
              <a:ext cx="487440" cy="25236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39600" y="5896080"/>
              <a:ext cx="125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ctivate 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3320" y="4865760"/>
              <a:ext cx="487080" cy="25236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27400" y="5162760"/>
              <a:ext cx="773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Prepa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ggreg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101600" y="4862520"/>
              <a:ext cx="262080" cy="353880"/>
              <a:chOff x="1101600" y="4862520"/>
              <a:chExt cx="262080" cy="353880"/>
            </a:xfrm>
          </p:grpSpPr>
          <p:sp>
            <p:nvSpPr>
              <p:cNvPr id="497" name=""/>
              <p:cNvSpPr/>
              <p:nvPr/>
            </p:nvSpPr>
            <p:spPr>
              <a:xfrm>
                <a:off x="1172880" y="4862520"/>
                <a:ext cx="122400" cy="118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231920" y="4979880"/>
                <a:ext cx="14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7960" y="501012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01600" y="5087880"/>
                <a:ext cx="262080" cy="1285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852480" y="5307120"/>
              <a:ext cx="998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dminist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86000" y="4953240"/>
              <a:ext cx="108720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" name=""/>
            <p:cNvCxnSpPr>
              <a:stCxn id="457" idx="1"/>
              <a:endCxn id="494" idx="0"/>
            </p:cNvCxnSpPr>
            <p:nvPr/>
          </p:nvCxnSpPr>
          <p:spPr>
            <a:xfrm flipV="1" rot="10800000">
              <a:off x="2687040" y="4446360"/>
              <a:ext cx="525960" cy="41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2936880" y="5021280"/>
              <a:ext cx="108576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2865240" y="5071680"/>
              <a:ext cx="48708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9720" y="6139080"/>
              <a:ext cx="274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Arial"/>
                </a:rPr>
                <a:t>Phase 3 – Prepare Expl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870440" y="838080"/>
            <a:ext cx="4146480" cy="4225680"/>
            <a:chOff x="4870440" y="838080"/>
            <a:chExt cx="4146480" cy="4225680"/>
          </a:xfrm>
        </p:grpSpPr>
        <p:sp>
          <p:nvSpPr>
            <p:cNvPr id="508" name=""/>
            <p:cNvSpPr/>
            <p:nvPr/>
          </p:nvSpPr>
          <p:spPr>
            <a:xfrm>
              <a:off x="5016600" y="853920"/>
              <a:ext cx="4000320" cy="4209840"/>
            </a:xfrm>
            <a:custGeom>
              <a:avLst/>
              <a:gdLst>
                <a:gd name="textAreaLeft" fmla="*/ 195120 w 4000320"/>
                <a:gd name="textAreaRight" fmla="*/ 3805200 w 4000320"/>
                <a:gd name="textAreaTop" fmla="*/ 195120 h 4209840"/>
                <a:gd name="textAreaBottom" fmla="*/ 4014720 h 4209840"/>
              </a:gdLst>
              <a:ahLst/>
              <a:rect l="textAreaLeft" t="textAreaTop" r="textAreaRight" b="textAreaBottom"/>
              <a:pathLst>
                <a:path w="21600" h="22731">
                  <a:moveTo>
                    <a:pt x="3600" y="0"/>
                  </a:moveTo>
                  <a:arcTo wR="3600" hR="3600" stAng="16200000" swAng="-5400000"/>
                  <a:lnTo>
                    <a:pt x="0" y="19131"/>
                  </a:lnTo>
                  <a:arcTo wR="3600" hR="3600" stAng="10800000" swAng="-5400000"/>
                  <a:lnTo>
                    <a:pt x="18000" y="227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2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5435640" y="1139400"/>
              <a:ext cx="954000" cy="490320"/>
              <a:chOff x="5435640" y="1139400"/>
              <a:chExt cx="954000" cy="490320"/>
            </a:xfrm>
          </p:grpSpPr>
          <p:sp>
            <p:nvSpPr>
              <p:cNvPr id="510" name=""/>
              <p:cNvSpPr/>
              <p:nvPr/>
            </p:nvSpPr>
            <p:spPr>
              <a:xfrm>
                <a:off x="5435640" y="1139400"/>
                <a:ext cx="954000" cy="490320"/>
              </a:xfrm>
              <a:prstGeom prst="rect">
                <a:avLst/>
              </a:prstGeom>
              <a:solidFill>
                <a:srgbClr val="00ff80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573880" y="1193400"/>
                <a:ext cx="7110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ffffff"/>
                    </a:solidFill>
                    <a:latin typeface="Arial"/>
                  </a:rPr>
                  <a:t>Explor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ffffff"/>
                    </a:solidFill>
                    <a:latin typeface="Arial"/>
                  </a:rPr>
                  <a:t>Produ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7213680" y="1461960"/>
              <a:ext cx="669960" cy="399960"/>
              <a:chOff x="7213680" y="1461960"/>
              <a:chExt cx="669960" cy="399960"/>
            </a:xfrm>
          </p:grpSpPr>
          <p:sp>
            <p:nvSpPr>
              <p:cNvPr id="513" name=""/>
              <p:cNvSpPr/>
              <p:nvPr/>
            </p:nvSpPr>
            <p:spPr>
              <a:xfrm>
                <a:off x="7213680" y="1461960"/>
                <a:ext cx="669960" cy="399960"/>
              </a:xfrm>
              <a:prstGeom prst="rect">
                <a:avLst/>
              </a:prstGeom>
              <a:solidFill>
                <a:srgbClr val="00ff80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02960" y="1568160"/>
                <a:ext cx="494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a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7311960" y="2215800"/>
              <a:ext cx="484200" cy="24768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2760" y="2528640"/>
              <a:ext cx="73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U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6720" y="1968120"/>
              <a:ext cx="487440" cy="25092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2400" y="230328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35400" y="2077920"/>
              <a:ext cx="484200" cy="24912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54760" y="2371320"/>
              <a:ext cx="66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no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942240" y="3114360"/>
              <a:ext cx="621000" cy="608400"/>
              <a:chOff x="6942240" y="3114360"/>
              <a:chExt cx="621000" cy="60840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7069320" y="3114360"/>
                <a:ext cx="260280" cy="353880"/>
                <a:chOff x="7069320" y="3114360"/>
                <a:chExt cx="260280" cy="353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140600" y="3114360"/>
                  <a:ext cx="122400" cy="1191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199280" y="3230280"/>
                  <a:ext cx="1800" cy="109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104240" y="3261960"/>
                  <a:ext cx="19044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69320" y="3339720"/>
                  <a:ext cx="260280" cy="128520"/>
                </a:xfrm>
                <a:custGeom>
                  <a:avLst/>
                  <a:gdLst/>
                  <a:ahLst/>
                  <a:rect l="l" t="t" r="r" b="b"/>
                  <a:pathLst>
                    <a:path w="108" h="54">
                      <a:moveTo>
                        <a:pt x="0" y="54"/>
                      </a:moveTo>
                      <a:lnTo>
                        <a:pt x="54" y="0"/>
                      </a:lnTo>
                      <a:lnTo>
                        <a:pt x="108" y="5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942240" y="3539880"/>
                <a:ext cx="621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xplor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959600" y="3928680"/>
              <a:ext cx="484200" cy="24948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70600" y="4182840"/>
              <a:ext cx="110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Save and 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200920" y="3255840"/>
              <a:ext cx="1053720" cy="457560"/>
              <a:chOff x="5200920" y="3255840"/>
              <a:chExt cx="1053720" cy="457560"/>
            </a:xfrm>
          </p:grpSpPr>
          <p:sp>
            <p:nvSpPr>
              <p:cNvPr id="531" name=""/>
              <p:cNvSpPr/>
              <p:nvPr/>
            </p:nvSpPr>
            <p:spPr>
              <a:xfrm>
                <a:off x="5481360" y="3255840"/>
                <a:ext cx="484200" cy="24948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30520"/>
                <a:ext cx="1053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Use aggreg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554800" y="4398840"/>
              <a:ext cx="975960" cy="508320"/>
              <a:chOff x="5554800" y="4398840"/>
              <a:chExt cx="975960" cy="508320"/>
            </a:xfrm>
          </p:grpSpPr>
          <p:sp>
            <p:nvSpPr>
              <p:cNvPr id="534" name=""/>
              <p:cNvSpPr/>
              <p:nvPr/>
            </p:nvSpPr>
            <p:spPr>
              <a:xfrm>
                <a:off x="5779800" y="4398840"/>
                <a:ext cx="484200" cy="249120"/>
              </a:xfrm>
              <a:prstGeom prst="ellipse">
                <a:avLst/>
              </a:prstGeom>
              <a:solidFill>
                <a:srgbClr val="ffffcc"/>
              </a:solidFill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54800" y="4724280"/>
                <a:ext cx="975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s supp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7171200" y="4236840"/>
              <a:ext cx="730800" cy="788760"/>
              <a:chOff x="7171200" y="4236840"/>
              <a:chExt cx="730800" cy="78876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7346880" y="4236840"/>
                <a:ext cx="261720" cy="351720"/>
                <a:chOff x="7346880" y="4236840"/>
                <a:chExt cx="261720" cy="3517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7421400" y="4236840"/>
                  <a:ext cx="117360" cy="1155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78640" y="4350960"/>
                  <a:ext cx="144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383240" y="4382640"/>
                  <a:ext cx="189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346880" y="4460400"/>
                  <a:ext cx="261720" cy="128160"/>
                </a:xfrm>
                <a:custGeom>
                  <a:avLst/>
                  <a:gdLst/>
                  <a:ahLst/>
                  <a:rect l="l" t="t" r="r" b="b"/>
                  <a:pathLst>
                    <a:path w="108" h="54">
                      <a:moveTo>
                        <a:pt x="0" y="54"/>
                      </a:moveTo>
                      <a:lnTo>
                        <a:pt x="54" y="0"/>
                      </a:lnTo>
                      <a:lnTo>
                        <a:pt x="108" y="5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7171200" y="4660200"/>
                <a:ext cx="730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Explor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CA" sz="1200" spc="-1" strike="noStrike">
                    <a:solidFill>
                      <a:srgbClr val="000000"/>
                    </a:solidFill>
                    <a:latin typeface="Arial"/>
                  </a:rPr>
                  <a:t>Facilit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 flipH="1" flipV="1">
              <a:off x="6066000" y="1615680"/>
              <a:ext cx="24264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5335560" y="1637640"/>
              <a:ext cx="36504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7571880" y="1872720"/>
              <a:ext cx="1116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986080" y="3368520"/>
              <a:ext cx="105876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5325840" y="2555280"/>
              <a:ext cx="31572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888160" y="2496960"/>
              <a:ext cx="53640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22800" y="2754000"/>
              <a:ext cx="115596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56400" y="3809880"/>
              <a:ext cx="22356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83600" y="3812760"/>
              <a:ext cx="54900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303600" y="4519440"/>
              <a:ext cx="105876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" name=""/>
            <p:cNvCxnSpPr>
              <a:stCxn id="513" idx="3"/>
              <a:endCxn id="528" idx="0"/>
            </p:cNvCxnSpPr>
            <p:nvPr/>
          </p:nvCxnSpPr>
          <p:spPr>
            <a:xfrm>
              <a:off x="7883640" y="1661400"/>
              <a:ext cx="319680" cy="22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4" name=""/>
            <p:cNvCxnSpPr>
              <a:stCxn id="510" idx="3"/>
              <a:endCxn id="528" idx="0"/>
            </p:cNvCxnSpPr>
            <p:nvPr/>
          </p:nvCxnSpPr>
          <p:spPr>
            <a:xfrm>
              <a:off x="6389640" y="1385640"/>
              <a:ext cx="1813680" cy="254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5" name=""/>
            <p:cNvSpPr/>
            <p:nvPr/>
          </p:nvSpPr>
          <p:spPr>
            <a:xfrm>
              <a:off x="5349240" y="838080"/>
              <a:ext cx="16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4 –Expl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870440" y="3735000"/>
              <a:ext cx="638280" cy="12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137200" y="4365720"/>
            <a:ext cx="3797280" cy="2320920"/>
            <a:chOff x="5137200" y="4365720"/>
            <a:chExt cx="3797280" cy="2320920"/>
          </a:xfrm>
        </p:grpSpPr>
        <p:sp>
          <p:nvSpPr>
            <p:cNvPr id="558" name=""/>
            <p:cNvSpPr/>
            <p:nvPr/>
          </p:nvSpPr>
          <p:spPr>
            <a:xfrm>
              <a:off x="5137200" y="5159520"/>
              <a:ext cx="3797280" cy="1527120"/>
            </a:xfrm>
            <a:prstGeom prst="roundRect">
              <a:avLst>
                <a:gd name="adj" fmla="val 16667"/>
              </a:avLst>
            </a:prstGeom>
            <a:solidFill>
              <a:srgbClr val="e2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10200" y="5218200"/>
              <a:ext cx="484200" cy="247680"/>
            </a:xfrm>
            <a:prstGeom prst="ellipse">
              <a:avLst/>
            </a:prstGeom>
            <a:solidFill>
              <a:srgbClr val="ffffcc"/>
            </a:solidFill>
            <a:ln w="3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61560" y="5491080"/>
              <a:ext cx="164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Load /Analyse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846920" y="5757840"/>
              <a:ext cx="261720" cy="354240"/>
              <a:chOff x="7846920" y="5757840"/>
              <a:chExt cx="261720" cy="354240"/>
            </a:xfrm>
          </p:grpSpPr>
          <p:sp>
            <p:nvSpPr>
              <p:cNvPr id="562" name=""/>
              <p:cNvSpPr/>
              <p:nvPr/>
            </p:nvSpPr>
            <p:spPr>
              <a:xfrm>
                <a:off x="7920000" y="5757840"/>
                <a:ext cx="120600" cy="119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976880" y="5873760"/>
                <a:ext cx="180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83280" y="590580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846920" y="5983560"/>
                <a:ext cx="261720" cy="1285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7660800" y="625320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naly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39000" y="6139080"/>
              <a:ext cx="487080" cy="25056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03640" y="6464520"/>
              <a:ext cx="86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Refere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9" name=""/>
            <p:cNvCxnSpPr>
              <a:stCxn id="529" idx="2"/>
              <a:endCxn id="559" idx="6"/>
            </p:cNvCxnSpPr>
            <p:nvPr/>
          </p:nvCxnSpPr>
          <p:spPr>
            <a:xfrm rot="5400000">
              <a:off x="6920640" y="3938400"/>
              <a:ext cx="977040" cy="18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0" name=""/>
            <p:cNvSpPr/>
            <p:nvPr/>
          </p:nvSpPr>
          <p:spPr>
            <a:xfrm flipH="1" flipV="1">
              <a:off x="6749640" y="5703840"/>
              <a:ext cx="986040" cy="38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6643800" y="6294240"/>
              <a:ext cx="9856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48720" y="5789880"/>
              <a:ext cx="167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Arial"/>
                </a:rPr>
                <a:t>Phase 5 –Analy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-1800" y="2801880"/>
            <a:ext cx="5822640" cy="3762360"/>
            <a:chOff x="-1800" y="2801880"/>
            <a:chExt cx="5822640" cy="3762360"/>
          </a:xfrm>
        </p:grpSpPr>
        <p:sp>
          <p:nvSpPr>
            <p:cNvPr id="574" name=""/>
            <p:cNvSpPr/>
            <p:nvPr/>
          </p:nvSpPr>
          <p:spPr>
            <a:xfrm>
              <a:off x="141120" y="5923080"/>
              <a:ext cx="487440" cy="252360"/>
            </a:xfrm>
            <a:prstGeom prst="ellipse">
              <a:avLst/>
            </a:prstGeom>
            <a:solidFill>
              <a:srgbClr val="ffffcc"/>
            </a:solidFill>
            <a:ln w="1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-1800" y="6189840"/>
              <a:ext cx="730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Modif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Arial"/>
                </a:rPr>
                <a:t>aggre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802800" y="6554880"/>
              <a:ext cx="5018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"/>
            <p:cNvCxnSpPr>
              <a:stCxn id="476" idx="0"/>
              <a:endCxn id="574" idx="0"/>
            </p:cNvCxnSpPr>
            <p:nvPr/>
          </p:nvCxnSpPr>
          <p:spPr>
            <a:xfrm flipV="1" rot="10800000">
              <a:off x="385200" y="2801520"/>
              <a:ext cx="791280" cy="312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85345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3880" y="434340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3880" y="2666880"/>
            <a:ext cx="59436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1295280"/>
            <a:ext cx="59436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nctional LKM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2743200"/>
            <a:ext cx="914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342900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43200" y="342900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16765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144792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77120" y="2286000"/>
            <a:ext cx="838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6520" y="2209680"/>
            <a:ext cx="838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6" idx="1"/>
            <a:endCxn id="587" idx="3"/>
          </p:cNvCxnSpPr>
          <p:nvPr/>
        </p:nvCxnSpPr>
        <p:spPr>
          <a:xfrm flipH="1" flipV="1">
            <a:off x="3657240" y="1675800"/>
            <a:ext cx="3816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83" idx="1"/>
            <a:endCxn id="590" idx="2"/>
          </p:cNvCxnSpPr>
          <p:nvPr/>
        </p:nvCxnSpPr>
        <p:spPr>
          <a:xfrm flipH="1" flipV="1">
            <a:off x="2094840" y="2818800"/>
            <a:ext cx="1943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83" idx="3"/>
            <a:endCxn id="589" idx="2"/>
          </p:cNvCxnSpPr>
          <p:nvPr/>
        </p:nvCxnSpPr>
        <p:spPr>
          <a:xfrm flipV="1">
            <a:off x="4952880" y="2895120"/>
            <a:ext cx="19440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86" idx="3"/>
            <a:endCxn id="588" idx="1"/>
          </p:cNvCxnSpPr>
          <p:nvPr/>
        </p:nvCxnSpPr>
        <p:spPr>
          <a:xfrm flipV="1">
            <a:off x="4952520" y="167580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5" idx="0"/>
            <a:endCxn id="587" idx="2"/>
          </p:cNvCxnSpPr>
          <p:nvPr/>
        </p:nvCxnSpPr>
        <p:spPr>
          <a:xfrm flipV="1">
            <a:off x="3200040" y="1904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88" idx="2"/>
            <a:endCxn id="584" idx="0"/>
          </p:cNvCxnSpPr>
          <p:nvPr/>
        </p:nvCxnSpPr>
        <p:spPr>
          <a:xfrm>
            <a:off x="5714640" y="19047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85" idx="0"/>
            <a:endCxn id="583" idx="1"/>
          </p:cNvCxnSpPr>
          <p:nvPr/>
        </p:nvCxnSpPr>
        <p:spPr>
          <a:xfrm flipV="1">
            <a:off x="3200400" y="304776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83" idx="3"/>
            <a:endCxn id="584" idx="0"/>
          </p:cNvCxnSpPr>
          <p:nvPr/>
        </p:nvCxnSpPr>
        <p:spPr>
          <a:xfrm>
            <a:off x="4952520" y="3048120"/>
            <a:ext cx="762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86" idx="2"/>
            <a:endCxn id="583" idx="0"/>
          </p:cNvCxnSpPr>
          <p:nvPr/>
        </p:nvCxnSpPr>
        <p:spPr>
          <a:xfrm>
            <a:off x="4495320" y="21333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0" name=""/>
          <p:cNvCxnSpPr>
            <a:stCxn id="587" idx="2"/>
            <a:endCxn id="583" idx="1"/>
          </p:cNvCxnSpPr>
          <p:nvPr/>
        </p:nvCxnSpPr>
        <p:spPr>
          <a:xfrm>
            <a:off x="3200400" y="190476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" name=""/>
          <p:cNvCxnSpPr>
            <a:stCxn id="588" idx="2"/>
            <a:endCxn id="583" idx="3"/>
          </p:cNvCxnSpPr>
          <p:nvPr/>
        </p:nvCxnSpPr>
        <p:spPr>
          <a:xfrm flipH="1">
            <a:off x="4952160" y="1904760"/>
            <a:ext cx="7628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590" idx="3"/>
            <a:endCxn id="586" idx="1"/>
          </p:cNvCxnSpPr>
          <p:nvPr/>
        </p:nvCxnSpPr>
        <p:spPr>
          <a:xfrm flipV="1">
            <a:off x="2514240" y="1904400"/>
            <a:ext cx="1524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"/>
          <p:cNvCxnSpPr>
            <a:stCxn id="589" idx="1"/>
            <a:endCxn id="586" idx="3"/>
          </p:cNvCxnSpPr>
          <p:nvPr/>
        </p:nvCxnSpPr>
        <p:spPr>
          <a:xfrm flipH="1" flipV="1">
            <a:off x="4952520" y="1904400"/>
            <a:ext cx="1524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1523880" y="5867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5867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5867280"/>
            <a:ext cx="8384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342900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772400" y="5867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5867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83520" y="138276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3040" y="396252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41280" y="441972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434340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585" idx="2"/>
            <a:endCxn id="604" idx="0"/>
          </p:cNvCxnSpPr>
          <p:nvPr/>
        </p:nvCxnSpPr>
        <p:spPr>
          <a:xfrm flipH="1">
            <a:off x="1980360" y="4114800"/>
            <a:ext cx="122004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7" idx="2"/>
            <a:endCxn id="605" idx="0"/>
          </p:cNvCxnSpPr>
          <p:nvPr/>
        </p:nvCxnSpPr>
        <p:spPr>
          <a:xfrm flipH="1">
            <a:off x="3657240" y="4114800"/>
            <a:ext cx="83880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584" idx="2"/>
            <a:endCxn id="606" idx="0"/>
          </p:cNvCxnSpPr>
          <p:nvPr/>
        </p:nvCxnSpPr>
        <p:spPr>
          <a:xfrm>
            <a:off x="5715000" y="4114800"/>
            <a:ext cx="102960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9" idx="0"/>
            <a:endCxn id="590" idx="2"/>
          </p:cNvCxnSpPr>
          <p:nvPr/>
        </p:nvCxnSpPr>
        <p:spPr>
          <a:xfrm flipV="1">
            <a:off x="685800" y="2819160"/>
            <a:ext cx="1410480" cy="30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08" idx="0"/>
            <a:endCxn id="589" idx="2"/>
          </p:cNvCxnSpPr>
          <p:nvPr/>
        </p:nvCxnSpPr>
        <p:spPr>
          <a:xfrm flipH="1" flipV="1">
            <a:off x="6895800" y="2894760"/>
            <a:ext cx="133416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9" name=""/>
          <p:cNvSpPr/>
          <p:nvPr/>
        </p:nvSpPr>
        <p:spPr>
          <a:xfrm>
            <a:off x="4876920" y="58672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583" idx="2"/>
            <a:endCxn id="619" idx="0"/>
          </p:cNvCxnSpPr>
          <p:nvPr/>
        </p:nvCxnSpPr>
        <p:spPr>
          <a:xfrm>
            <a:off x="4495320" y="3352320"/>
            <a:ext cx="8391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1" name=""/>
          <p:cNvSpPr/>
          <p:nvPr/>
        </p:nvSpPr>
        <p:spPr>
          <a:xfrm>
            <a:off x="457560" y="1752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7560" y="30481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1960" y="4419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925560" y="857160"/>
            <a:ext cx="118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69880" y="1596960"/>
            <a:ext cx="2662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990720"/>
            <a:ext cx="4572000" cy="3124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280" y="533520"/>
            <a:ext cx="1905120" cy="54864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5486400"/>
              <a:gd name="textAreaBottom" fmla="*/ 5393520 h 5486400"/>
            </a:gdLst>
            <a:ahLst/>
            <a:rect l="textAreaLeft" t="textAreaTop" r="textAreaRight" b="textAreaBottom"/>
            <a:pathLst>
              <a:path w="21600" h="62196">
                <a:moveTo>
                  <a:pt x="3600" y="0"/>
                </a:moveTo>
                <a:arcTo wR="3600" hR="3600" stAng="16200000" swAng="-5400000"/>
                <a:lnTo>
                  <a:pt x="0" y="58596"/>
                </a:lnTo>
                <a:arcTo wR="3600" hR="3600" stAng="10800000" swAng="-5400000"/>
                <a:lnTo>
                  <a:pt x="18000" y="62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9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Prototype demonstration : an integrative story</a:t>
            </a:r>
            <a:endParaRPr b="0" lang="en-US" sz="2400" spc="-1" strike="noStrike">
              <a:solidFill>
                <a:srgbClr val="7a5094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13716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function 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00400" y="2590920"/>
            <a:ext cx="106668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09680" y="2286000"/>
            <a:ext cx="60984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0" y="1371600"/>
            <a:ext cx="106668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function 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0" y="2590920"/>
            <a:ext cx="114300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19920" y="2362320"/>
            <a:ext cx="60948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1" idx="6"/>
            <a:endCxn id="629" idx="1"/>
          </p:cNvCxnSpPr>
          <p:nvPr/>
        </p:nvCxnSpPr>
        <p:spPr>
          <a:xfrm flipV="1">
            <a:off x="2819520" y="1866240"/>
            <a:ext cx="3816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1" idx="6"/>
            <a:endCxn id="630" idx="1"/>
          </p:cNvCxnSpPr>
          <p:nvPr/>
        </p:nvCxnSpPr>
        <p:spPr>
          <a:xfrm>
            <a:off x="2819520" y="2628720"/>
            <a:ext cx="38160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34" idx="1"/>
            <a:endCxn id="632" idx="3"/>
          </p:cNvCxnSpPr>
          <p:nvPr/>
        </p:nvCxnSpPr>
        <p:spPr>
          <a:xfrm flipH="1" flipV="1">
            <a:off x="5638320" y="1866240"/>
            <a:ext cx="470880" cy="59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4" idx="3"/>
            <a:endCxn id="633" idx="3"/>
          </p:cNvCxnSpPr>
          <p:nvPr/>
        </p:nvCxnSpPr>
        <p:spPr>
          <a:xfrm flipH="1">
            <a:off x="5714640" y="2947680"/>
            <a:ext cx="39456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29" idx="3"/>
            <a:endCxn id="632" idx="1"/>
          </p:cNvCxnSpPr>
          <p:nvPr/>
        </p:nvCxnSpPr>
        <p:spPr>
          <a:xfrm>
            <a:off x="4266720" y="18666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0" idx="3"/>
            <a:endCxn id="633" idx="1"/>
          </p:cNvCxnSpPr>
          <p:nvPr/>
        </p:nvCxnSpPr>
        <p:spPr>
          <a:xfrm>
            <a:off x="4266720" y="31237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29" idx="2"/>
            <a:endCxn id="630" idx="0"/>
          </p:cNvCxnSpPr>
          <p:nvPr/>
        </p:nvCxnSpPr>
        <p:spPr>
          <a:xfrm>
            <a:off x="3733560" y="2361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"/>
          <p:cNvCxnSpPr>
            <a:stCxn id="632" idx="2"/>
            <a:endCxn id="633" idx="0"/>
          </p:cNvCxnSpPr>
          <p:nvPr/>
        </p:nvCxnSpPr>
        <p:spPr>
          <a:xfrm>
            <a:off x="5105520" y="2361960"/>
            <a:ext cx="38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52280" y="533520"/>
            <a:ext cx="1828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core constr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KMS cons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KMS instan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KMA create (glob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a Prepare K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b PrepareKM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c Prepare K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a Declare U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b DeclareUM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a  Prepar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a  Declare 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 Edit F (glob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1 Intercep (glob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1.1 Inter K 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1.2 Inter P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1.3 Inter R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 Define F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.1 DefineA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.2 DefineU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.3 DefineR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.4 Define S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2.5 DefineC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Declare inst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Ada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Act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Exp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Analy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62520" y="4952880"/>
            <a:ext cx="914400" cy="1067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34320" y="457200"/>
            <a:ext cx="1904760" cy="563868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638680"/>
              <a:gd name="textAreaBottom" fmla="*/ 5545800 h 5638680"/>
            </a:gdLst>
            <a:ahLst/>
            <a:rect l="textAreaLeft" t="textAreaTop" r="textAreaRight" b="textAreaBottom"/>
            <a:pathLst>
              <a:path w="21600" h="63935">
                <a:moveTo>
                  <a:pt x="3600" y="0"/>
                </a:moveTo>
                <a:arcTo wR="3600" hR="3600" stAng="16200000" swAng="-5400000"/>
                <a:lnTo>
                  <a:pt x="0" y="60335"/>
                </a:lnTo>
                <a:arcTo wR="3600" hR="3600" stAng="10800000" swAng="-5400000"/>
                <a:lnTo>
                  <a:pt x="18000" y="639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6600" y="533520"/>
            <a:ext cx="175248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 observe, navigate, con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 declare adv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A operation batc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 post and ante operation ad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S  verify by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S(K)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R launch; intercept,  ti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R concretize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R(K) competence driven con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U person and category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U access by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U(K)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 by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U(K)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retiz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etence dri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C aggregate actor and multi-actor floo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C(K) competence driven user m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(K)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sour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a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44" idx="0"/>
            <a:endCxn id="626" idx="4"/>
          </p:cNvCxnSpPr>
          <p:nvPr/>
        </p:nvCxnSpPr>
        <p:spPr>
          <a:xfrm flipV="1">
            <a:off x="4419360" y="411444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4" idx="0"/>
            <a:endCxn id="643" idx="3"/>
          </p:cNvCxnSpPr>
          <p:nvPr/>
        </p:nvCxnSpPr>
        <p:spPr>
          <a:xfrm flipH="1" flipV="1">
            <a:off x="1981080" y="3134520"/>
            <a:ext cx="2439000" cy="18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44" idx="0"/>
            <a:endCxn id="645" idx="1"/>
          </p:cNvCxnSpPr>
          <p:nvPr/>
        </p:nvCxnSpPr>
        <p:spPr>
          <a:xfrm flipV="1">
            <a:off x="4419360" y="3276360"/>
            <a:ext cx="251532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0" idx="2"/>
            <a:endCxn id="643" idx="2"/>
          </p:cNvCxnSpPr>
          <p:nvPr/>
        </p:nvCxnSpPr>
        <p:spPr>
          <a:xfrm flipH="1">
            <a:off x="1065960" y="3657240"/>
            <a:ext cx="2667960" cy="20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32" idx="0"/>
            <a:endCxn id="646" idx="0"/>
          </p:cNvCxnSpPr>
          <p:nvPr/>
        </p:nvCxnSpPr>
        <p:spPr>
          <a:xfrm flipV="1">
            <a:off x="5105160" y="533160"/>
            <a:ext cx="28580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29" idx="0"/>
            <a:endCxn id="646" idx="0"/>
          </p:cNvCxnSpPr>
          <p:nvPr/>
        </p:nvCxnSpPr>
        <p:spPr>
          <a:xfrm flipV="1">
            <a:off x="3733560" y="533160"/>
            <a:ext cx="42296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3" idx="2"/>
            <a:endCxn id="643" idx="2"/>
          </p:cNvCxnSpPr>
          <p:nvPr/>
        </p:nvCxnSpPr>
        <p:spPr>
          <a:xfrm flipH="1">
            <a:off x="1065960" y="3657240"/>
            <a:ext cx="4077720" cy="20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8642520" y="610704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53352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Demonstration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52280" y="533520"/>
            <a:ext cx="838440" cy="1218960"/>
            <a:chOff x="152280" y="533520"/>
            <a:chExt cx="838440" cy="1218960"/>
          </a:xfrm>
        </p:grpSpPr>
        <p:sp>
          <p:nvSpPr>
            <p:cNvPr id="657" name=""/>
            <p:cNvSpPr/>
            <p:nvPr/>
          </p:nvSpPr>
          <p:spPr>
            <a:xfrm>
              <a:off x="152280" y="1219320"/>
              <a:ext cx="83844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s c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600" y="5335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8" idx="2"/>
              <a:endCxn id="657" idx="0"/>
            </p:cNvCxnSpPr>
            <p:nvPr/>
          </p:nvCxnSpPr>
          <p:spPr>
            <a:xfrm>
              <a:off x="53352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660" name=""/>
          <p:cNvGrpSpPr/>
          <p:nvPr/>
        </p:nvGrpSpPr>
        <p:grpSpPr>
          <a:xfrm>
            <a:off x="990360" y="533520"/>
            <a:ext cx="1067040" cy="1218960"/>
            <a:chOff x="990360" y="533520"/>
            <a:chExt cx="1067040" cy="1218960"/>
          </a:xfrm>
        </p:grpSpPr>
        <p:sp>
          <p:nvSpPr>
            <p:cNvPr id="661" name=""/>
            <p:cNvSpPr/>
            <p:nvPr/>
          </p:nvSpPr>
          <p:spPr>
            <a:xfrm>
              <a:off x="1219320" y="1219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s LK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95280" y="53352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chnolog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62" idx="2"/>
              <a:endCxn id="661" idx="0"/>
            </p:cNvCxnSpPr>
            <p:nvPr/>
          </p:nvCxnSpPr>
          <p:spPr>
            <a:xfrm>
              <a:off x="160020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endCxn id="661" idx="2"/>
            </p:cNvCxnSpPr>
            <p:nvPr/>
          </p:nvCxnSpPr>
          <p:spPr>
            <a:xfrm>
              <a:off x="990360" y="1485720"/>
              <a:ext cx="22932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grpSp>
        <p:nvGrpSpPr>
          <p:cNvPr id="665" name=""/>
          <p:cNvGrpSpPr/>
          <p:nvPr/>
        </p:nvGrpSpPr>
        <p:grpSpPr>
          <a:xfrm>
            <a:off x="2057040" y="533520"/>
            <a:ext cx="1067040" cy="1218960"/>
            <a:chOff x="2057040" y="533520"/>
            <a:chExt cx="1067040" cy="1218960"/>
          </a:xfrm>
        </p:grpSpPr>
        <p:sp>
          <p:nvSpPr>
            <p:cNvPr id="666" name=""/>
            <p:cNvSpPr/>
            <p:nvPr/>
          </p:nvSpPr>
          <p:spPr>
            <a:xfrm>
              <a:off x="2286000" y="1219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ameteriz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KMS 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7" name=""/>
            <p:cNvCxnSpPr>
              <a:endCxn id="666" idx="2"/>
            </p:cNvCxnSpPr>
            <p:nvPr/>
          </p:nvCxnSpPr>
          <p:spPr>
            <a:xfrm>
              <a:off x="2057040" y="1485720"/>
              <a:ext cx="22932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sp>
          <p:nvSpPr>
            <p:cNvPr id="668" name=""/>
            <p:cNvSpPr/>
            <p:nvPr/>
          </p:nvSpPr>
          <p:spPr>
            <a:xfrm>
              <a:off x="2438280" y="53352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9" name=""/>
            <p:cNvCxnSpPr>
              <a:stCxn id="668" idx="2"/>
              <a:endCxn id="666" idx="0"/>
            </p:cNvCxnSpPr>
            <p:nvPr/>
          </p:nvCxnSpPr>
          <p:spPr>
            <a:xfrm flipH="1">
              <a:off x="270468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670" name=""/>
          <p:cNvGrpSpPr/>
          <p:nvPr/>
        </p:nvGrpSpPr>
        <p:grpSpPr>
          <a:xfrm>
            <a:off x="3123720" y="533520"/>
            <a:ext cx="1067400" cy="1218960"/>
            <a:chOff x="3123720" y="533520"/>
            <a:chExt cx="1067400" cy="1218960"/>
          </a:xfrm>
        </p:grpSpPr>
        <p:sp>
          <p:nvSpPr>
            <p:cNvPr id="671" name=""/>
            <p:cNvSpPr/>
            <p:nvPr/>
          </p:nvSpPr>
          <p:spPr>
            <a:xfrm>
              <a:off x="3352680" y="1219320"/>
              <a:ext cx="83844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KM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29000" y="5335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72" idx="2"/>
              <a:endCxn id="671" idx="0"/>
            </p:cNvCxnSpPr>
            <p:nvPr/>
          </p:nvCxnSpPr>
          <p:spPr>
            <a:xfrm>
              <a:off x="373392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endCxn id="671" idx="2"/>
            </p:cNvCxnSpPr>
            <p:nvPr/>
          </p:nvCxnSpPr>
          <p:spPr>
            <a:xfrm>
              <a:off x="3123720" y="1485720"/>
              <a:ext cx="22932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grpSp>
        <p:nvGrpSpPr>
          <p:cNvPr id="675" name=""/>
          <p:cNvGrpSpPr/>
          <p:nvPr/>
        </p:nvGrpSpPr>
        <p:grpSpPr>
          <a:xfrm>
            <a:off x="0" y="1752120"/>
            <a:ext cx="3772080" cy="3048480"/>
            <a:chOff x="0" y="1752120"/>
            <a:chExt cx="3772080" cy="3048480"/>
          </a:xfrm>
        </p:grpSpPr>
        <p:sp>
          <p:nvSpPr>
            <p:cNvPr id="676" name=""/>
            <p:cNvSpPr/>
            <p:nvPr/>
          </p:nvSpPr>
          <p:spPr>
            <a:xfrm>
              <a:off x="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1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K-M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7" name=""/>
            <p:cNvCxnSpPr>
              <a:endCxn id="676" idx="0"/>
            </p:cNvCxnSpPr>
            <p:nvPr/>
          </p:nvCxnSpPr>
          <p:spPr>
            <a:xfrm flipH="1">
              <a:off x="418680" y="1752120"/>
              <a:ext cx="335376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8" name=""/>
            <p:cNvSpPr/>
            <p:nvPr/>
          </p:nvSpPr>
          <p:spPr>
            <a:xfrm>
              <a:off x="152280" y="434340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9" name=""/>
            <p:cNvCxnSpPr>
              <a:stCxn id="678" idx="0"/>
              <a:endCxn id="676" idx="4"/>
            </p:cNvCxnSpPr>
            <p:nvPr/>
          </p:nvCxnSpPr>
          <p:spPr>
            <a:xfrm flipH="1" flipV="1">
              <a:off x="418680" y="3123360"/>
              <a:ext cx="3888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9144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K-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"/>
            <p:cNvCxnSpPr>
              <a:endCxn id="680" idx="1"/>
            </p:cNvCxnSpPr>
            <p:nvPr/>
          </p:nvCxnSpPr>
          <p:spPr>
            <a:xfrm flipH="1">
              <a:off x="1036440" y="1752120"/>
              <a:ext cx="2736000" cy="91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2" name=""/>
            <p:cNvCxnSpPr>
              <a:stCxn id="678" idx="0"/>
              <a:endCxn id="680" idx="4"/>
            </p:cNvCxnSpPr>
            <p:nvPr/>
          </p:nvCxnSpPr>
          <p:spPr>
            <a:xfrm flipV="1">
              <a:off x="457200" y="3123360"/>
              <a:ext cx="87696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683" name=""/>
            <p:cNvSpPr/>
            <p:nvPr/>
          </p:nvSpPr>
          <p:spPr>
            <a:xfrm>
              <a:off x="18288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1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K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4" name=""/>
            <p:cNvCxnSpPr>
              <a:endCxn id="683" idx="1"/>
            </p:cNvCxnSpPr>
            <p:nvPr/>
          </p:nvCxnSpPr>
          <p:spPr>
            <a:xfrm flipH="1">
              <a:off x="1950840" y="1752120"/>
              <a:ext cx="1821600" cy="91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5" name=""/>
            <p:cNvCxnSpPr>
              <a:stCxn id="678" idx="0"/>
              <a:endCxn id="683" idx="4"/>
            </p:cNvCxnSpPr>
            <p:nvPr/>
          </p:nvCxnSpPr>
          <p:spPr>
            <a:xfrm flipV="1">
              <a:off x="457200" y="3123360"/>
              <a:ext cx="179136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686" name=""/>
          <p:cNvGrpSpPr/>
          <p:nvPr/>
        </p:nvGrpSpPr>
        <p:grpSpPr>
          <a:xfrm>
            <a:off x="1143000" y="1752120"/>
            <a:ext cx="3352680" cy="3048480"/>
            <a:chOff x="1143000" y="1752120"/>
            <a:chExt cx="3352680" cy="3048480"/>
          </a:xfrm>
        </p:grpSpPr>
        <p:cxnSp>
          <p:nvCxnSpPr>
            <p:cNvPr id="687" name=""/>
            <p:cNvCxnSpPr>
              <a:endCxn id="688" idx="1"/>
            </p:cNvCxnSpPr>
            <p:nvPr/>
          </p:nvCxnSpPr>
          <p:spPr>
            <a:xfrm>
              <a:off x="3772080" y="1752120"/>
              <a:ext cx="8640" cy="91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8" name=""/>
            <p:cNvSpPr/>
            <p:nvPr/>
          </p:nvSpPr>
          <p:spPr>
            <a:xfrm>
              <a:off x="36576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s M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43000" y="434340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0" name=""/>
            <p:cNvCxnSpPr>
              <a:stCxn id="689" idx="0"/>
              <a:endCxn id="691" idx="4"/>
            </p:cNvCxnSpPr>
            <p:nvPr/>
          </p:nvCxnSpPr>
          <p:spPr>
            <a:xfrm flipV="1">
              <a:off x="1447920" y="3123360"/>
              <a:ext cx="171504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692" name=""/>
            <p:cNvCxnSpPr>
              <a:stCxn id="689" idx="0"/>
              <a:endCxn id="688" idx="4"/>
            </p:cNvCxnSpPr>
            <p:nvPr/>
          </p:nvCxnSpPr>
          <p:spPr>
            <a:xfrm flipV="1">
              <a:off x="1447920" y="3123360"/>
              <a:ext cx="262944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691" name=""/>
            <p:cNvSpPr/>
            <p:nvPr/>
          </p:nvSpPr>
          <p:spPr>
            <a:xfrm>
              <a:off x="27432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s-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"/>
            <p:cNvCxnSpPr>
              <a:endCxn id="691" idx="0"/>
            </p:cNvCxnSpPr>
            <p:nvPr/>
          </p:nvCxnSpPr>
          <p:spPr>
            <a:xfrm flipH="1">
              <a:off x="3161880" y="1752120"/>
              <a:ext cx="61056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94" name=""/>
          <p:cNvGrpSpPr/>
          <p:nvPr/>
        </p:nvGrpSpPr>
        <p:grpSpPr>
          <a:xfrm>
            <a:off x="2133720" y="1752120"/>
            <a:ext cx="3276360" cy="3048480"/>
            <a:chOff x="2133720" y="1752120"/>
            <a:chExt cx="3276360" cy="3048480"/>
          </a:xfrm>
        </p:grpSpPr>
        <p:sp>
          <p:nvSpPr>
            <p:cNvPr id="695" name=""/>
            <p:cNvSpPr/>
            <p:nvPr/>
          </p:nvSpPr>
          <p:spPr>
            <a:xfrm>
              <a:off x="45720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3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are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6" name=""/>
            <p:cNvCxnSpPr>
              <a:endCxn id="695" idx="0"/>
            </p:cNvCxnSpPr>
            <p:nvPr/>
          </p:nvCxnSpPr>
          <p:spPr>
            <a:xfrm>
              <a:off x="3772080" y="1752120"/>
              <a:ext cx="121968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7" name=""/>
            <p:cNvSpPr/>
            <p:nvPr/>
          </p:nvSpPr>
          <p:spPr>
            <a:xfrm>
              <a:off x="2133720" y="434340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7" idx="0"/>
              <a:endCxn id="695" idx="4"/>
            </p:cNvCxnSpPr>
            <p:nvPr/>
          </p:nvCxnSpPr>
          <p:spPr>
            <a:xfrm flipV="1">
              <a:off x="2437920" y="3123360"/>
              <a:ext cx="255312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699" name=""/>
          <p:cNvGrpSpPr/>
          <p:nvPr/>
        </p:nvGrpSpPr>
        <p:grpSpPr>
          <a:xfrm>
            <a:off x="2437920" y="1752120"/>
            <a:ext cx="3886560" cy="2590920"/>
            <a:chOff x="2437920" y="1752120"/>
            <a:chExt cx="3886560" cy="2590920"/>
          </a:xfrm>
        </p:grpSpPr>
        <p:sp>
          <p:nvSpPr>
            <p:cNvPr id="700" name=""/>
            <p:cNvSpPr/>
            <p:nvPr/>
          </p:nvSpPr>
          <p:spPr>
            <a:xfrm>
              <a:off x="54864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4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lare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1" name=""/>
            <p:cNvCxnSpPr>
              <a:endCxn id="700" idx="0"/>
            </p:cNvCxnSpPr>
            <p:nvPr/>
          </p:nvCxnSpPr>
          <p:spPr>
            <a:xfrm>
              <a:off x="3772080" y="1752120"/>
              <a:ext cx="213408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2" name=""/>
            <p:cNvCxnSpPr>
              <a:endCxn id="700" idx="4"/>
            </p:cNvCxnSpPr>
            <p:nvPr/>
          </p:nvCxnSpPr>
          <p:spPr>
            <a:xfrm flipV="1">
              <a:off x="2437920" y="3123360"/>
              <a:ext cx="346788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03" name=""/>
          <p:cNvGrpSpPr/>
          <p:nvPr/>
        </p:nvGrpSpPr>
        <p:grpSpPr>
          <a:xfrm>
            <a:off x="3733560" y="990360"/>
            <a:ext cx="3505320" cy="3048120"/>
            <a:chOff x="3733560" y="990360"/>
            <a:chExt cx="3505320" cy="3048120"/>
          </a:xfrm>
        </p:grpSpPr>
        <p:sp>
          <p:nvSpPr>
            <p:cNvPr id="704" name=""/>
            <p:cNvSpPr/>
            <p:nvPr/>
          </p:nvSpPr>
          <p:spPr>
            <a:xfrm>
              <a:off x="5410080" y="3505320"/>
              <a:ext cx="83844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"/>
            <p:cNvCxnSpPr>
              <a:stCxn id="672" idx="2"/>
              <a:endCxn id="704" idx="0"/>
            </p:cNvCxnSpPr>
            <p:nvPr/>
          </p:nvCxnSpPr>
          <p:spPr>
            <a:xfrm>
              <a:off x="3733560" y="990360"/>
              <a:ext cx="2096280" cy="2515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706" name=""/>
            <p:cNvCxnSpPr>
              <a:stCxn id="671" idx="4"/>
              <a:endCxn id="707" idx="0"/>
            </p:cNvCxnSpPr>
            <p:nvPr/>
          </p:nvCxnSpPr>
          <p:spPr>
            <a:xfrm>
              <a:off x="3772080" y="1752120"/>
              <a:ext cx="304848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7" name=""/>
            <p:cNvSpPr/>
            <p:nvPr/>
          </p:nvSpPr>
          <p:spPr>
            <a:xfrm>
              <a:off x="6400800" y="2590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eate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8" name=""/>
            <p:cNvCxnSpPr>
              <a:stCxn id="707" idx="4"/>
              <a:endCxn id="704" idx="7"/>
            </p:cNvCxnSpPr>
            <p:nvPr/>
          </p:nvCxnSpPr>
          <p:spPr>
            <a:xfrm flipH="1">
              <a:off x="6125400" y="3123720"/>
              <a:ext cx="69444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09" name=""/>
          <p:cNvGrpSpPr/>
          <p:nvPr/>
        </p:nvGrpSpPr>
        <p:grpSpPr>
          <a:xfrm>
            <a:off x="3733920" y="3123720"/>
            <a:ext cx="4267080" cy="2362680"/>
            <a:chOff x="3733920" y="3123720"/>
            <a:chExt cx="4267080" cy="2362680"/>
          </a:xfrm>
        </p:grpSpPr>
        <p:cxnSp>
          <p:nvCxnSpPr>
            <p:cNvPr id="710" name=""/>
            <p:cNvCxnSpPr>
              <a:stCxn id="711" idx="2"/>
              <a:endCxn id="712" idx="0"/>
            </p:cNvCxnSpPr>
            <p:nvPr/>
          </p:nvCxnSpPr>
          <p:spPr>
            <a:xfrm flipH="1">
              <a:off x="4152600" y="4800240"/>
              <a:ext cx="38880" cy="15300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6629400" y="3505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4" name=""/>
            <p:cNvCxnSpPr>
              <a:endCxn id="713" idx="2"/>
            </p:cNvCxnSpPr>
            <p:nvPr/>
          </p:nvCxnSpPr>
          <p:spPr>
            <a:xfrm>
              <a:off x="6248520" y="3771720"/>
              <a:ext cx="38160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sp>
          <p:nvSpPr>
            <p:cNvPr id="715" name=""/>
            <p:cNvSpPr/>
            <p:nvPr/>
          </p:nvSpPr>
          <p:spPr>
            <a:xfrm>
              <a:off x="6858000" y="4952880"/>
              <a:ext cx="8380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.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33920" y="4952880"/>
              <a:ext cx="8380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.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cep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mon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6" name=""/>
            <p:cNvCxnSpPr>
              <a:stCxn id="713" idx="4"/>
              <a:endCxn id="715" idx="0"/>
            </p:cNvCxnSpPr>
            <p:nvPr/>
          </p:nvCxnSpPr>
          <p:spPr>
            <a:xfrm>
              <a:off x="7048080" y="4038480"/>
              <a:ext cx="2293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7" name=""/>
            <p:cNvCxnSpPr>
              <a:stCxn id="713" idx="4"/>
              <a:endCxn id="712" idx="0"/>
            </p:cNvCxnSpPr>
            <p:nvPr/>
          </p:nvCxnSpPr>
          <p:spPr>
            <a:xfrm flipH="1">
              <a:off x="4152240" y="4038480"/>
              <a:ext cx="289620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8" name=""/>
            <p:cNvSpPr/>
            <p:nvPr/>
          </p:nvSpPr>
          <p:spPr>
            <a:xfrm>
              <a:off x="7391520" y="426708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86200" y="434340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9" name=""/>
            <p:cNvCxnSpPr>
              <a:stCxn id="718" idx="2"/>
              <a:endCxn id="715" idx="0"/>
            </p:cNvCxnSpPr>
            <p:nvPr/>
          </p:nvCxnSpPr>
          <p:spPr>
            <a:xfrm flipH="1">
              <a:off x="7276680" y="4723920"/>
              <a:ext cx="41976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707" idx="4"/>
              <a:endCxn id="713" idx="7"/>
            </p:cNvCxnSpPr>
            <p:nvPr/>
          </p:nvCxnSpPr>
          <p:spPr>
            <a:xfrm>
              <a:off x="6819840" y="3123720"/>
              <a:ext cx="52632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152280" y="4800240"/>
            <a:ext cx="4000680" cy="1752840"/>
            <a:chOff x="152280" y="4800240"/>
            <a:chExt cx="4000680" cy="1752840"/>
          </a:xfrm>
        </p:grpSpPr>
        <p:sp>
          <p:nvSpPr>
            <p:cNvPr id="722" name=""/>
            <p:cNvSpPr/>
            <p:nvPr/>
          </p:nvSpPr>
          <p:spPr>
            <a:xfrm>
              <a:off x="152280" y="6019920"/>
              <a:ext cx="83844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mo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are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3" name=""/>
            <p:cNvCxnSpPr>
              <a:endCxn id="722" idx="7"/>
            </p:cNvCxnSpPr>
            <p:nvPr/>
          </p:nvCxnSpPr>
          <p:spPr>
            <a:xfrm flipH="1">
              <a:off x="867960" y="5486400"/>
              <a:ext cx="3285360" cy="61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4" name=""/>
            <p:cNvCxnSpPr>
              <a:endCxn id="722" idx="0"/>
            </p:cNvCxnSpPr>
            <p:nvPr/>
          </p:nvCxnSpPr>
          <p:spPr>
            <a:xfrm>
              <a:off x="457200" y="4800240"/>
              <a:ext cx="11520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25" name=""/>
          <p:cNvGrpSpPr/>
          <p:nvPr/>
        </p:nvGrpSpPr>
        <p:grpSpPr>
          <a:xfrm>
            <a:off x="1219320" y="4800240"/>
            <a:ext cx="2933280" cy="1752840"/>
            <a:chOff x="1219320" y="4800240"/>
            <a:chExt cx="2933280" cy="1752840"/>
          </a:xfrm>
        </p:grpSpPr>
        <p:sp>
          <p:nvSpPr>
            <p:cNvPr id="726" name=""/>
            <p:cNvSpPr/>
            <p:nvPr/>
          </p:nvSpPr>
          <p:spPr>
            <a:xfrm>
              <a:off x="121932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mo 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are 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7" name=""/>
            <p:cNvCxnSpPr>
              <a:endCxn id="726" idx="7"/>
            </p:cNvCxnSpPr>
            <p:nvPr/>
          </p:nvCxnSpPr>
          <p:spPr>
            <a:xfrm flipH="1">
              <a:off x="1934280" y="5486400"/>
              <a:ext cx="2218680" cy="61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8" name=""/>
            <p:cNvCxnSpPr>
              <a:endCxn id="726" idx="0"/>
            </p:cNvCxnSpPr>
            <p:nvPr/>
          </p:nvCxnSpPr>
          <p:spPr>
            <a:xfrm>
              <a:off x="1447560" y="4800240"/>
              <a:ext cx="19116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29" name=""/>
          <p:cNvGrpSpPr/>
          <p:nvPr/>
        </p:nvGrpSpPr>
        <p:grpSpPr>
          <a:xfrm>
            <a:off x="2286000" y="4800240"/>
            <a:ext cx="1866600" cy="1752840"/>
            <a:chOff x="2286000" y="4800240"/>
            <a:chExt cx="1866600" cy="1752840"/>
          </a:xfrm>
        </p:grpSpPr>
        <p:sp>
          <p:nvSpPr>
            <p:cNvPr id="730" name=""/>
            <p:cNvSpPr/>
            <p:nvPr/>
          </p:nvSpPr>
          <p:spPr>
            <a:xfrm>
              <a:off x="228600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mo 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are 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endCxn id="730" idx="7"/>
            </p:cNvCxnSpPr>
            <p:nvPr/>
          </p:nvCxnSpPr>
          <p:spPr>
            <a:xfrm flipH="1">
              <a:off x="3001320" y="5486400"/>
              <a:ext cx="1151640" cy="61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2" name=""/>
            <p:cNvCxnSpPr>
              <a:endCxn id="730" idx="0"/>
            </p:cNvCxnSpPr>
            <p:nvPr/>
          </p:nvCxnSpPr>
          <p:spPr>
            <a:xfrm>
              <a:off x="2437920" y="4800240"/>
              <a:ext cx="267120" cy="122004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33" name=""/>
          <p:cNvGrpSpPr/>
          <p:nvPr/>
        </p:nvGrpSpPr>
        <p:grpSpPr>
          <a:xfrm>
            <a:off x="3657600" y="5486400"/>
            <a:ext cx="3619440" cy="1066680"/>
            <a:chOff x="3657600" y="5486400"/>
            <a:chExt cx="3619440" cy="1066680"/>
          </a:xfrm>
        </p:grpSpPr>
        <p:sp>
          <p:nvSpPr>
            <p:cNvPr id="734" name=""/>
            <p:cNvSpPr/>
            <p:nvPr/>
          </p:nvSpPr>
          <p:spPr>
            <a:xfrm>
              <a:off x="365760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A(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endCxn id="734" idx="0"/>
            </p:cNvCxnSpPr>
            <p:nvPr/>
          </p:nvCxnSpPr>
          <p:spPr>
            <a:xfrm flipH="1">
              <a:off x="4076280" y="5486400"/>
              <a:ext cx="320112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36" name=""/>
          <p:cNvGrpSpPr/>
          <p:nvPr/>
        </p:nvGrpSpPr>
        <p:grpSpPr>
          <a:xfrm>
            <a:off x="4724280" y="5486400"/>
            <a:ext cx="2552760" cy="1066680"/>
            <a:chOff x="4724280" y="5486400"/>
            <a:chExt cx="2552760" cy="1066680"/>
          </a:xfrm>
        </p:grpSpPr>
        <p:sp>
          <p:nvSpPr>
            <p:cNvPr id="737" name=""/>
            <p:cNvSpPr/>
            <p:nvPr/>
          </p:nvSpPr>
          <p:spPr>
            <a:xfrm>
              <a:off x="4724280" y="6019920"/>
              <a:ext cx="83844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R(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8" name=""/>
            <p:cNvCxnSpPr>
              <a:endCxn id="737" idx="0"/>
            </p:cNvCxnSpPr>
            <p:nvPr/>
          </p:nvCxnSpPr>
          <p:spPr>
            <a:xfrm flipH="1">
              <a:off x="5143320" y="5486400"/>
              <a:ext cx="2134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39" name=""/>
          <p:cNvGrpSpPr/>
          <p:nvPr/>
        </p:nvGrpSpPr>
        <p:grpSpPr>
          <a:xfrm>
            <a:off x="5715000" y="5486400"/>
            <a:ext cx="1561680" cy="1066680"/>
            <a:chOff x="5715000" y="5486400"/>
            <a:chExt cx="1561680" cy="1066680"/>
          </a:xfrm>
        </p:grpSpPr>
        <p:sp>
          <p:nvSpPr>
            <p:cNvPr id="740" name=""/>
            <p:cNvSpPr/>
            <p:nvPr/>
          </p:nvSpPr>
          <p:spPr>
            <a:xfrm>
              <a:off x="571500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R(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1" name=""/>
            <p:cNvCxnSpPr>
              <a:endCxn id="740" idx="0"/>
            </p:cNvCxnSpPr>
            <p:nvPr/>
          </p:nvCxnSpPr>
          <p:spPr>
            <a:xfrm flipH="1">
              <a:off x="6133320" y="5486400"/>
              <a:ext cx="114372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42" name=""/>
          <p:cNvGrpSpPr/>
          <p:nvPr/>
        </p:nvGrpSpPr>
        <p:grpSpPr>
          <a:xfrm>
            <a:off x="6705720" y="5486400"/>
            <a:ext cx="838080" cy="1066680"/>
            <a:chOff x="6705720" y="5486400"/>
            <a:chExt cx="838080" cy="1066680"/>
          </a:xfrm>
        </p:grpSpPr>
        <p:sp>
          <p:nvSpPr>
            <p:cNvPr id="743" name=""/>
            <p:cNvSpPr/>
            <p:nvPr/>
          </p:nvSpPr>
          <p:spPr>
            <a:xfrm>
              <a:off x="670572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S(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4" name=""/>
            <p:cNvCxnSpPr>
              <a:endCxn id="743" idx="0"/>
            </p:cNvCxnSpPr>
            <p:nvPr/>
          </p:nvCxnSpPr>
          <p:spPr>
            <a:xfrm flipH="1">
              <a:off x="7124040" y="5486400"/>
              <a:ext cx="1530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45" name=""/>
          <p:cNvGrpSpPr/>
          <p:nvPr/>
        </p:nvGrpSpPr>
        <p:grpSpPr>
          <a:xfrm>
            <a:off x="7277040" y="5486400"/>
            <a:ext cx="1333440" cy="1066680"/>
            <a:chOff x="7277040" y="5486400"/>
            <a:chExt cx="1333440" cy="1066680"/>
          </a:xfrm>
        </p:grpSpPr>
        <p:sp>
          <p:nvSpPr>
            <p:cNvPr id="746" name=""/>
            <p:cNvSpPr/>
            <p:nvPr/>
          </p:nvSpPr>
          <p:spPr>
            <a:xfrm>
              <a:off x="7772400" y="60199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C(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7" name=""/>
            <p:cNvCxnSpPr>
              <a:endCxn id="746" idx="0"/>
            </p:cNvCxnSpPr>
            <p:nvPr/>
          </p:nvCxnSpPr>
          <p:spPr>
            <a:xfrm>
              <a:off x="7277040" y="5486400"/>
              <a:ext cx="91512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48" name=""/>
          <p:cNvGrpSpPr/>
          <p:nvPr/>
        </p:nvGrpSpPr>
        <p:grpSpPr>
          <a:xfrm>
            <a:off x="3733560" y="990360"/>
            <a:ext cx="5105520" cy="3048120"/>
            <a:chOff x="3733560" y="990360"/>
            <a:chExt cx="5105520" cy="3048120"/>
          </a:xfrm>
        </p:grpSpPr>
        <p:sp>
          <p:nvSpPr>
            <p:cNvPr id="749" name=""/>
            <p:cNvSpPr/>
            <p:nvPr/>
          </p:nvSpPr>
          <p:spPr>
            <a:xfrm>
              <a:off x="8001000" y="3505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5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ose 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endCxn id="749" idx="2"/>
            </p:cNvCxnSpPr>
            <p:nvPr/>
          </p:nvCxnSpPr>
          <p:spPr>
            <a:xfrm>
              <a:off x="7467480" y="3771720"/>
              <a:ext cx="53424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51" name=""/>
            <p:cNvCxnSpPr>
              <a:stCxn id="672" idx="2"/>
              <a:endCxn id="749" idx="0"/>
            </p:cNvCxnSpPr>
            <p:nvPr/>
          </p:nvCxnSpPr>
          <p:spPr>
            <a:xfrm>
              <a:off x="3733560" y="990360"/>
              <a:ext cx="4686840" cy="2515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07" idx="4"/>
              <a:endCxn id="749" idx="0"/>
            </p:cNvCxnSpPr>
            <p:nvPr/>
          </p:nvCxnSpPr>
          <p:spPr>
            <a:xfrm>
              <a:off x="6819480" y="3123720"/>
              <a:ext cx="160092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53" name=""/>
          <p:cNvGrpSpPr/>
          <p:nvPr/>
        </p:nvGrpSpPr>
        <p:grpSpPr>
          <a:xfrm>
            <a:off x="5676840" y="1752480"/>
            <a:ext cx="2171880" cy="685800"/>
            <a:chOff x="5676840" y="1752480"/>
            <a:chExt cx="2171880" cy="685800"/>
          </a:xfrm>
        </p:grpSpPr>
        <p:sp>
          <p:nvSpPr>
            <p:cNvPr id="754" name=""/>
            <p:cNvSpPr/>
            <p:nvPr/>
          </p:nvSpPr>
          <p:spPr>
            <a:xfrm>
              <a:off x="7162920" y="1905120"/>
              <a:ext cx="68580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a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5" name=""/>
            <p:cNvCxnSpPr>
              <a:endCxn id="754" idx="2"/>
            </p:cNvCxnSpPr>
            <p:nvPr/>
          </p:nvCxnSpPr>
          <p:spPr>
            <a:xfrm>
              <a:off x="7010280" y="2171520"/>
              <a:ext cx="15336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7" idx="4"/>
              <a:endCxn id="754" idx="0"/>
            </p:cNvCxnSpPr>
            <p:nvPr/>
          </p:nvCxnSpPr>
          <p:spPr>
            <a:xfrm>
              <a:off x="5676840" y="1752480"/>
              <a:ext cx="1829520" cy="153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758" name=""/>
          <p:cNvGrpSpPr/>
          <p:nvPr/>
        </p:nvGrpSpPr>
        <p:grpSpPr>
          <a:xfrm>
            <a:off x="5676480" y="1752480"/>
            <a:ext cx="2934000" cy="685800"/>
            <a:chOff x="5676480" y="1752480"/>
            <a:chExt cx="2934000" cy="685800"/>
          </a:xfrm>
        </p:grpSpPr>
        <p:sp>
          <p:nvSpPr>
            <p:cNvPr id="759" name=""/>
            <p:cNvSpPr/>
            <p:nvPr/>
          </p:nvSpPr>
          <p:spPr>
            <a:xfrm>
              <a:off x="8001000" y="1905120"/>
              <a:ext cx="6094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endCxn id="759" idx="2"/>
            </p:cNvCxnSpPr>
            <p:nvPr/>
          </p:nvCxnSpPr>
          <p:spPr>
            <a:xfrm>
              <a:off x="7848360" y="2171520"/>
              <a:ext cx="15300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61" name=""/>
            <p:cNvCxnSpPr>
              <a:stCxn id="757" idx="4"/>
              <a:endCxn id="759" idx="0"/>
            </p:cNvCxnSpPr>
            <p:nvPr/>
          </p:nvCxnSpPr>
          <p:spPr>
            <a:xfrm>
              <a:off x="5676480" y="1752480"/>
              <a:ext cx="2629800" cy="153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762" name=""/>
          <p:cNvGrpSpPr/>
          <p:nvPr/>
        </p:nvGrpSpPr>
        <p:grpSpPr>
          <a:xfrm>
            <a:off x="6019920" y="533520"/>
            <a:ext cx="1904760" cy="1218960"/>
            <a:chOff x="6019920" y="533520"/>
            <a:chExt cx="1904760" cy="1218960"/>
          </a:xfrm>
        </p:grpSpPr>
        <p:sp>
          <p:nvSpPr>
            <p:cNvPr id="763" name=""/>
            <p:cNvSpPr/>
            <p:nvPr/>
          </p:nvSpPr>
          <p:spPr>
            <a:xfrm>
              <a:off x="6934320" y="1219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ec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4" name=""/>
            <p:cNvCxnSpPr>
              <a:stCxn id="757" idx="6"/>
              <a:endCxn id="763" idx="2"/>
            </p:cNvCxnSpPr>
            <p:nvPr/>
          </p:nvCxnSpPr>
          <p:spPr>
            <a:xfrm>
              <a:off x="6019920" y="1485720"/>
              <a:ext cx="91512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sp>
          <p:nvSpPr>
            <p:cNvPr id="765" name=""/>
            <p:cNvSpPr/>
            <p:nvPr/>
          </p:nvSpPr>
          <p:spPr>
            <a:xfrm>
              <a:off x="7315200" y="5335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acili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53080" y="53352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7" name=""/>
            <p:cNvCxnSpPr>
              <a:stCxn id="766" idx="2"/>
              <a:endCxn id="763" idx="1"/>
            </p:cNvCxnSpPr>
            <p:nvPr/>
          </p:nvCxnSpPr>
          <p:spPr>
            <a:xfrm>
              <a:off x="6857640" y="990360"/>
              <a:ext cx="199080" cy="3067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768" name=""/>
            <p:cNvCxnSpPr>
              <a:stCxn id="765" idx="2"/>
              <a:endCxn id="763" idx="7"/>
            </p:cNvCxnSpPr>
            <p:nvPr/>
          </p:nvCxnSpPr>
          <p:spPr>
            <a:xfrm>
              <a:off x="7619760" y="990360"/>
              <a:ext cx="30600" cy="3067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69" name=""/>
          <p:cNvGrpSpPr/>
          <p:nvPr/>
        </p:nvGrpSpPr>
        <p:grpSpPr>
          <a:xfrm>
            <a:off x="7772040" y="533520"/>
            <a:ext cx="1143360" cy="1218960"/>
            <a:chOff x="7772040" y="533520"/>
            <a:chExt cx="1143360" cy="1218960"/>
          </a:xfrm>
        </p:grpSpPr>
        <p:sp>
          <p:nvSpPr>
            <p:cNvPr id="770" name=""/>
            <p:cNvSpPr/>
            <p:nvPr/>
          </p:nvSpPr>
          <p:spPr>
            <a:xfrm>
              <a:off x="8077320" y="1219320"/>
              <a:ext cx="83808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y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1" name=""/>
            <p:cNvCxnSpPr>
              <a:endCxn id="770" idx="2"/>
            </p:cNvCxnSpPr>
            <p:nvPr/>
          </p:nvCxnSpPr>
          <p:spPr>
            <a:xfrm>
              <a:off x="7772040" y="1485720"/>
              <a:ext cx="30564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8153280" y="533520"/>
              <a:ext cx="609840" cy="457200"/>
            </a:xfrm>
            <a:prstGeom prst="hexagon">
              <a:avLst>
                <a:gd name="adj" fmla="val 33346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3" name=""/>
            <p:cNvCxnSpPr>
              <a:stCxn id="772" idx="2"/>
              <a:endCxn id="770" idx="0"/>
            </p:cNvCxnSpPr>
            <p:nvPr/>
          </p:nvCxnSpPr>
          <p:spPr>
            <a:xfrm>
              <a:off x="845820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774" name=""/>
          <p:cNvGrpSpPr/>
          <p:nvPr/>
        </p:nvGrpSpPr>
        <p:grpSpPr>
          <a:xfrm>
            <a:off x="4190760" y="533520"/>
            <a:ext cx="1829160" cy="1218960"/>
            <a:chOff x="4190760" y="533520"/>
            <a:chExt cx="1829160" cy="1218960"/>
          </a:xfrm>
        </p:grpSpPr>
        <p:sp>
          <p:nvSpPr>
            <p:cNvPr id="775" name=""/>
            <p:cNvSpPr/>
            <p:nvPr/>
          </p:nvSpPr>
          <p:spPr>
            <a:xfrm>
              <a:off x="5334120" y="533520"/>
              <a:ext cx="609480" cy="457200"/>
            </a:xfrm>
            <a:prstGeom prst="hexagon">
              <a:avLst>
                <a:gd name="adj" fmla="val 3332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6" name=""/>
            <p:cNvCxnSpPr>
              <a:stCxn id="775" idx="2"/>
              <a:endCxn id="757" idx="0"/>
            </p:cNvCxnSpPr>
            <p:nvPr/>
          </p:nvCxnSpPr>
          <p:spPr>
            <a:xfrm>
              <a:off x="5638680" y="990360"/>
              <a:ext cx="38880" cy="229320"/>
            </a:xfrm>
            <a:prstGeom prst="straightConnector1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777" name=""/>
            <p:cNvCxnSpPr>
              <a:stCxn id="671" idx="6"/>
              <a:endCxn id="757" idx="2"/>
            </p:cNvCxnSpPr>
            <p:nvPr/>
          </p:nvCxnSpPr>
          <p:spPr>
            <a:xfrm>
              <a:off x="4190760" y="1485720"/>
              <a:ext cx="1143720" cy="1080"/>
            </a:xfrm>
            <a:prstGeom prst="straightConnector1">
              <a:avLst/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sp>
          <p:nvSpPr>
            <p:cNvPr id="757" name=""/>
            <p:cNvSpPr/>
            <p:nvPr/>
          </p:nvSpPr>
          <p:spPr>
            <a:xfrm>
              <a:off x="5334120" y="1219320"/>
              <a:ext cx="68580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a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676840" y="1752480"/>
            <a:ext cx="1333440" cy="685800"/>
            <a:chOff x="5676840" y="1752480"/>
            <a:chExt cx="1333440" cy="685800"/>
          </a:xfrm>
        </p:grpSpPr>
        <p:sp>
          <p:nvSpPr>
            <p:cNvPr id="779" name=""/>
            <p:cNvSpPr/>
            <p:nvPr/>
          </p:nvSpPr>
          <p:spPr>
            <a:xfrm>
              <a:off x="6324480" y="1905120"/>
              <a:ext cx="68580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l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57" idx="4"/>
              <a:endCxn id="779" idx="0"/>
            </p:cNvCxnSpPr>
            <p:nvPr/>
          </p:nvCxnSpPr>
          <p:spPr>
            <a:xfrm>
              <a:off x="5676840" y="1752480"/>
              <a:ext cx="99144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8566200" y="51451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0" y="5257800"/>
            <a:ext cx="9144000" cy="1600200"/>
            <a:chOff x="0" y="5257800"/>
            <a:chExt cx="9144000" cy="1600200"/>
          </a:xfrm>
        </p:grpSpPr>
        <p:sp>
          <p:nvSpPr>
            <p:cNvPr id="783" name=""/>
            <p:cNvSpPr/>
            <p:nvPr/>
          </p:nvSpPr>
          <p:spPr>
            <a:xfrm>
              <a:off x="0" y="5257800"/>
              <a:ext cx="9144000" cy="1600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88600" y="54100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gregation casc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0" y="304920"/>
            <a:ext cx="4104000" cy="6400800"/>
            <a:chOff x="0" y="304920"/>
            <a:chExt cx="4104000" cy="6400800"/>
          </a:xfrm>
        </p:grpSpPr>
        <p:sp>
          <p:nvSpPr>
            <p:cNvPr id="786" name=""/>
            <p:cNvSpPr/>
            <p:nvPr/>
          </p:nvSpPr>
          <p:spPr>
            <a:xfrm>
              <a:off x="0" y="304920"/>
              <a:ext cx="3505320" cy="6400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36520" y="3784680"/>
              <a:ext cx="206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DISA-GEFO casc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0880" y="4114800"/>
              <a:ext cx="2438640" cy="251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0" y="304920"/>
            <a:ext cx="9144000" cy="1447560"/>
            <a:chOff x="0" y="304920"/>
            <a:chExt cx="9144000" cy="1447560"/>
          </a:xfrm>
        </p:grpSpPr>
        <p:sp>
          <p:nvSpPr>
            <p:cNvPr id="790" name=""/>
            <p:cNvSpPr/>
            <p:nvPr/>
          </p:nvSpPr>
          <p:spPr>
            <a:xfrm>
              <a:off x="0" y="304920"/>
              <a:ext cx="9144000" cy="1447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14440" y="355680"/>
              <a:ext cx="229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ISA-EXPLORA casc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" y="609480"/>
              <a:ext cx="29718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10880" y="569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391520" y="685800"/>
            <a:ext cx="1523880" cy="2590920"/>
            <a:chOff x="7391520" y="685800"/>
            <a:chExt cx="1523880" cy="2590920"/>
          </a:xfrm>
        </p:grpSpPr>
        <p:sp>
          <p:nvSpPr>
            <p:cNvPr id="795" name=""/>
            <p:cNvSpPr/>
            <p:nvPr/>
          </p:nvSpPr>
          <p:spPr>
            <a:xfrm>
              <a:off x="8153280" y="6858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91520" y="2743200"/>
              <a:ext cx="1371600" cy="5335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t-lear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c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7" name=""/>
            <p:cNvCxnSpPr>
              <a:stCxn id="795" idx="2"/>
              <a:endCxn id="796" idx="0"/>
            </p:cNvCxnSpPr>
            <p:nvPr/>
          </p:nvCxnSpPr>
          <p:spPr>
            <a:xfrm flipH="1">
              <a:off x="8076960" y="1295280"/>
              <a:ext cx="457920" cy="144864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798" name=""/>
          <p:cNvGrpSpPr/>
          <p:nvPr/>
        </p:nvGrpSpPr>
        <p:grpSpPr>
          <a:xfrm>
            <a:off x="6172200" y="685800"/>
            <a:ext cx="1981080" cy="838080"/>
            <a:chOff x="6172200" y="685800"/>
            <a:chExt cx="1981080" cy="838080"/>
          </a:xfrm>
        </p:grpSpPr>
        <p:sp>
          <p:nvSpPr>
            <p:cNvPr id="799" name=""/>
            <p:cNvSpPr/>
            <p:nvPr/>
          </p:nvSpPr>
          <p:spPr>
            <a:xfrm>
              <a:off x="6172200" y="6858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r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62920" y="91440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799" idx="3"/>
              <a:endCxn id="800" idx="2"/>
            </p:cNvCxnSpPr>
            <p:nvPr/>
          </p:nvCxnSpPr>
          <p:spPr>
            <a:xfrm>
              <a:off x="6933960" y="99036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2" name=""/>
            <p:cNvCxnSpPr>
              <a:stCxn id="800" idx="6"/>
            </p:cNvCxnSpPr>
            <p:nvPr/>
          </p:nvCxnSpPr>
          <p:spPr>
            <a:xfrm flipV="1">
              <a:off x="8076960" y="99000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3" name=""/>
          <p:cNvGrpSpPr/>
          <p:nvPr/>
        </p:nvGrpSpPr>
        <p:grpSpPr>
          <a:xfrm>
            <a:off x="4267080" y="685800"/>
            <a:ext cx="1905120" cy="914400"/>
            <a:chOff x="4267080" y="685800"/>
            <a:chExt cx="1905120" cy="914400"/>
          </a:xfrm>
        </p:grpSpPr>
        <p:sp>
          <p:nvSpPr>
            <p:cNvPr id="804" name=""/>
            <p:cNvSpPr/>
            <p:nvPr/>
          </p:nvSpPr>
          <p:spPr>
            <a:xfrm>
              <a:off x="4267080" y="6858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PL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181480" y="9907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4" idx="3"/>
              <a:endCxn id="805" idx="2"/>
            </p:cNvCxnSpPr>
            <p:nvPr/>
          </p:nvCxnSpPr>
          <p:spPr>
            <a:xfrm>
              <a:off x="5028840" y="990720"/>
              <a:ext cx="15300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7" name=""/>
            <p:cNvCxnSpPr>
              <a:stCxn id="805" idx="6"/>
            </p:cNvCxnSpPr>
            <p:nvPr/>
          </p:nvCxnSpPr>
          <p:spPr>
            <a:xfrm flipV="1">
              <a:off x="6095880" y="990360"/>
              <a:ext cx="766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8" name=""/>
          <p:cNvGrpSpPr/>
          <p:nvPr/>
        </p:nvGrpSpPr>
        <p:grpSpPr>
          <a:xfrm>
            <a:off x="2286000" y="685800"/>
            <a:ext cx="1981080" cy="838080"/>
            <a:chOff x="2286000" y="685800"/>
            <a:chExt cx="1981080" cy="838080"/>
          </a:xfrm>
        </p:grpSpPr>
        <p:sp>
          <p:nvSpPr>
            <p:cNvPr id="809" name=""/>
            <p:cNvSpPr/>
            <p:nvPr/>
          </p:nvSpPr>
          <p:spPr>
            <a:xfrm>
              <a:off x="2286000" y="6858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76720" y="91440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ire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v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1" name=""/>
            <p:cNvCxnSpPr>
              <a:stCxn id="809" idx="3"/>
              <a:endCxn id="810" idx="2"/>
            </p:cNvCxnSpPr>
            <p:nvPr/>
          </p:nvCxnSpPr>
          <p:spPr>
            <a:xfrm>
              <a:off x="3047760" y="99036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2" name=""/>
            <p:cNvCxnSpPr>
              <a:stCxn id="810" idx="6"/>
            </p:cNvCxnSpPr>
            <p:nvPr/>
          </p:nvCxnSpPr>
          <p:spPr>
            <a:xfrm flipV="1">
              <a:off x="4190760" y="99000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13" name=""/>
          <p:cNvGrpSpPr/>
          <p:nvPr/>
        </p:nvGrpSpPr>
        <p:grpSpPr>
          <a:xfrm>
            <a:off x="304920" y="685800"/>
            <a:ext cx="1981080" cy="609480"/>
            <a:chOff x="304920" y="685800"/>
            <a:chExt cx="1981080" cy="609480"/>
          </a:xfrm>
        </p:grpSpPr>
        <p:sp>
          <p:nvSpPr>
            <p:cNvPr id="814" name=""/>
            <p:cNvSpPr/>
            <p:nvPr/>
          </p:nvSpPr>
          <p:spPr>
            <a:xfrm>
              <a:off x="304920" y="68580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19320" y="68580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6" name=""/>
            <p:cNvCxnSpPr>
              <a:stCxn id="814" idx="3"/>
              <a:endCxn id="815" idx="2"/>
            </p:cNvCxnSpPr>
            <p:nvPr/>
          </p:nvCxnSpPr>
          <p:spPr>
            <a:xfrm>
              <a:off x="1066680" y="990360"/>
              <a:ext cx="153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815" idx="6"/>
            </p:cNvCxnSpPr>
            <p:nvPr/>
          </p:nvCxnSpPr>
          <p:spPr>
            <a:xfrm>
              <a:off x="2133360" y="99036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18" name=""/>
          <p:cNvGrpSpPr/>
          <p:nvPr/>
        </p:nvGrpSpPr>
        <p:grpSpPr>
          <a:xfrm>
            <a:off x="304920" y="1370880"/>
            <a:ext cx="2666880" cy="1524600"/>
            <a:chOff x="304920" y="1370880"/>
            <a:chExt cx="2666880" cy="1524600"/>
          </a:xfrm>
        </p:grpSpPr>
        <p:sp>
          <p:nvSpPr>
            <p:cNvPr id="819" name=""/>
            <p:cNvSpPr/>
            <p:nvPr/>
          </p:nvSpPr>
          <p:spPr>
            <a:xfrm>
              <a:off x="304920" y="228600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95280" y="22860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A cou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ISAX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19320" y="1523880"/>
              <a:ext cx="9144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 M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expl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09680" y="22860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,R,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3" name=""/>
            <p:cNvCxnSpPr>
              <a:stCxn id="820" idx="1"/>
              <a:endCxn id="819" idx="3"/>
            </p:cNvCxnSpPr>
            <p:nvPr/>
          </p:nvCxnSpPr>
          <p:spPr>
            <a:xfrm flipH="1">
              <a:off x="1065960" y="2590560"/>
              <a:ext cx="22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20" idx="3"/>
              <a:endCxn id="822" idx="1"/>
            </p:cNvCxnSpPr>
            <p:nvPr/>
          </p:nvCxnSpPr>
          <p:spPr>
            <a:xfrm>
              <a:off x="2057040" y="259056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20" idx="0"/>
              <a:endCxn id="821" idx="4"/>
            </p:cNvCxnSpPr>
            <p:nvPr/>
          </p:nvCxnSpPr>
          <p:spPr>
            <a:xfrm flipV="1">
              <a:off x="1676160" y="213300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6" name=""/>
            <p:cNvCxnSpPr>
              <a:stCxn id="821" idx="0"/>
            </p:cNvCxnSpPr>
            <p:nvPr/>
          </p:nvCxnSpPr>
          <p:spPr>
            <a:xfrm flipV="1">
              <a:off x="1676520" y="1370880"/>
              <a:ext cx="388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7" name=""/>
          <p:cNvGrpSpPr/>
          <p:nvPr/>
        </p:nvGrpSpPr>
        <p:grpSpPr>
          <a:xfrm>
            <a:off x="304920" y="2894760"/>
            <a:ext cx="2743200" cy="1220040"/>
            <a:chOff x="304920" y="2894760"/>
            <a:chExt cx="2743200" cy="1220040"/>
          </a:xfrm>
        </p:grpSpPr>
        <p:sp>
          <p:nvSpPr>
            <p:cNvPr id="828" name=""/>
            <p:cNvSpPr/>
            <p:nvPr/>
          </p:nvSpPr>
          <p:spPr>
            <a:xfrm>
              <a:off x="1219320" y="35053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4920" y="30481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33720" y="3124080"/>
              <a:ext cx="9144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 K,R,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1" name=""/>
            <p:cNvCxnSpPr>
              <a:stCxn id="828" idx="2"/>
              <a:endCxn id="829" idx="5"/>
            </p:cNvCxnSpPr>
            <p:nvPr/>
          </p:nvCxnSpPr>
          <p:spPr>
            <a:xfrm flipH="1" flipV="1">
              <a:off x="1085040" y="3568320"/>
              <a:ext cx="13428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8" idx="6"/>
              <a:endCxn id="830" idx="3"/>
            </p:cNvCxnSpPr>
            <p:nvPr/>
          </p:nvCxnSpPr>
          <p:spPr>
            <a:xfrm flipV="1">
              <a:off x="2133720" y="3644640"/>
              <a:ext cx="133560" cy="16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0"/>
            </p:cNvCxnSpPr>
            <p:nvPr/>
          </p:nvCxnSpPr>
          <p:spPr>
            <a:xfrm flipH="1" flipV="1">
              <a:off x="685800" y="2895120"/>
              <a:ext cx="766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4" name=""/>
            <p:cNvCxnSpPr>
              <a:stCxn id="830" idx="0"/>
            </p:cNvCxnSpPr>
            <p:nvPr/>
          </p:nvCxnSpPr>
          <p:spPr>
            <a:xfrm flipV="1">
              <a:off x="2590560" y="289476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5" name=""/>
          <p:cNvGrpSpPr/>
          <p:nvPr/>
        </p:nvGrpSpPr>
        <p:grpSpPr>
          <a:xfrm>
            <a:off x="609480" y="4114080"/>
            <a:ext cx="1981440" cy="762840"/>
            <a:chOff x="609480" y="4114080"/>
            <a:chExt cx="1981440" cy="762840"/>
          </a:xfrm>
        </p:grpSpPr>
        <p:sp>
          <p:nvSpPr>
            <p:cNvPr id="836" name=""/>
            <p:cNvSpPr/>
            <p:nvPr/>
          </p:nvSpPr>
          <p:spPr>
            <a:xfrm>
              <a:off x="1828800" y="426708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IS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9480" y="426708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ta-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8" name=""/>
            <p:cNvCxnSpPr>
              <a:stCxn id="837" idx="0"/>
            </p:cNvCxnSpPr>
            <p:nvPr/>
          </p:nvCxnSpPr>
          <p:spPr>
            <a:xfrm flipV="1">
              <a:off x="990360" y="4114080"/>
              <a:ext cx="68652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36" idx="0"/>
            </p:cNvCxnSpPr>
            <p:nvPr/>
          </p:nvCxnSpPr>
          <p:spPr>
            <a:xfrm flipH="1" flipV="1">
              <a:off x="1675800" y="4114080"/>
              <a:ext cx="5338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0" name=""/>
          <p:cNvGrpSpPr/>
          <p:nvPr/>
        </p:nvGrpSpPr>
        <p:grpSpPr>
          <a:xfrm>
            <a:off x="609480" y="4876200"/>
            <a:ext cx="2057400" cy="1676880"/>
            <a:chOff x="609480" y="4876200"/>
            <a:chExt cx="2057400" cy="1676880"/>
          </a:xfrm>
        </p:grpSpPr>
        <p:sp>
          <p:nvSpPr>
            <p:cNvPr id="841" name=""/>
            <p:cNvSpPr/>
            <p:nvPr/>
          </p:nvSpPr>
          <p:spPr>
            <a:xfrm>
              <a:off x="1905120" y="5943600"/>
              <a:ext cx="76176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DI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52480" y="51055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tr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9480" y="51055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5943600"/>
              <a:ext cx="76212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5" name=""/>
            <p:cNvCxnSpPr>
              <a:stCxn id="844" idx="0"/>
              <a:endCxn id="843" idx="4"/>
            </p:cNvCxnSpPr>
            <p:nvPr/>
          </p:nvCxnSpPr>
          <p:spPr>
            <a:xfrm flipV="1">
              <a:off x="1066320" y="571428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6" name=""/>
            <p:cNvCxnSpPr>
              <a:stCxn id="843" idx="0"/>
            </p:cNvCxnSpPr>
            <p:nvPr/>
          </p:nvCxnSpPr>
          <p:spPr>
            <a:xfrm flipH="1" flipV="1">
              <a:off x="990000" y="487620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41" idx="0"/>
              <a:endCxn id="842" idx="4"/>
            </p:cNvCxnSpPr>
            <p:nvPr/>
          </p:nvCxnSpPr>
          <p:spPr>
            <a:xfrm flipH="1" flipV="1">
              <a:off x="2209680" y="571428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8" name=""/>
            <p:cNvCxnSpPr>
              <a:stCxn id="842" idx="0"/>
            </p:cNvCxnSpPr>
            <p:nvPr/>
          </p:nvCxnSpPr>
          <p:spPr>
            <a:xfrm flipV="1">
              <a:off x="2209320" y="487620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49" name=""/>
          <p:cNvGrpSpPr/>
          <p:nvPr/>
        </p:nvGrpSpPr>
        <p:grpSpPr>
          <a:xfrm>
            <a:off x="2818800" y="5371560"/>
            <a:ext cx="6172920" cy="1334160"/>
            <a:chOff x="2818800" y="5371560"/>
            <a:chExt cx="6172920" cy="1334160"/>
          </a:xfrm>
        </p:grpSpPr>
        <p:sp>
          <p:nvSpPr>
            <p:cNvPr id="850" name=""/>
            <p:cNvSpPr/>
            <p:nvPr/>
          </p:nvSpPr>
          <p:spPr>
            <a:xfrm>
              <a:off x="6095880" y="5638680"/>
              <a:ext cx="289584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971800" y="6019920"/>
              <a:ext cx="91440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/exec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38480" y="586728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29200" y="6095880"/>
              <a:ext cx="9144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72200" y="586728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gre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o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86600" y="5867280"/>
              <a:ext cx="9144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tr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53280" y="5867280"/>
              <a:ext cx="76212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68880" y="559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8" name=""/>
            <p:cNvCxnSpPr>
              <a:stCxn id="856" idx="1"/>
              <a:endCxn id="855" idx="6"/>
            </p:cNvCxnSpPr>
            <p:nvPr/>
          </p:nvCxnSpPr>
          <p:spPr>
            <a:xfrm flipH="1">
              <a:off x="8000280" y="617184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5" idx="2"/>
              <a:endCxn id="854" idx="3"/>
            </p:cNvCxnSpPr>
            <p:nvPr/>
          </p:nvCxnSpPr>
          <p:spPr>
            <a:xfrm flipH="1">
              <a:off x="6933600" y="6171840"/>
              <a:ext cx="153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4" idx="1"/>
              <a:endCxn id="853" idx="6"/>
            </p:cNvCxnSpPr>
            <p:nvPr/>
          </p:nvCxnSpPr>
          <p:spPr>
            <a:xfrm flipH="1">
              <a:off x="5942880" y="617184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3" idx="2"/>
              <a:endCxn id="852" idx="3"/>
            </p:cNvCxnSpPr>
            <p:nvPr/>
          </p:nvCxnSpPr>
          <p:spPr>
            <a:xfrm flipH="1" flipV="1">
              <a:off x="4799880" y="617148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2" name=""/>
            <p:cNvCxnSpPr>
              <a:stCxn id="852" idx="1"/>
              <a:endCxn id="851" idx="6"/>
            </p:cNvCxnSpPr>
            <p:nvPr/>
          </p:nvCxnSpPr>
          <p:spPr>
            <a:xfrm flipH="1">
              <a:off x="3885480" y="6171840"/>
              <a:ext cx="1530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3" name=""/>
            <p:cNvCxnSpPr>
              <a:stCxn id="851" idx="2"/>
            </p:cNvCxnSpPr>
            <p:nvPr/>
          </p:nvCxnSpPr>
          <p:spPr>
            <a:xfrm flipH="1" flipV="1">
              <a:off x="2818800" y="5371560"/>
              <a:ext cx="153000" cy="95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64" name=""/>
          <p:cNvGrpSpPr/>
          <p:nvPr/>
        </p:nvGrpSpPr>
        <p:grpSpPr>
          <a:xfrm>
            <a:off x="7467480" y="3886200"/>
            <a:ext cx="1371600" cy="1752840"/>
            <a:chOff x="7467480" y="3886200"/>
            <a:chExt cx="1371600" cy="1752840"/>
          </a:xfrm>
        </p:grpSpPr>
        <p:sp>
          <p:nvSpPr>
            <p:cNvPr id="865" name=""/>
            <p:cNvSpPr/>
            <p:nvPr/>
          </p:nvSpPr>
          <p:spPr>
            <a:xfrm>
              <a:off x="7467480" y="3886200"/>
              <a:ext cx="1371600" cy="5335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-aggreg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sc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6" name=""/>
            <p:cNvCxnSpPr>
              <a:stCxn id="865" idx="4"/>
            </p:cNvCxnSpPr>
            <p:nvPr/>
          </p:nvCxnSpPr>
          <p:spPr>
            <a:xfrm flipH="1">
              <a:off x="7543080" y="4419720"/>
              <a:ext cx="610200" cy="12196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867" name=""/>
          <p:cNvGrpSpPr/>
          <p:nvPr/>
        </p:nvGrpSpPr>
        <p:grpSpPr>
          <a:xfrm>
            <a:off x="3505320" y="1752120"/>
            <a:ext cx="3962160" cy="3505680"/>
            <a:chOff x="3505320" y="1752120"/>
            <a:chExt cx="3962160" cy="3505680"/>
          </a:xfrm>
        </p:grpSpPr>
        <p:sp>
          <p:nvSpPr>
            <p:cNvPr id="868" name=""/>
            <p:cNvSpPr/>
            <p:nvPr/>
          </p:nvSpPr>
          <p:spPr>
            <a:xfrm>
              <a:off x="4800600" y="2971800"/>
              <a:ext cx="1600200" cy="1066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eed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9" name=""/>
            <p:cNvCxnSpPr>
              <a:endCxn id="868" idx="0"/>
            </p:cNvCxnSpPr>
            <p:nvPr/>
          </p:nvCxnSpPr>
          <p:spPr>
            <a:xfrm>
              <a:off x="4572000" y="1752120"/>
              <a:ext cx="1029600" cy="12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0" name=""/>
            <p:cNvCxnSpPr>
              <a:endCxn id="868" idx="2"/>
            </p:cNvCxnSpPr>
            <p:nvPr/>
          </p:nvCxnSpPr>
          <p:spPr>
            <a:xfrm>
              <a:off x="3505320" y="3504960"/>
              <a:ext cx="1296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</p:cNvCxnSpPr>
            <p:nvPr/>
          </p:nvCxnSpPr>
          <p:spPr>
            <a:xfrm flipH="1">
              <a:off x="4571640" y="4038120"/>
              <a:ext cx="1029600" cy="12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8" idx="6"/>
            </p:cNvCxnSpPr>
            <p:nvPr/>
          </p:nvCxnSpPr>
          <p:spPr>
            <a:xfrm flipV="1">
              <a:off x="6400800" y="3009600"/>
              <a:ext cx="99144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8" idx="6"/>
            </p:cNvCxnSpPr>
            <p:nvPr/>
          </p:nvCxnSpPr>
          <p:spPr>
            <a:xfrm>
              <a:off x="6400440" y="3504960"/>
              <a:ext cx="106740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74" name=""/>
          <p:cNvSpPr/>
          <p:nvPr/>
        </p:nvSpPr>
        <p:spPr>
          <a:xfrm>
            <a:off x="83808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Cascade genesis: the learning facilitation 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02:29:42Z</dcterms:created>
  <dc:creator>Gisèle LaRue</dc:creator>
  <dc:description/>
  <dc:language>en-US</dc:language>
  <cp:lastModifiedBy>IR</cp:lastModifiedBy>
  <cp:lastPrinted>1999-11-05T20:05:37Z</cp:lastPrinted>
  <dcterms:modified xsi:type="dcterms:W3CDTF">2004-11-17T07:30:07Z</dcterms:modified>
  <cp:revision>375</cp:revision>
  <dc:subject/>
  <dc:title>Gabari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